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hdphoto1.wdp" ContentType="image/vnd.ms-photo"/>
  <Override PartName="/ppt/media/image8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DEB-60B9-48A3-9DD2-D5907F1E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ADF-5F7E-44B1-A890-7EFA1249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AA5-85DB-434F-B811-5BD204BD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148-B324-4944-902F-B3138811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7DAA-DC00-47C3-8084-8323C279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169B-DB84-466D-9F70-2768E5F4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6E32-A1F1-4DBB-8DA1-A876C32B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4F1D-5DEE-4E49-8D45-8FEA7317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EB40-AF86-473C-91B8-2D556C71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3640" y="5337360"/>
            <a:ext cx="7772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218B-C3A9-4B39-B51F-9BA2F47E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20CF-AF87-42CD-9D3E-B8013BE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65E-3BA3-4CBF-BA18-476315D1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28AF-5B65-4EC6-8D7C-B6A2CBE1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3967-AE77-447F-B1F0-A124632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3518-2D59-4061-AC0B-6A16CE4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64B3-AEE5-4E02-BEB2-005C0E4B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C90C-DBD3-4C19-BF8E-647F71BD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A8EC2-026F-4D87-95A2-F9F97D5111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E0B5A-5CFB-456B-A60C-55849B48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AD6A1-C41A-4B0C-B8A2-C5F6C4FF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C7446-ECE2-498D-9008-9DDA9711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37DFD-3A73-4EC7-8117-DF62FA9E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684-38A3-466F-A67F-F56BB116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3640" y="5337360"/>
            <a:ext cx="7772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30F14-3725-452E-A3A6-EDC0BD24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08588-E8EE-41BA-874C-92CEC694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63F8F-6B03-4BEA-958C-5DFCF2F9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B2850-0F09-49E3-B4AA-B3BD5750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4B800-14EC-4CAE-B969-4FAB0443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86083-51A2-499E-9B2F-E797573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C0568-6572-4824-B2C9-9A1608DFD4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F4D-B9C2-4567-BF43-00CAE83A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F60-9CAC-4E52-904F-3FB62132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3640" y="5337360"/>
            <a:ext cx="7772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E49-5DF1-428F-BB51-5A9B0969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2B6-169D-41C7-A9D9-619272F1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10A-B51F-48B0-A059-EA4A08E2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815-1F5A-45B4-B085-4380595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microsoft.com/office/2007/relationships/hdphoto" Target="../media/hdphoto1.wdp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DA0BE8-BC41-4F4D-9E7D-CC0F6DAE3EB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组合 10"/>
          <p:cNvGrpSpPr/>
          <p:nvPr/>
        </p:nvGrpSpPr>
        <p:grpSpPr>
          <a:xfrm>
            <a:off x="0" y="2094840"/>
            <a:ext cx="7091640" cy="2397240"/>
            <a:chOff x="0" y="2094840"/>
            <a:chExt cx="7091640" cy="2397240"/>
          </a:xfrm>
        </p:grpSpPr>
        <p:sp>
          <p:nvSpPr>
            <p:cNvPr id="4" name="矩形 6"/>
            <p:cNvSpPr/>
            <p:nvPr/>
          </p:nvSpPr>
          <p:spPr>
            <a:xfrm>
              <a:off x="0" y="2094840"/>
              <a:ext cx="6712560" cy="2383920"/>
            </a:xfrm>
            <a:prstGeom prst="rect">
              <a:avLst/>
            </a:prstGeom>
            <a:pattFill prst="lgGrid">
              <a:fgClr>
                <a:srgbClr val="93cddd"/>
              </a:fgClr>
              <a:bgClr>
                <a:srgbClr val="00b0f0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" name="矩形 7"/>
            <p:cNvSpPr/>
            <p:nvPr/>
          </p:nvSpPr>
          <p:spPr>
            <a:xfrm>
              <a:off x="2540880" y="2094840"/>
              <a:ext cx="1516680" cy="2383920"/>
            </a:xfrm>
            <a:prstGeom prst="rect">
              <a:avLst/>
            </a:prstGeom>
            <a:solidFill>
              <a:schemeClr val="bg1">
                <a:alpha val="46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" name="矩形 8"/>
            <p:cNvSpPr/>
            <p:nvPr/>
          </p:nvSpPr>
          <p:spPr>
            <a:xfrm>
              <a:off x="4057920" y="2108160"/>
              <a:ext cx="1516680" cy="2383920"/>
            </a:xfrm>
            <a:prstGeom prst="rect">
              <a:avLst/>
            </a:prstGeom>
            <a:solidFill>
              <a:schemeClr val="bg1">
                <a:alpha val="2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" name="矩形 9"/>
            <p:cNvSpPr/>
            <p:nvPr/>
          </p:nvSpPr>
          <p:spPr>
            <a:xfrm>
              <a:off x="5574960" y="2094840"/>
              <a:ext cx="1516680" cy="2383920"/>
            </a:xfrm>
            <a:prstGeom prst="rect">
              <a:avLst/>
            </a:prstGeom>
            <a:solidFill>
              <a:schemeClr val="bg1">
                <a:alpha val="1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" name="组合 21"/>
          <p:cNvGrpSpPr/>
          <p:nvPr/>
        </p:nvGrpSpPr>
        <p:grpSpPr>
          <a:xfrm>
            <a:off x="6630480" y="1340640"/>
            <a:ext cx="2621520" cy="1959480"/>
            <a:chOff x="6630480" y="1340640"/>
            <a:chExt cx="2621520" cy="1959480"/>
          </a:xfrm>
        </p:grpSpPr>
        <p:sp>
          <p:nvSpPr>
            <p:cNvPr id="9" name="矩形 11"/>
            <p:cNvSpPr/>
            <p:nvPr/>
          </p:nvSpPr>
          <p:spPr>
            <a:xfrm>
              <a:off x="6990480" y="2003760"/>
              <a:ext cx="359640" cy="323640"/>
            </a:xfrm>
            <a:prstGeom prst="rect">
              <a:avLst/>
            </a:prstGeom>
            <a:solidFill>
              <a:srgbClr val="00b0f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" name="矩形 12"/>
            <p:cNvSpPr/>
            <p:nvPr/>
          </p:nvSpPr>
          <p:spPr>
            <a:xfrm>
              <a:off x="6846480" y="2867760"/>
              <a:ext cx="431640" cy="4323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" name="矩形 13"/>
            <p:cNvSpPr/>
            <p:nvPr/>
          </p:nvSpPr>
          <p:spPr>
            <a:xfrm>
              <a:off x="7566840" y="1571760"/>
              <a:ext cx="539640" cy="4316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" name="矩形 14"/>
            <p:cNvSpPr/>
            <p:nvPr/>
          </p:nvSpPr>
          <p:spPr>
            <a:xfrm>
              <a:off x="7854840" y="2602440"/>
              <a:ext cx="359640" cy="408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" name="矩形 15"/>
            <p:cNvSpPr/>
            <p:nvPr/>
          </p:nvSpPr>
          <p:spPr>
            <a:xfrm>
              <a:off x="7350840" y="2327760"/>
              <a:ext cx="436680" cy="467640"/>
            </a:xfrm>
            <a:prstGeom prst="rect">
              <a:avLst/>
            </a:prstGeom>
            <a:solidFill>
              <a:srgbClr val="00b0f0">
                <a:alpha val="4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" name="矩形 16"/>
            <p:cNvSpPr/>
            <p:nvPr/>
          </p:nvSpPr>
          <p:spPr>
            <a:xfrm>
              <a:off x="8532360" y="2420640"/>
              <a:ext cx="719640" cy="6476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" name="矩形 17"/>
            <p:cNvSpPr/>
            <p:nvPr/>
          </p:nvSpPr>
          <p:spPr>
            <a:xfrm>
              <a:off x="8199360" y="1811880"/>
              <a:ext cx="436680" cy="51552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" name="矩形 18"/>
            <p:cNvSpPr/>
            <p:nvPr/>
          </p:nvSpPr>
          <p:spPr>
            <a:xfrm>
              <a:off x="8479080" y="1340640"/>
              <a:ext cx="228240" cy="161640"/>
            </a:xfrm>
            <a:prstGeom prst="rect">
              <a:avLst/>
            </a:prstGeom>
            <a:solidFill>
              <a:srgbClr val="00b0f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" name="矩形 19"/>
            <p:cNvSpPr/>
            <p:nvPr/>
          </p:nvSpPr>
          <p:spPr>
            <a:xfrm>
              <a:off x="6630480" y="2386440"/>
              <a:ext cx="359640" cy="408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" name="矩形 20"/>
            <p:cNvSpPr/>
            <p:nvPr/>
          </p:nvSpPr>
          <p:spPr>
            <a:xfrm>
              <a:off x="8377560" y="1421640"/>
              <a:ext cx="719640" cy="6476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19" name="图片 22" descr=""/>
          <p:cNvPicPr/>
          <p:nvPr/>
        </p:nvPicPr>
        <p:blipFill>
          <a:blip r:embed="rId2"/>
          <a:stretch/>
        </p:blipFill>
        <p:spPr>
          <a:xfrm>
            <a:off x="6660360" y="188640"/>
            <a:ext cx="2049480" cy="1346400"/>
          </a:xfrm>
          <a:prstGeom prst="rect">
            <a:avLst/>
          </a:prstGeom>
          <a:ln w="0">
            <a:noFill/>
          </a:ln>
        </p:spPr>
      </p:pic>
      <p:pic>
        <p:nvPicPr>
          <p:cNvPr id="20" name="图片 25" descr=""/>
          <p:cNvPicPr/>
          <p:nvPr/>
        </p:nvPicPr>
        <p:blipFill>
          <a:blip r:embed="rId3"/>
          <a:srcRect l="4529" t="23164" r="22663" b="12411"/>
          <a:stretch/>
        </p:blipFill>
        <p:spPr>
          <a:xfrm>
            <a:off x="-408960" y="2094840"/>
            <a:ext cx="3612240" cy="2397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9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-20000" gridSize="6" trans="53000"/>
                    </a14:imgEffect>
                  </a14:imgLayer>
                </a14:imgProps>
              </a:ext>
            </a:extLst>
          </a:blip>
          <a:srcRect l="0" t="3539" r="0" b="4349"/>
          <a:stretch/>
        </p:blipFill>
        <p:spPr>
          <a:xfrm>
            <a:off x="-180360" y="-27360"/>
            <a:ext cx="9576720" cy="561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Calibri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8F21E4-C31A-4A61-ABF7-6A20B7F2659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图片 7" descr=""/>
          <p:cNvPicPr/>
          <p:nvPr/>
        </p:nvPicPr>
        <p:blipFill>
          <a:blip r:embed="rId4"/>
          <a:stretch/>
        </p:blipFill>
        <p:spPr>
          <a:xfrm>
            <a:off x="7524360" y="5589360"/>
            <a:ext cx="1365480" cy="897120"/>
          </a:xfrm>
          <a:prstGeom prst="rect">
            <a:avLst/>
          </a:prstGeom>
          <a:ln w="0">
            <a:noFill/>
          </a:ln>
        </p:spPr>
      </p:pic>
      <p:sp>
        <p:nvSpPr>
          <p:cNvPr id="66" name="矩形 10"/>
          <p:cNvSpPr/>
          <p:nvPr/>
        </p:nvSpPr>
        <p:spPr>
          <a:xfrm>
            <a:off x="0" y="0"/>
            <a:ext cx="9143640" cy="5263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18"/>
          <p:cNvGrpSpPr/>
          <p:nvPr/>
        </p:nvGrpSpPr>
        <p:grpSpPr>
          <a:xfrm>
            <a:off x="0" y="6326280"/>
            <a:ext cx="8172000" cy="558720"/>
            <a:chOff x="0" y="6326280"/>
            <a:chExt cx="8172000" cy="558720"/>
          </a:xfrm>
        </p:grpSpPr>
        <p:sp>
          <p:nvSpPr>
            <p:cNvPr id="104" name="矩形 19"/>
            <p:cNvSpPr/>
            <p:nvPr/>
          </p:nvSpPr>
          <p:spPr>
            <a:xfrm>
              <a:off x="0" y="6326280"/>
              <a:ext cx="7734960" cy="555840"/>
            </a:xfrm>
            <a:prstGeom prst="rect">
              <a:avLst/>
            </a:prstGeom>
            <a:pattFill prst="lgGrid">
              <a:fgClr>
                <a:srgbClr val="93cddd"/>
              </a:fgClr>
              <a:bgClr>
                <a:srgbClr val="00b0f0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矩形 20"/>
            <p:cNvSpPr/>
            <p:nvPr/>
          </p:nvSpPr>
          <p:spPr>
            <a:xfrm>
              <a:off x="2927520" y="6326280"/>
              <a:ext cx="1747800" cy="555840"/>
            </a:xfrm>
            <a:prstGeom prst="rect">
              <a:avLst/>
            </a:prstGeom>
            <a:solidFill>
              <a:schemeClr val="bg1">
                <a:alpha val="46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矩形 21"/>
            <p:cNvSpPr/>
            <p:nvPr/>
          </p:nvSpPr>
          <p:spPr>
            <a:xfrm>
              <a:off x="4676040" y="6329160"/>
              <a:ext cx="1747800" cy="555840"/>
            </a:xfrm>
            <a:prstGeom prst="rect">
              <a:avLst/>
            </a:prstGeom>
            <a:solidFill>
              <a:schemeClr val="bg1">
                <a:alpha val="2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矩形 22"/>
            <p:cNvSpPr/>
            <p:nvPr/>
          </p:nvSpPr>
          <p:spPr>
            <a:xfrm>
              <a:off x="6424200" y="6326280"/>
              <a:ext cx="1747800" cy="555840"/>
            </a:xfrm>
            <a:prstGeom prst="rect">
              <a:avLst/>
            </a:prstGeom>
            <a:solidFill>
              <a:schemeClr val="bg1">
                <a:alpha val="1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16160" y="1412640"/>
            <a:ext cx="822924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8"/>
          </p:nvPr>
        </p:nvSpPr>
        <p:spPr>
          <a:xfrm>
            <a:off x="6553080" y="6309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51EAE4-F1E0-4754-A7DA-0F6B205A342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组合 6"/>
          <p:cNvGrpSpPr/>
          <p:nvPr/>
        </p:nvGrpSpPr>
        <p:grpSpPr>
          <a:xfrm>
            <a:off x="179640" y="411480"/>
            <a:ext cx="1223640" cy="728640"/>
            <a:chOff x="179640" y="411480"/>
            <a:chExt cx="1223640" cy="728640"/>
          </a:xfrm>
        </p:grpSpPr>
        <p:sp>
          <p:nvSpPr>
            <p:cNvPr id="113" name="矩形 7"/>
            <p:cNvSpPr/>
            <p:nvPr/>
          </p:nvSpPr>
          <p:spPr>
            <a:xfrm>
              <a:off x="347760" y="658080"/>
              <a:ext cx="167760" cy="120240"/>
            </a:xfrm>
            <a:prstGeom prst="rect">
              <a:avLst/>
            </a:prstGeom>
            <a:solidFill>
              <a:srgbClr val="00b0f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矩形 8"/>
            <p:cNvSpPr/>
            <p:nvPr/>
          </p:nvSpPr>
          <p:spPr>
            <a:xfrm>
              <a:off x="280440" y="979560"/>
              <a:ext cx="201240" cy="1605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矩形 9"/>
            <p:cNvSpPr/>
            <p:nvPr/>
          </p:nvSpPr>
          <p:spPr>
            <a:xfrm>
              <a:off x="616680" y="497160"/>
              <a:ext cx="251640" cy="16020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" name="矩形 10"/>
            <p:cNvSpPr/>
            <p:nvPr/>
          </p:nvSpPr>
          <p:spPr>
            <a:xfrm>
              <a:off x="750960" y="880920"/>
              <a:ext cx="167760" cy="1519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矩形 11"/>
            <p:cNvSpPr/>
            <p:nvPr/>
          </p:nvSpPr>
          <p:spPr>
            <a:xfrm>
              <a:off x="515880" y="778680"/>
              <a:ext cx="203760" cy="173880"/>
            </a:xfrm>
            <a:prstGeom prst="rect">
              <a:avLst/>
            </a:prstGeom>
            <a:solidFill>
              <a:srgbClr val="00b0f0">
                <a:alpha val="4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8" name="矩形 12"/>
            <p:cNvSpPr/>
            <p:nvPr/>
          </p:nvSpPr>
          <p:spPr>
            <a:xfrm>
              <a:off x="1067400" y="813240"/>
              <a:ext cx="33588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9" name="矩形 13"/>
            <p:cNvSpPr/>
            <p:nvPr/>
          </p:nvSpPr>
          <p:spPr>
            <a:xfrm>
              <a:off x="911880" y="586800"/>
              <a:ext cx="203760" cy="19152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矩形 14"/>
            <p:cNvSpPr/>
            <p:nvPr/>
          </p:nvSpPr>
          <p:spPr>
            <a:xfrm>
              <a:off x="1042560" y="411480"/>
              <a:ext cx="106560" cy="59760"/>
            </a:xfrm>
            <a:prstGeom prst="rect">
              <a:avLst/>
            </a:prstGeom>
            <a:solidFill>
              <a:srgbClr val="00b0f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1" name="矩形 15"/>
            <p:cNvSpPr/>
            <p:nvPr/>
          </p:nvSpPr>
          <p:spPr>
            <a:xfrm>
              <a:off x="179640" y="800280"/>
              <a:ext cx="167760" cy="1519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矩形 16"/>
            <p:cNvSpPr/>
            <p:nvPr/>
          </p:nvSpPr>
          <p:spPr>
            <a:xfrm>
              <a:off x="995040" y="441360"/>
              <a:ext cx="33588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123" name="图片 17" descr=""/>
          <p:cNvPicPr/>
          <p:nvPr/>
        </p:nvPicPr>
        <p:blipFill>
          <a:blip r:embed="rId2"/>
          <a:srcRect l="3808" t="12894" r="2621" b="9318"/>
          <a:stretch/>
        </p:blipFill>
        <p:spPr>
          <a:xfrm>
            <a:off x="7298280" y="5901840"/>
            <a:ext cx="1644840" cy="85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/>
          <p:cNvSpPr/>
          <p:nvPr/>
        </p:nvSpPr>
        <p:spPr>
          <a:xfrm>
            <a:off x="2019600" y="443700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汽车蓝色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971640" y="476640"/>
            <a:ext cx="7200360" cy="4680000"/>
          </a:xfrm>
          <a:prstGeom prst="roundRect">
            <a:avLst>
              <a:gd name="adj" fmla="val 16667"/>
            </a:avLst>
          </a:prstGeom>
          <a:solidFill>
            <a:schemeClr val="bg1">
              <a:alpha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4" name="组合 1"/>
          <p:cNvGrpSpPr/>
          <p:nvPr/>
        </p:nvGrpSpPr>
        <p:grpSpPr>
          <a:xfrm>
            <a:off x="1187640" y="1866600"/>
            <a:ext cx="6768360" cy="2354040"/>
            <a:chOff x="1187640" y="1866600"/>
            <a:chExt cx="6768360" cy="2354040"/>
          </a:xfrm>
        </p:grpSpPr>
        <p:grpSp>
          <p:nvGrpSpPr>
            <p:cNvPr id="165" name="组合 11"/>
            <p:cNvGrpSpPr/>
            <p:nvPr/>
          </p:nvGrpSpPr>
          <p:grpSpPr>
            <a:xfrm>
              <a:off x="2339640" y="1866600"/>
              <a:ext cx="5616360" cy="2354040"/>
              <a:chOff x="2339640" y="1866600"/>
              <a:chExt cx="5616360" cy="2354040"/>
            </a:xfrm>
          </p:grpSpPr>
          <p:sp>
            <p:nvSpPr>
              <p:cNvPr id="166" name="矩形 6"/>
              <p:cNvSpPr/>
              <p:nvPr/>
            </p:nvSpPr>
            <p:spPr>
              <a:xfrm>
                <a:off x="2339640" y="1866600"/>
                <a:ext cx="5328360" cy="91404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录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7"/>
              <p:cNvSpPr/>
              <p:nvPr/>
            </p:nvSpPr>
            <p:spPr>
              <a:xfrm>
                <a:off x="2339640" y="2565000"/>
                <a:ext cx="5328360" cy="91404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录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8"/>
              <p:cNvSpPr/>
              <p:nvPr/>
            </p:nvSpPr>
            <p:spPr>
              <a:xfrm>
                <a:off x="2339640" y="3306600"/>
                <a:ext cx="5616360" cy="91404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录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" name="图片 12" descr=""/>
            <p:cNvPicPr/>
            <p:nvPr/>
          </p:nvPicPr>
          <p:blipFill>
            <a:blip r:embed="rId1"/>
            <a:srcRect l="10630" t="24853" r="10630" b="12134"/>
            <a:stretch/>
          </p:blipFill>
          <p:spPr>
            <a:xfrm>
              <a:off x="1187640" y="2060640"/>
              <a:ext cx="1007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13" descr=""/>
            <p:cNvPicPr/>
            <p:nvPr/>
          </p:nvPicPr>
          <p:blipFill>
            <a:blip r:embed="rId2"/>
            <a:srcRect l="10630" t="24853" r="10630" b="12134"/>
            <a:stretch/>
          </p:blipFill>
          <p:spPr>
            <a:xfrm>
              <a:off x="1187640" y="2730600"/>
              <a:ext cx="1007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14" descr=""/>
            <p:cNvPicPr/>
            <p:nvPr/>
          </p:nvPicPr>
          <p:blipFill>
            <a:blip r:embed="rId3"/>
            <a:srcRect l="10630" t="24853" r="10630" b="12134"/>
            <a:stretch/>
          </p:blipFill>
          <p:spPr>
            <a:xfrm>
              <a:off x="1205640" y="3450600"/>
              <a:ext cx="1007640" cy="50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2015</a:t>
            </a: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年工作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44"/>
          <p:cNvGrpSpPr/>
          <p:nvPr/>
        </p:nvGrpSpPr>
        <p:grpSpPr>
          <a:xfrm>
            <a:off x="1002600" y="2061000"/>
            <a:ext cx="6984360" cy="3725280"/>
            <a:chOff x="1002600" y="2061000"/>
            <a:chExt cx="6984360" cy="3725280"/>
          </a:xfrm>
        </p:grpSpPr>
        <p:sp>
          <p:nvSpPr>
            <p:cNvPr id="174" name="圆角矩形 6"/>
            <p:cNvSpPr/>
            <p:nvPr/>
          </p:nvSpPr>
          <p:spPr>
            <a:xfrm>
              <a:off x="1002600" y="2061000"/>
              <a:ext cx="6984360" cy="372528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ffffff">
                  <a:lumMod val="75000"/>
                </a:srgbClr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5" name="组合 8"/>
            <p:cNvGrpSpPr/>
            <p:nvPr/>
          </p:nvGrpSpPr>
          <p:grpSpPr>
            <a:xfrm>
              <a:off x="2270520" y="2317680"/>
              <a:ext cx="4571280" cy="3092760"/>
              <a:chOff x="2270520" y="2317680"/>
              <a:chExt cx="4571280" cy="3092760"/>
            </a:xfrm>
          </p:grpSpPr>
          <p:sp>
            <p:nvSpPr>
              <p:cNvPr id="176" name="平行四边形 22"/>
              <p:cNvSpPr/>
              <p:nvPr/>
            </p:nvSpPr>
            <p:spPr>
              <a:xfrm rot="10800000">
                <a:off x="6058080" y="5144760"/>
                <a:ext cx="765360" cy="23184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802344" h="266053">
                    <a:moveTo>
                      <a:pt x="23032" y="201901"/>
                    </a:moveTo>
                    <a:lnTo>
                      <a:pt x="8344" y="241257"/>
                    </a:lnTo>
                    <a:lnTo>
                      <a:pt x="20014" y="207956"/>
                    </a:lnTo>
                    <a:lnTo>
                      <a:pt x="20947" y="205687"/>
                    </a:lnTo>
                    <a:close/>
                    <a:moveTo>
                      <a:pt x="255761" y="247"/>
                    </a:moveTo>
                    <a:lnTo>
                      <a:pt x="244893" y="4178"/>
                    </a:lnTo>
                    <a:lnTo>
                      <a:pt x="250692" y="1047"/>
                    </a:lnTo>
                    <a:close/>
                    <a:moveTo>
                      <a:pt x="356309" y="166"/>
                    </a:moveTo>
                    <a:cubicBezTo>
                      <a:pt x="413757" y="1936"/>
                      <a:pt x="473586" y="17943"/>
                      <a:pt x="532720" y="50619"/>
                    </a:cubicBezTo>
                    <a:cubicBezTo>
                      <a:pt x="605428" y="90795"/>
                      <a:pt x="698934" y="168120"/>
                      <a:pt x="802344" y="266053"/>
                    </a:cubicBezTo>
                    <a:lnTo>
                      <a:pt x="0" y="266053"/>
                    </a:lnTo>
                    <a:cubicBezTo>
                      <a:pt x="54146" y="101227"/>
                      <a:pt x="195951" y="-4773"/>
                      <a:pt x="356309" y="166"/>
                    </a:cubicBezTo>
                    <a:close/>
                  </a:path>
                </a:pathLst>
              </a:custGeom>
              <a:solidFill>
                <a:srgbClr val="7d696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7" name="平行四边形 22"/>
              <p:cNvSpPr/>
              <p:nvPr/>
            </p:nvSpPr>
            <p:spPr>
              <a:xfrm rot="-600">
                <a:off x="2277720" y="5144760"/>
                <a:ext cx="765360" cy="23184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802344" h="266053">
                    <a:moveTo>
                      <a:pt x="23032" y="201901"/>
                    </a:moveTo>
                    <a:lnTo>
                      <a:pt x="8344" y="241257"/>
                    </a:lnTo>
                    <a:lnTo>
                      <a:pt x="20014" y="207956"/>
                    </a:lnTo>
                    <a:lnTo>
                      <a:pt x="20947" y="205687"/>
                    </a:lnTo>
                    <a:close/>
                    <a:moveTo>
                      <a:pt x="255761" y="247"/>
                    </a:moveTo>
                    <a:lnTo>
                      <a:pt x="244893" y="4178"/>
                    </a:lnTo>
                    <a:lnTo>
                      <a:pt x="250692" y="1047"/>
                    </a:lnTo>
                    <a:close/>
                    <a:moveTo>
                      <a:pt x="356309" y="166"/>
                    </a:moveTo>
                    <a:cubicBezTo>
                      <a:pt x="413757" y="1936"/>
                      <a:pt x="473586" y="17943"/>
                      <a:pt x="532720" y="50619"/>
                    </a:cubicBezTo>
                    <a:cubicBezTo>
                      <a:pt x="605428" y="90795"/>
                      <a:pt x="698934" y="168120"/>
                      <a:pt x="802344" y="266053"/>
                    </a:cubicBezTo>
                    <a:lnTo>
                      <a:pt x="0" y="266053"/>
                    </a:lnTo>
                    <a:cubicBezTo>
                      <a:pt x="54146" y="101227"/>
                      <a:pt x="195951" y="-4773"/>
                      <a:pt x="356309" y="166"/>
                    </a:cubicBezTo>
                    <a:close/>
                  </a:path>
                </a:pathLst>
              </a:custGeom>
              <a:solidFill>
                <a:srgbClr val="7d6964"/>
              </a:solidFill>
              <a:ln>
                <a:noFill/>
              </a:ln>
              <a:scene3d>
                <a:camera prst="orthographicFront">
                  <a:rot lat="0" lon="10799999" rev="10799999"/>
                </a:camera>
                <a:lightRig dir="t" rig="threePt"/>
              </a:scene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8" name="平行四边形 22"/>
              <p:cNvSpPr/>
              <p:nvPr/>
            </p:nvSpPr>
            <p:spPr>
              <a:xfrm>
                <a:off x="2288520" y="2344320"/>
                <a:ext cx="765360" cy="23184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802344" h="266053">
                    <a:moveTo>
                      <a:pt x="23032" y="201901"/>
                    </a:moveTo>
                    <a:lnTo>
                      <a:pt x="8344" y="241257"/>
                    </a:lnTo>
                    <a:lnTo>
                      <a:pt x="20014" y="207956"/>
                    </a:lnTo>
                    <a:lnTo>
                      <a:pt x="20947" y="205687"/>
                    </a:lnTo>
                    <a:close/>
                    <a:moveTo>
                      <a:pt x="255761" y="247"/>
                    </a:moveTo>
                    <a:lnTo>
                      <a:pt x="244893" y="4178"/>
                    </a:lnTo>
                    <a:lnTo>
                      <a:pt x="250692" y="1047"/>
                    </a:lnTo>
                    <a:close/>
                    <a:moveTo>
                      <a:pt x="356309" y="166"/>
                    </a:moveTo>
                    <a:cubicBezTo>
                      <a:pt x="413757" y="1936"/>
                      <a:pt x="473586" y="17943"/>
                      <a:pt x="532720" y="50619"/>
                    </a:cubicBezTo>
                    <a:cubicBezTo>
                      <a:pt x="605428" y="90795"/>
                      <a:pt x="698934" y="168120"/>
                      <a:pt x="802344" y="266053"/>
                    </a:cubicBezTo>
                    <a:lnTo>
                      <a:pt x="0" y="266053"/>
                    </a:lnTo>
                    <a:cubicBezTo>
                      <a:pt x="54146" y="101227"/>
                      <a:pt x="195951" y="-4773"/>
                      <a:pt x="356309" y="166"/>
                    </a:cubicBezTo>
                    <a:close/>
                  </a:path>
                </a:pathLst>
              </a:custGeom>
              <a:solidFill>
                <a:srgbClr val="7d696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9" name="平行四边形 22"/>
              <p:cNvSpPr/>
              <p:nvPr/>
            </p:nvSpPr>
            <p:spPr>
              <a:xfrm>
                <a:off x="6063840" y="2338560"/>
                <a:ext cx="765360" cy="23184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802344" h="266053">
                    <a:moveTo>
                      <a:pt x="23032" y="201901"/>
                    </a:moveTo>
                    <a:lnTo>
                      <a:pt x="8344" y="241257"/>
                    </a:lnTo>
                    <a:lnTo>
                      <a:pt x="20014" y="207956"/>
                    </a:lnTo>
                    <a:lnTo>
                      <a:pt x="20947" y="205687"/>
                    </a:lnTo>
                    <a:close/>
                    <a:moveTo>
                      <a:pt x="255761" y="247"/>
                    </a:moveTo>
                    <a:lnTo>
                      <a:pt x="244893" y="4178"/>
                    </a:lnTo>
                    <a:lnTo>
                      <a:pt x="250692" y="1047"/>
                    </a:lnTo>
                    <a:close/>
                    <a:moveTo>
                      <a:pt x="356309" y="166"/>
                    </a:moveTo>
                    <a:cubicBezTo>
                      <a:pt x="413757" y="1936"/>
                      <a:pt x="473586" y="17943"/>
                      <a:pt x="532720" y="50619"/>
                    </a:cubicBezTo>
                    <a:cubicBezTo>
                      <a:pt x="605428" y="90795"/>
                      <a:pt x="698934" y="168120"/>
                      <a:pt x="802344" y="266053"/>
                    </a:cubicBezTo>
                    <a:lnTo>
                      <a:pt x="0" y="266053"/>
                    </a:lnTo>
                    <a:cubicBezTo>
                      <a:pt x="54146" y="101227"/>
                      <a:pt x="195951" y="-4773"/>
                      <a:pt x="356309" y="166"/>
                    </a:cubicBezTo>
                    <a:close/>
                  </a:path>
                </a:pathLst>
              </a:custGeom>
              <a:solidFill>
                <a:srgbClr val="7d6964"/>
              </a:solidFill>
              <a:ln>
                <a:noFill/>
              </a:ln>
              <a:scene3d>
                <a:camera prst="orthographicFront">
                  <a:rot lat="0" lon="10799999" rev="10799999"/>
                </a:camera>
                <a:lightRig dir="t" rig="threePt"/>
              </a:scene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" name="任意多边形 17"/>
              <p:cNvSpPr/>
              <p:nvPr/>
            </p:nvSpPr>
            <p:spPr>
              <a:xfrm rot="10800000">
                <a:off x="4599720" y="4308840"/>
                <a:ext cx="2242080" cy="1089000"/>
              </a:xfrm>
              <a:custGeom>
                <a:avLst/>
                <a:gdLst>
                  <a:gd name="textAreaLeft" fmla="*/ 0 w 2242080"/>
                  <a:gd name="textAreaRight" fmla="*/ 2242440 w 2242080"/>
                  <a:gd name="textAreaTop" fmla="*/ 0 h 1089000"/>
                  <a:gd name="textAreaBottom" fmla="*/ 1089360 h 1089000"/>
                </a:gdLst>
                <a:ahLst/>
                <a:rect l="textAreaLeft" t="textAreaTop" r="textAreaRight" b="textAreaBottom"/>
                <a:pathLst>
                  <a:path w="2349504" h="1247802">
                    <a:moveTo>
                      <a:pt x="1562101" y="1069975"/>
                    </a:moveTo>
                    <a:lnTo>
                      <a:pt x="1457325" y="1165225"/>
                    </a:lnTo>
                    <a:cubicBezTo>
                      <a:pt x="1413934" y="1218936"/>
                      <a:pt x="1465792" y="1248833"/>
                      <a:pt x="1527175" y="1247775"/>
                    </a:cubicBezTo>
                    <a:lnTo>
                      <a:pt x="2251075" y="1241425"/>
                    </a:lnTo>
                    <a:cubicBezTo>
                      <a:pt x="2302933" y="1245393"/>
                      <a:pt x="2350030" y="1201738"/>
                      <a:pt x="2349500" y="1146175"/>
                    </a:cubicBezTo>
                    <a:cubicBezTo>
                      <a:pt x="2348442" y="900642"/>
                      <a:pt x="2347383" y="655108"/>
                      <a:pt x="2346325" y="409575"/>
                    </a:cubicBezTo>
                    <a:cubicBezTo>
                      <a:pt x="2345003" y="342369"/>
                      <a:pt x="2296054" y="334698"/>
                      <a:pt x="2263775" y="365125"/>
                    </a:cubicBezTo>
                    <a:lnTo>
                      <a:pt x="2159000" y="463550"/>
                    </a:lnTo>
                    <a:lnTo>
                      <a:pt x="1727200" y="44450"/>
                    </a:lnTo>
                    <a:cubicBezTo>
                      <a:pt x="1703917" y="16933"/>
                      <a:pt x="1681427" y="10054"/>
                      <a:pt x="1647825" y="0"/>
                    </a:cubicBezTo>
                    <a:lnTo>
                      <a:pt x="355600" y="15875"/>
                    </a:lnTo>
                    <a:cubicBezTo>
                      <a:pt x="97896" y="65617"/>
                      <a:pt x="38100" y="198437"/>
                      <a:pt x="0" y="342900"/>
                    </a:cubicBezTo>
                    <a:cubicBezTo>
                      <a:pt x="61913" y="95779"/>
                      <a:pt x="309564" y="-40216"/>
                      <a:pt x="546101" y="90488"/>
                    </a:cubicBezTo>
                    <a:cubicBezTo>
                      <a:pt x="782638" y="221192"/>
                      <a:pt x="1239309" y="745067"/>
                      <a:pt x="1562101" y="10699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9ac13"/>
                  </a:gs>
                  <a:gs pos="100000">
                    <a:srgbClr val="fab93c"/>
                  </a:gs>
                </a:gsLst>
                <a:lin ang="16200000"/>
              </a:gradFill>
              <a:ln>
                <a:noFill/>
              </a:ln>
              <a:effectLst>
                <a:outerShdw algn="l" blurRad="5076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" name="任意多边形 18"/>
              <p:cNvSpPr/>
              <p:nvPr/>
            </p:nvSpPr>
            <p:spPr>
              <a:xfrm>
                <a:off x="2270520" y="2317680"/>
                <a:ext cx="2242080" cy="1089000"/>
              </a:xfrm>
              <a:custGeom>
                <a:avLst/>
                <a:gdLst>
                  <a:gd name="textAreaLeft" fmla="*/ 0 w 2242080"/>
                  <a:gd name="textAreaRight" fmla="*/ 2242440 w 2242080"/>
                  <a:gd name="textAreaTop" fmla="*/ 0 h 1089000"/>
                  <a:gd name="textAreaBottom" fmla="*/ 1089360 h 1089000"/>
                </a:gdLst>
                <a:ahLst/>
                <a:rect l="textAreaLeft" t="textAreaTop" r="textAreaRight" b="textAreaBottom"/>
                <a:pathLst>
                  <a:path w="2349504" h="1247802">
                    <a:moveTo>
                      <a:pt x="1562101" y="1069975"/>
                    </a:moveTo>
                    <a:lnTo>
                      <a:pt x="1457325" y="1165225"/>
                    </a:lnTo>
                    <a:cubicBezTo>
                      <a:pt x="1413934" y="1218936"/>
                      <a:pt x="1465792" y="1248833"/>
                      <a:pt x="1527175" y="1247775"/>
                    </a:cubicBezTo>
                    <a:lnTo>
                      <a:pt x="2251075" y="1241425"/>
                    </a:lnTo>
                    <a:cubicBezTo>
                      <a:pt x="2302933" y="1245393"/>
                      <a:pt x="2350030" y="1201738"/>
                      <a:pt x="2349500" y="1146175"/>
                    </a:cubicBezTo>
                    <a:cubicBezTo>
                      <a:pt x="2348442" y="900642"/>
                      <a:pt x="2347383" y="655108"/>
                      <a:pt x="2346325" y="409575"/>
                    </a:cubicBezTo>
                    <a:cubicBezTo>
                      <a:pt x="2345003" y="342369"/>
                      <a:pt x="2296054" y="334698"/>
                      <a:pt x="2263775" y="365125"/>
                    </a:cubicBezTo>
                    <a:lnTo>
                      <a:pt x="2159000" y="463550"/>
                    </a:lnTo>
                    <a:lnTo>
                      <a:pt x="1727200" y="44450"/>
                    </a:lnTo>
                    <a:cubicBezTo>
                      <a:pt x="1703917" y="16933"/>
                      <a:pt x="1681427" y="10054"/>
                      <a:pt x="1647825" y="0"/>
                    </a:cubicBezTo>
                    <a:lnTo>
                      <a:pt x="355600" y="15875"/>
                    </a:lnTo>
                    <a:cubicBezTo>
                      <a:pt x="97896" y="65617"/>
                      <a:pt x="38100" y="198437"/>
                      <a:pt x="0" y="342900"/>
                    </a:cubicBezTo>
                    <a:cubicBezTo>
                      <a:pt x="61913" y="95779"/>
                      <a:pt x="309564" y="-40216"/>
                      <a:pt x="546101" y="90488"/>
                    </a:cubicBezTo>
                    <a:cubicBezTo>
                      <a:pt x="782638" y="221192"/>
                      <a:pt x="1239309" y="745067"/>
                      <a:pt x="1562101" y="1069975"/>
                    </a:cubicBezTo>
                    <a:close/>
                  </a:path>
                </a:pathLst>
              </a:custGeom>
              <a:solidFill>
                <a:srgbClr val="ff5050"/>
              </a:solidFill>
              <a:ln>
                <a:noFill/>
              </a:ln>
              <a:effectLst>
                <a:outerShdw algn="r" blurRad="50760" dir="108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82" name="组合 19"/>
              <p:cNvGrpSpPr/>
              <p:nvPr/>
            </p:nvGrpSpPr>
            <p:grpSpPr>
              <a:xfrm>
                <a:off x="2549880" y="3694320"/>
                <a:ext cx="414000" cy="378360"/>
                <a:chOff x="2549880" y="3694320"/>
                <a:chExt cx="414000" cy="378360"/>
              </a:xfrm>
            </p:grpSpPr>
            <p:sp>
              <p:nvSpPr>
                <p:cNvPr id="183" name="椭圆 33"/>
                <p:cNvSpPr/>
                <p:nvPr/>
              </p:nvSpPr>
              <p:spPr>
                <a:xfrm>
                  <a:off x="2549880" y="3694320"/>
                  <a:ext cx="414000" cy="378360"/>
                </a:xfrm>
                <a:prstGeom prst="ellipse">
                  <a:avLst/>
                </a:prstGeom>
                <a:noFill/>
                <a:ln>
                  <a:solidFill>
                    <a:srgbClr val="000000">
                      <a:lumMod val="50000"/>
                      <a:lumOff val="50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4" name="椭圆 34"/>
                <p:cNvSpPr/>
                <p:nvPr/>
              </p:nvSpPr>
              <p:spPr>
                <a:xfrm>
                  <a:off x="2739600" y="3716640"/>
                  <a:ext cx="34560" cy="3132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 w="158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5" name="椭圆 35"/>
                <p:cNvSpPr/>
                <p:nvPr/>
              </p:nvSpPr>
              <p:spPr>
                <a:xfrm>
                  <a:off x="2580480" y="3867840"/>
                  <a:ext cx="34560" cy="3132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 w="158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6" name="椭圆 36"/>
                <p:cNvSpPr/>
                <p:nvPr/>
              </p:nvSpPr>
              <p:spPr>
                <a:xfrm>
                  <a:off x="2896920" y="3867840"/>
                  <a:ext cx="34560" cy="3132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 w="158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7" name="椭圆 37"/>
                <p:cNvSpPr/>
                <p:nvPr/>
              </p:nvSpPr>
              <p:spPr>
                <a:xfrm>
                  <a:off x="2739600" y="4019760"/>
                  <a:ext cx="34560" cy="3132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 w="158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188" name="直接连接符 38"/>
                <p:cNvCxnSpPr/>
                <p:nvPr/>
              </p:nvCxnSpPr>
              <p:spPr>
                <a:xfrm>
                  <a:off x="2755440" y="3762000"/>
                  <a:ext cx="1800" cy="125280"/>
                </a:xfrm>
                <a:prstGeom prst="straightConnector1">
                  <a:avLst/>
                </a:prstGeom>
                <a:ln w="15875">
                  <a:solidFill>
                    <a:srgbClr val="eeece1">
                      <a:lumMod val="50000"/>
                    </a:srgbClr>
                  </a:solidFill>
                  <a:round/>
                </a:ln>
              </p:spPr>
            </p:cxnSp>
            <p:cxnSp>
              <p:nvCxnSpPr>
                <p:cNvPr id="189" name="直接连接符 39"/>
                <p:cNvCxnSpPr/>
                <p:nvPr/>
              </p:nvCxnSpPr>
              <p:spPr>
                <a:xfrm>
                  <a:off x="2646720" y="3885120"/>
                  <a:ext cx="109080" cy="360"/>
                </a:xfrm>
                <a:prstGeom prst="straightConnector1">
                  <a:avLst/>
                </a:prstGeom>
                <a:ln w="15875">
                  <a:solidFill>
                    <a:srgbClr val="eeece1">
                      <a:lumMod val="50000"/>
                    </a:srgbClr>
                  </a:solidFill>
                  <a:round/>
                </a:ln>
              </p:spPr>
            </p:cxnSp>
          </p:grpSp>
          <p:grpSp>
            <p:nvGrpSpPr>
              <p:cNvPr id="190" name="组合 20"/>
              <p:cNvGrpSpPr/>
              <p:nvPr/>
            </p:nvGrpSpPr>
            <p:grpSpPr>
              <a:xfrm>
                <a:off x="6160320" y="3660480"/>
                <a:ext cx="390960" cy="451080"/>
                <a:chOff x="6160320" y="3660480"/>
                <a:chExt cx="390960" cy="451080"/>
              </a:xfrm>
            </p:grpSpPr>
            <p:sp>
              <p:nvSpPr>
                <p:cNvPr id="191" name="圆角矩形 24"/>
                <p:cNvSpPr/>
                <p:nvPr/>
              </p:nvSpPr>
              <p:spPr>
                <a:xfrm>
                  <a:off x="6309000" y="4005720"/>
                  <a:ext cx="93600" cy="280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2" name="椭圆 25"/>
                <p:cNvSpPr/>
                <p:nvPr/>
              </p:nvSpPr>
              <p:spPr>
                <a:xfrm>
                  <a:off x="6324840" y="4075560"/>
                  <a:ext cx="62280" cy="3600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3" name="圆角矩形 26"/>
                <p:cNvSpPr/>
                <p:nvPr/>
              </p:nvSpPr>
              <p:spPr>
                <a:xfrm>
                  <a:off x="6316200" y="4040640"/>
                  <a:ext cx="79560" cy="280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194" name="直接连接符 27"/>
                <p:cNvCxnSpPr/>
                <p:nvPr/>
              </p:nvCxnSpPr>
              <p:spPr>
                <a:xfrm>
                  <a:off x="6160320" y="3724200"/>
                  <a:ext cx="71640" cy="5076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  <p:cxnSp>
              <p:nvCxnSpPr>
                <p:cNvPr id="195" name="直接连接符 28"/>
                <p:cNvCxnSpPr/>
                <p:nvPr/>
              </p:nvCxnSpPr>
              <p:spPr>
                <a:xfrm flipH="1">
                  <a:off x="6480360" y="3728520"/>
                  <a:ext cx="71280" cy="4644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  <p:cxnSp>
              <p:nvCxnSpPr>
                <p:cNvPr id="196" name="直接连接符 29"/>
                <p:cNvCxnSpPr/>
                <p:nvPr/>
              </p:nvCxnSpPr>
              <p:spPr>
                <a:xfrm>
                  <a:off x="6355800" y="3660480"/>
                  <a:ext cx="360" cy="6840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  <p:sp>
              <p:nvSpPr>
                <p:cNvPr id="197" name="圆角矩形 66"/>
                <p:cNvSpPr/>
                <p:nvPr/>
              </p:nvSpPr>
              <p:spPr>
                <a:xfrm>
                  <a:off x="6231600" y="3749400"/>
                  <a:ext cx="248400" cy="24156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241560"/>
                    <a:gd name="textAreaBottom" fmla="*/ 241920 h 241560"/>
                  </a:gdLst>
                  <a:ahLst/>
                  <a:rect l="textAreaLeft" t="textAreaTop" r="textAreaRight" b="textAreaBottom"/>
                  <a:pathLst>
                    <a:path w="286232" h="304231">
                      <a:moveTo>
                        <a:pt x="143116" y="0"/>
                      </a:moveTo>
                      <a:cubicBezTo>
                        <a:pt x="222157" y="0"/>
                        <a:pt x="286232" y="64075"/>
                        <a:pt x="286232" y="143116"/>
                      </a:cubicBezTo>
                      <a:cubicBezTo>
                        <a:pt x="286232" y="204128"/>
                        <a:pt x="248053" y="256223"/>
                        <a:pt x="193959" y="275967"/>
                      </a:cubicBezTo>
                      <a:lnTo>
                        <a:pt x="193959" y="298231"/>
                      </a:lnTo>
                      <a:cubicBezTo>
                        <a:pt x="193959" y="301545"/>
                        <a:pt x="191273" y="304231"/>
                        <a:pt x="187959" y="304231"/>
                      </a:cubicBezTo>
                      <a:lnTo>
                        <a:pt x="91959" y="304231"/>
                      </a:lnTo>
                      <a:cubicBezTo>
                        <a:pt x="88645" y="304231"/>
                        <a:pt x="85959" y="301545"/>
                        <a:pt x="85959" y="298231"/>
                      </a:cubicBezTo>
                      <a:lnTo>
                        <a:pt x="85959" y="274231"/>
                      </a:lnTo>
                      <a:lnTo>
                        <a:pt x="86092" y="274098"/>
                      </a:lnTo>
                      <a:cubicBezTo>
                        <a:pt x="35372" y="252309"/>
                        <a:pt x="0" y="201843"/>
                        <a:pt x="0" y="143116"/>
                      </a:cubicBezTo>
                      <a:cubicBezTo>
                        <a:pt x="0" y="64075"/>
                        <a:pt x="64075" y="0"/>
                        <a:pt x="143116" y="0"/>
                      </a:cubicBezTo>
                      <a:close/>
                    </a:path>
                  </a:pathLst>
                </a:custGeom>
                <a:noFill/>
                <a:ln w="22225">
                  <a:solidFill>
                    <a:srgbClr val="000000">
                      <a:lumMod val="50000"/>
                      <a:lumOff val="50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198" name="直接连接符 31"/>
                <p:cNvCxnSpPr/>
                <p:nvPr/>
              </p:nvCxnSpPr>
              <p:spPr>
                <a:xfrm>
                  <a:off x="6480360" y="3933000"/>
                  <a:ext cx="71280" cy="5076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  <p:cxnSp>
              <p:nvCxnSpPr>
                <p:cNvPr id="199" name="直接连接符 32"/>
                <p:cNvCxnSpPr/>
                <p:nvPr/>
              </p:nvCxnSpPr>
              <p:spPr>
                <a:xfrm flipH="1">
                  <a:off x="6160320" y="3934080"/>
                  <a:ext cx="71640" cy="4968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</p:grpSp>
          <p:sp>
            <p:nvSpPr>
              <p:cNvPr id="200" name="任意多边形 21"/>
              <p:cNvSpPr/>
              <p:nvPr/>
            </p:nvSpPr>
            <p:spPr>
              <a:xfrm flipV="1">
                <a:off x="2270520" y="4321080"/>
                <a:ext cx="2242080" cy="1089000"/>
              </a:xfrm>
              <a:custGeom>
                <a:avLst/>
                <a:gdLst>
                  <a:gd name="textAreaLeft" fmla="*/ 0 w 2242080"/>
                  <a:gd name="textAreaRight" fmla="*/ 2242440 w 2242080"/>
                  <a:gd name="textAreaTop" fmla="*/ -360 h 1089000"/>
                  <a:gd name="textAreaBottom" fmla="*/ 1089000 h 1089000"/>
                </a:gdLst>
                <a:ahLst/>
                <a:rect l="textAreaLeft" t="textAreaTop" r="textAreaRight" b="textAreaBottom"/>
                <a:pathLst>
                  <a:path w="2349504" h="1247802">
                    <a:moveTo>
                      <a:pt x="1562101" y="1069975"/>
                    </a:moveTo>
                    <a:lnTo>
                      <a:pt x="1457325" y="1165225"/>
                    </a:lnTo>
                    <a:cubicBezTo>
                      <a:pt x="1413934" y="1218936"/>
                      <a:pt x="1465792" y="1248833"/>
                      <a:pt x="1527175" y="1247775"/>
                    </a:cubicBezTo>
                    <a:lnTo>
                      <a:pt x="2251075" y="1241425"/>
                    </a:lnTo>
                    <a:cubicBezTo>
                      <a:pt x="2302933" y="1245393"/>
                      <a:pt x="2350030" y="1201738"/>
                      <a:pt x="2349500" y="1146175"/>
                    </a:cubicBezTo>
                    <a:cubicBezTo>
                      <a:pt x="2348442" y="900642"/>
                      <a:pt x="2347383" y="655108"/>
                      <a:pt x="2346325" y="409575"/>
                    </a:cubicBezTo>
                    <a:cubicBezTo>
                      <a:pt x="2345003" y="342369"/>
                      <a:pt x="2296054" y="334698"/>
                      <a:pt x="2263775" y="365125"/>
                    </a:cubicBezTo>
                    <a:lnTo>
                      <a:pt x="2159000" y="463550"/>
                    </a:lnTo>
                    <a:lnTo>
                      <a:pt x="1727200" y="44450"/>
                    </a:lnTo>
                    <a:cubicBezTo>
                      <a:pt x="1703917" y="16933"/>
                      <a:pt x="1681427" y="10054"/>
                      <a:pt x="1647825" y="0"/>
                    </a:cubicBezTo>
                    <a:lnTo>
                      <a:pt x="355600" y="15875"/>
                    </a:lnTo>
                    <a:cubicBezTo>
                      <a:pt x="97896" y="65617"/>
                      <a:pt x="38100" y="198437"/>
                      <a:pt x="0" y="342900"/>
                    </a:cubicBezTo>
                    <a:cubicBezTo>
                      <a:pt x="61913" y="95779"/>
                      <a:pt x="309564" y="-40216"/>
                      <a:pt x="546101" y="90488"/>
                    </a:cubicBezTo>
                    <a:cubicBezTo>
                      <a:pt x="782638" y="221192"/>
                      <a:pt x="1239309" y="745067"/>
                      <a:pt x="1562101" y="10699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cb9f8"/>
                  </a:gs>
                  <a:gs pos="100000">
                    <a:srgbClr val="81d5fb"/>
                  </a:gs>
                </a:gsLst>
                <a:lin ang="16200000"/>
              </a:gradFill>
              <a:ln>
                <a:noFill/>
              </a:ln>
              <a:effectLst>
                <a:outerShdw algn="r" blurRad="50760" dir="108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" name="任意多边形 22"/>
              <p:cNvSpPr/>
              <p:nvPr/>
            </p:nvSpPr>
            <p:spPr>
              <a:xfrm flipH="1">
                <a:off x="4599720" y="2317680"/>
                <a:ext cx="2242080" cy="1089000"/>
              </a:xfrm>
              <a:custGeom>
                <a:avLst/>
                <a:gdLst>
                  <a:gd name="textAreaLeft" fmla="*/ 360 w 2242080"/>
                  <a:gd name="textAreaRight" fmla="*/ 2242800 w 2242080"/>
                  <a:gd name="textAreaTop" fmla="*/ 0 h 1089000"/>
                  <a:gd name="textAreaBottom" fmla="*/ 1089360 h 1089000"/>
                </a:gdLst>
                <a:ahLst/>
                <a:rect l="textAreaLeft" t="textAreaTop" r="textAreaRight" b="textAreaBottom"/>
                <a:pathLst>
                  <a:path w="2349504" h="1247802">
                    <a:moveTo>
                      <a:pt x="1562101" y="1069975"/>
                    </a:moveTo>
                    <a:lnTo>
                      <a:pt x="1457325" y="1165225"/>
                    </a:lnTo>
                    <a:cubicBezTo>
                      <a:pt x="1413934" y="1218936"/>
                      <a:pt x="1465792" y="1248833"/>
                      <a:pt x="1527175" y="1247775"/>
                    </a:cubicBezTo>
                    <a:lnTo>
                      <a:pt x="2251075" y="1241425"/>
                    </a:lnTo>
                    <a:cubicBezTo>
                      <a:pt x="2302933" y="1245393"/>
                      <a:pt x="2350030" y="1201738"/>
                      <a:pt x="2349500" y="1146175"/>
                    </a:cubicBezTo>
                    <a:cubicBezTo>
                      <a:pt x="2348442" y="900642"/>
                      <a:pt x="2347383" y="655108"/>
                      <a:pt x="2346325" y="409575"/>
                    </a:cubicBezTo>
                    <a:cubicBezTo>
                      <a:pt x="2345003" y="342369"/>
                      <a:pt x="2296054" y="334698"/>
                      <a:pt x="2263775" y="365125"/>
                    </a:cubicBezTo>
                    <a:lnTo>
                      <a:pt x="2159000" y="463550"/>
                    </a:lnTo>
                    <a:lnTo>
                      <a:pt x="1727200" y="44450"/>
                    </a:lnTo>
                    <a:cubicBezTo>
                      <a:pt x="1703917" y="16933"/>
                      <a:pt x="1681427" y="10054"/>
                      <a:pt x="1647825" y="0"/>
                    </a:cubicBezTo>
                    <a:lnTo>
                      <a:pt x="355600" y="15875"/>
                    </a:lnTo>
                    <a:cubicBezTo>
                      <a:pt x="97896" y="65617"/>
                      <a:pt x="38100" y="198437"/>
                      <a:pt x="0" y="342900"/>
                    </a:cubicBezTo>
                    <a:cubicBezTo>
                      <a:pt x="61913" y="95779"/>
                      <a:pt x="309564" y="-40216"/>
                      <a:pt x="546101" y="90488"/>
                    </a:cubicBezTo>
                    <a:cubicBezTo>
                      <a:pt x="782638" y="221192"/>
                      <a:pt x="1239309" y="745067"/>
                      <a:pt x="1562101" y="1069975"/>
                    </a:cubicBezTo>
                    <a:close/>
                  </a:path>
                </a:pathLst>
              </a:custGeom>
              <a:solidFill>
                <a:srgbClr val="92d050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" name="TextBox 23"/>
              <p:cNvSpPr/>
              <p:nvPr/>
            </p:nvSpPr>
            <p:spPr>
              <a:xfrm>
                <a:off x="4237560" y="3345480"/>
                <a:ext cx="668880" cy="10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销售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计划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WordArt 538"/>
            <p:cNvSpPr txBox="1"/>
            <p:nvPr/>
          </p:nvSpPr>
          <p:spPr>
            <a:xfrm>
              <a:off x="3706200" y="2642400"/>
              <a:ext cx="702000" cy="57420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00" strike="noStrike">
                <a:ln w="0">
                  <a:noFill/>
                </a:ln>
                <a:solidFill>
                  <a:srgbClr val="729fc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产品提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4"/>
          <p:cNvGrpSpPr/>
          <p:nvPr/>
        </p:nvGrpSpPr>
        <p:grpSpPr>
          <a:xfrm>
            <a:off x="323640" y="1917000"/>
            <a:ext cx="8136360" cy="3527640"/>
            <a:chOff x="323640" y="1917000"/>
            <a:chExt cx="8136360" cy="3527640"/>
          </a:xfrm>
        </p:grpSpPr>
        <p:sp>
          <p:nvSpPr>
            <p:cNvPr id="206" name="圆角矩形 5"/>
            <p:cNvSpPr/>
            <p:nvPr/>
          </p:nvSpPr>
          <p:spPr>
            <a:xfrm>
              <a:off x="1907640" y="2061000"/>
              <a:ext cx="6552360" cy="8636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ffffff">
                  <a:lumMod val="75000"/>
                </a:srgbClr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6"/>
            <p:cNvSpPr/>
            <p:nvPr/>
          </p:nvSpPr>
          <p:spPr>
            <a:xfrm>
              <a:off x="323640" y="1917000"/>
              <a:ext cx="1079640" cy="1007640"/>
            </a:xfrm>
            <a:prstGeom prst="ellipse">
              <a:avLst/>
            </a:prstGeom>
            <a:solidFill>
              <a:srgbClr val="ff5050"/>
            </a:solidFill>
            <a:ln>
              <a:noFill/>
            </a:ln>
            <a:effectLst>
              <a:glow rad="101520">
                <a:srgbClr val="eb2722">
                  <a:alpha val="40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7"/>
            <p:cNvSpPr/>
            <p:nvPr/>
          </p:nvSpPr>
          <p:spPr>
            <a:xfrm>
              <a:off x="467640" y="4005000"/>
              <a:ext cx="1439640" cy="1439640"/>
            </a:xfrm>
            <a:prstGeom prst="ellipse">
              <a:avLst/>
            </a:prstGeom>
            <a:solidFill>
              <a:srgbClr val="92d050"/>
            </a:solidFill>
            <a:ln>
              <a:noFill/>
            </a:ln>
            <a:effectLst>
              <a:glow rad="101520">
                <a:srgbClr val="a8e034">
                  <a:alpha val="40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圆角矩形 8"/>
            <p:cNvSpPr/>
            <p:nvPr/>
          </p:nvSpPr>
          <p:spPr>
            <a:xfrm>
              <a:off x="2699640" y="3069000"/>
              <a:ext cx="5760360" cy="8636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ffffff">
                  <a:lumMod val="75000"/>
                </a:srgbClr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9"/>
            <p:cNvSpPr/>
            <p:nvPr/>
          </p:nvSpPr>
          <p:spPr>
            <a:xfrm>
              <a:off x="1331640" y="2853000"/>
              <a:ext cx="1367640" cy="129564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  <a:effectLst>
              <a:glow rad="101520">
                <a:srgbClr val="ff953e">
                  <a:alpha val="40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圆角矩形 10"/>
            <p:cNvSpPr/>
            <p:nvPr/>
          </p:nvSpPr>
          <p:spPr>
            <a:xfrm>
              <a:off x="1979640" y="4149000"/>
              <a:ext cx="6480360" cy="8636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ffffff">
                  <a:lumMod val="75000"/>
                </a:srgbClr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8"/>
          <p:cNvSpPr/>
          <p:nvPr/>
        </p:nvSpPr>
        <p:spPr>
          <a:xfrm>
            <a:off x="289440" y="64299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新产品销售建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416520" y="1790640"/>
            <a:ext cx="647640" cy="575640"/>
          </a:xfrm>
          <a:prstGeom prst="rect">
            <a:avLst/>
          </a:prstGeom>
          <a:solidFill>
            <a:srgbClr val="00b0f0"/>
          </a:solidFill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15" name="直接箭头连接符 7"/>
          <p:cNvCxnSpPr/>
          <p:nvPr/>
        </p:nvCxnSpPr>
        <p:spPr>
          <a:xfrm>
            <a:off x="416160" y="1790280"/>
            <a:ext cx="648720" cy="576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216" name="直接连接符 8"/>
          <p:cNvCxnSpPr/>
          <p:nvPr/>
        </p:nvCxnSpPr>
        <p:spPr>
          <a:xfrm>
            <a:off x="272160" y="2582280"/>
            <a:ext cx="259272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217" name="TextBox 9"/>
          <p:cNvSpPr/>
          <p:nvPr/>
        </p:nvSpPr>
        <p:spPr>
          <a:xfrm>
            <a:off x="1575720" y="184788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产品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967320" y="265464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08080"/>
                </a:solidFill>
                <a:latin typeface="微软雅黑"/>
                <a:ea typeface="微软雅黑"/>
              </a:rPr>
              <a:t>销售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11"/>
          <p:cNvSpPr/>
          <p:nvPr/>
        </p:nvSpPr>
        <p:spPr>
          <a:xfrm>
            <a:off x="2519640" y="2927520"/>
            <a:ext cx="287640" cy="287640"/>
          </a:xfrm>
          <a:prstGeom prst="ellipse">
            <a:avLst/>
          </a:prstGeom>
          <a:solidFill>
            <a:schemeClr val="bg1"/>
          </a:solidFill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13"/>
          <p:cNvSpPr/>
          <p:nvPr/>
        </p:nvSpPr>
        <p:spPr>
          <a:xfrm>
            <a:off x="4577400" y="2078640"/>
            <a:ext cx="4242600" cy="37933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eeece1">
                <a:lumMod val="50000"/>
              </a:srgbClr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1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21" name="图片 14" descr=""/>
          <p:cNvPicPr/>
          <p:nvPr/>
        </p:nvPicPr>
        <p:blipFill>
          <a:blip r:embed="rId1"/>
          <a:stretch/>
        </p:blipFill>
        <p:spPr>
          <a:xfrm>
            <a:off x="0" y="3501000"/>
            <a:ext cx="4262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销售计划重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圆角矩形 3"/>
          <p:cNvSpPr/>
          <p:nvPr/>
        </p:nvSpPr>
        <p:spPr>
          <a:xfrm>
            <a:off x="1420920" y="1248120"/>
            <a:ext cx="6319080" cy="11005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728a41"/>
            </a:solidFill>
            <a:prstDash val="dash"/>
            <a:round/>
          </a:ln>
        </p:spPr>
        <p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5"/>
          <p:cNvGrpSpPr/>
          <p:nvPr/>
        </p:nvGrpSpPr>
        <p:grpSpPr>
          <a:xfrm>
            <a:off x="600840" y="4311000"/>
            <a:ext cx="2807280" cy="1133640"/>
            <a:chOff x="600840" y="4311000"/>
            <a:chExt cx="2807280" cy="1133640"/>
          </a:xfrm>
        </p:grpSpPr>
        <p:sp>
          <p:nvSpPr>
            <p:cNvPr id="225" name="流程图: 联系 23"/>
            <p:cNvSpPr/>
            <p:nvPr/>
          </p:nvSpPr>
          <p:spPr>
            <a:xfrm>
              <a:off x="3084480" y="4311000"/>
              <a:ext cx="323640" cy="3236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24036" h="324036">
                  <a:moveTo>
                    <a:pt x="108012" y="54006"/>
                  </a:moveTo>
                  <a:lnTo>
                    <a:pt x="108012" y="270030"/>
                  </a:lnTo>
                  <a:lnTo>
                    <a:pt x="270030" y="162018"/>
                  </a:lnTo>
                  <a:close/>
                  <a:moveTo>
                    <a:pt x="162018" y="0"/>
                  </a:moveTo>
                  <a:cubicBezTo>
                    <a:pt x="251498" y="0"/>
                    <a:pt x="324036" y="72538"/>
                    <a:pt x="324036" y="162018"/>
                  </a:cubicBezTo>
                  <a:cubicBezTo>
                    <a:pt x="324036" y="251498"/>
                    <a:pt x="251498" y="324036"/>
                    <a:pt x="162018" y="324036"/>
                  </a:cubicBezTo>
                  <a:cubicBezTo>
                    <a:pt x="72538" y="324036"/>
                    <a:pt x="0" y="251498"/>
                    <a:pt x="0" y="162018"/>
                  </a:cubicBezTo>
                  <a:cubicBezTo>
                    <a:pt x="0" y="72538"/>
                    <a:pt x="72538" y="0"/>
                    <a:pt x="162018" y="0"/>
                  </a:cubicBezTo>
                  <a:close/>
                </a:path>
              </a:pathLst>
            </a:custGeom>
            <a:solidFill>
              <a:srgbClr val="fd60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6" name="等腰三角形 16"/>
            <p:cNvSpPr/>
            <p:nvPr/>
          </p:nvSpPr>
          <p:spPr>
            <a:xfrm rot="5400000">
              <a:off x="1158840" y="3752640"/>
              <a:ext cx="1133640" cy="225000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2250000"/>
                <a:gd name="textAreaBottom" fmla="*/ 2250360 h 2250000"/>
              </a:gdLst>
              <a:ahLst/>
              <a:rect l="textAreaLeft" t="textAreaTop" r="textAreaRight" b="textAreaBottom"/>
              <a:pathLst>
                <a:path w="1134126" h="2250392">
                  <a:moveTo>
                    <a:pt x="270030" y="108012"/>
                  </a:moveTo>
                  <a:lnTo>
                    <a:pt x="351039" y="0"/>
                  </a:lnTo>
                  <a:lnTo>
                    <a:pt x="432048" y="108012"/>
                  </a:lnTo>
                  <a:close/>
                  <a:moveTo>
                    <a:pt x="0" y="2250392"/>
                  </a:moveTo>
                  <a:lnTo>
                    <a:pt x="0" y="117536"/>
                  </a:lnTo>
                  <a:lnTo>
                    <a:pt x="1134126" y="117536"/>
                  </a:lnTo>
                  <a:lnTo>
                    <a:pt x="1134126" y="2250392"/>
                  </a:lnTo>
                  <a:close/>
                </a:path>
              </a:pathLst>
            </a:custGeom>
            <a:solidFill>
              <a:srgbClr val="fd604d"/>
            </a:solidFill>
            <a:ln>
              <a:solidFill>
                <a:srgbClr val="fd604d"/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7" name="TextBox 8"/>
            <p:cNvSpPr/>
            <p:nvPr/>
          </p:nvSpPr>
          <p:spPr>
            <a:xfrm>
              <a:off x="1983240" y="4311000"/>
              <a:ext cx="73584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9"/>
          <p:cNvGrpSpPr/>
          <p:nvPr/>
        </p:nvGrpSpPr>
        <p:grpSpPr>
          <a:xfrm>
            <a:off x="600840" y="3147840"/>
            <a:ext cx="2197440" cy="1146960"/>
            <a:chOff x="600840" y="3147840"/>
            <a:chExt cx="2197440" cy="1146960"/>
          </a:xfrm>
        </p:grpSpPr>
        <p:sp>
          <p:nvSpPr>
            <p:cNvPr id="229" name="TextBox 10"/>
            <p:cNvSpPr/>
            <p:nvPr/>
          </p:nvSpPr>
          <p:spPr>
            <a:xfrm>
              <a:off x="1949760" y="3562560"/>
              <a:ext cx="778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16"/>
            <p:cNvSpPr/>
            <p:nvPr/>
          </p:nvSpPr>
          <p:spPr>
            <a:xfrm rot="5400000">
              <a:off x="825480" y="2936160"/>
              <a:ext cx="1133640" cy="158364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1583640"/>
                <a:gd name="textAreaBottom" fmla="*/ 1584000 h 1583640"/>
              </a:gdLst>
              <a:ahLst/>
              <a:rect l="textAreaLeft" t="textAreaTop" r="textAreaRight" b="textAreaBottom"/>
              <a:pathLst>
                <a:path w="1134126" h="2250392">
                  <a:moveTo>
                    <a:pt x="270030" y="108012"/>
                  </a:moveTo>
                  <a:lnTo>
                    <a:pt x="351039" y="0"/>
                  </a:lnTo>
                  <a:lnTo>
                    <a:pt x="432048" y="108012"/>
                  </a:lnTo>
                  <a:close/>
                  <a:moveTo>
                    <a:pt x="0" y="2250392"/>
                  </a:moveTo>
                  <a:lnTo>
                    <a:pt x="0" y="117536"/>
                  </a:lnTo>
                  <a:lnTo>
                    <a:pt x="1134126" y="117536"/>
                  </a:lnTo>
                  <a:lnTo>
                    <a:pt x="1134126" y="2250392"/>
                  </a:lnTo>
                  <a:close/>
                </a:path>
              </a:pathLst>
            </a:custGeom>
            <a:solidFill>
              <a:srgbClr val="ffc000"/>
            </a:solidFill>
            <a:ln>
              <a:solidFill>
                <a:srgbClr val="ffc000"/>
              </a:solidFill>
              <a:round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31" name="TextBox 12"/>
            <p:cNvSpPr/>
            <p:nvPr/>
          </p:nvSpPr>
          <p:spPr>
            <a:xfrm>
              <a:off x="1434600" y="3161160"/>
              <a:ext cx="73584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"/>
            <p:cNvSpPr/>
            <p:nvPr/>
          </p:nvSpPr>
          <p:spPr>
            <a:xfrm>
              <a:off x="2474640" y="3147840"/>
              <a:ext cx="323640" cy="3236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24000" h="324000">
                  <a:moveTo>
                    <a:pt x="162000" y="87902"/>
                  </a:moveTo>
                  <a:cubicBezTo>
                    <a:pt x="121077" y="87902"/>
                    <a:pt x="87902" y="121077"/>
                    <a:pt x="87902" y="162000"/>
                  </a:cubicBezTo>
                  <a:cubicBezTo>
                    <a:pt x="87902" y="202923"/>
                    <a:pt x="121077" y="236098"/>
                    <a:pt x="162000" y="236098"/>
                  </a:cubicBezTo>
                  <a:cubicBezTo>
                    <a:pt x="202923" y="236098"/>
                    <a:pt x="236098" y="202923"/>
                    <a:pt x="236098" y="162000"/>
                  </a:cubicBezTo>
                  <a:cubicBezTo>
                    <a:pt x="236098" y="121077"/>
                    <a:pt x="202923" y="87902"/>
                    <a:pt x="162000" y="87902"/>
                  </a:cubicBezTo>
                  <a:close/>
                  <a:moveTo>
                    <a:pt x="162000" y="0"/>
                  </a:move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ubicBezTo>
                    <a:pt x="0" y="72530"/>
                    <a:pt x="72530" y="0"/>
                    <a:pt x="162000" y="0"/>
                  </a:cubicBezTo>
                  <a:close/>
                </a:path>
              </a:pathLst>
            </a:custGeom>
            <a:solidFill>
              <a:srgbClr val="91afb4"/>
            </a:solidFill>
            <a:ln>
              <a:solidFill>
                <a:srgbClr val="91afb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33" name="矩形 14"/>
          <p:cNvSpPr/>
          <p:nvPr/>
        </p:nvSpPr>
        <p:spPr>
          <a:xfrm>
            <a:off x="3022920" y="3177360"/>
            <a:ext cx="572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3517200" y="424476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251640" y="3377160"/>
            <a:ext cx="676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18" descr=""/>
          <p:cNvPicPr/>
          <p:nvPr/>
        </p:nvPicPr>
        <p:blipFill>
          <a:blip r:embed="rId1"/>
          <a:srcRect l="10630" t="24853" r="10630" b="12134"/>
          <a:stretch/>
        </p:blipFill>
        <p:spPr>
          <a:xfrm>
            <a:off x="885240" y="1434960"/>
            <a:ext cx="1453320" cy="7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所需支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7" descr="YYYY"/>
          <p:cNvPicPr/>
          <p:nvPr/>
        </p:nvPicPr>
        <p:blipFill>
          <a:blip r:embed="rId1"/>
          <a:stretch/>
        </p:blipFill>
        <p:spPr>
          <a:xfrm>
            <a:off x="251640" y="2233080"/>
            <a:ext cx="8352720" cy="25704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538"/>
          <p:cNvSpPr txBox="1"/>
          <p:nvPr/>
        </p:nvSpPr>
        <p:spPr>
          <a:xfrm>
            <a:off x="3672000" y="1801080"/>
            <a:ext cx="1836000" cy="50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00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小标题</a:t>
            </a:r>
            <a:endParaRPr b="0" lang="en-US" sz="2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9"/>
          <p:cNvGrpSpPr/>
          <p:nvPr/>
        </p:nvGrpSpPr>
        <p:grpSpPr>
          <a:xfrm>
            <a:off x="0" y="1726560"/>
            <a:ext cx="1979640" cy="1359720"/>
            <a:chOff x="0" y="1726560"/>
            <a:chExt cx="1979640" cy="1359720"/>
          </a:xfrm>
        </p:grpSpPr>
        <p:sp>
          <p:nvSpPr>
            <p:cNvPr id="241" name="圆角矩形 16"/>
            <p:cNvSpPr/>
            <p:nvPr/>
          </p:nvSpPr>
          <p:spPr>
            <a:xfrm>
              <a:off x="251640" y="2053080"/>
              <a:ext cx="1728000" cy="1033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图片 19" descr=""/>
            <p:cNvPicPr/>
            <p:nvPr/>
          </p:nvPicPr>
          <p:blipFill>
            <a:blip r:embed="rId2"/>
            <a:srcRect l="10630" t="24853" r="10630" b="12134"/>
            <a:stretch/>
          </p:blipFill>
          <p:spPr>
            <a:xfrm>
              <a:off x="0" y="1726560"/>
              <a:ext cx="11566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组合 22"/>
          <p:cNvGrpSpPr/>
          <p:nvPr/>
        </p:nvGrpSpPr>
        <p:grpSpPr>
          <a:xfrm>
            <a:off x="1691640" y="3069000"/>
            <a:ext cx="2296440" cy="2088000"/>
            <a:chOff x="1691640" y="3069000"/>
            <a:chExt cx="2296440" cy="2088000"/>
          </a:xfrm>
        </p:grpSpPr>
        <p:sp>
          <p:nvSpPr>
            <p:cNvPr id="244" name="圆角矩形 17"/>
            <p:cNvSpPr/>
            <p:nvPr/>
          </p:nvSpPr>
          <p:spPr>
            <a:xfrm>
              <a:off x="2260080" y="3069000"/>
              <a:ext cx="1728000" cy="2088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图片 20" descr=""/>
            <p:cNvPicPr/>
            <p:nvPr/>
          </p:nvPicPr>
          <p:blipFill>
            <a:blip r:embed="rId3"/>
            <a:srcRect l="10630" t="24853" r="10630" b="12134"/>
            <a:stretch/>
          </p:blipFill>
          <p:spPr>
            <a:xfrm>
              <a:off x="1691640" y="3297600"/>
              <a:ext cx="11566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组合 23"/>
          <p:cNvGrpSpPr/>
          <p:nvPr/>
        </p:nvGrpSpPr>
        <p:grpSpPr>
          <a:xfrm>
            <a:off x="4359600" y="3037680"/>
            <a:ext cx="2296800" cy="2088000"/>
            <a:chOff x="4359600" y="3037680"/>
            <a:chExt cx="2296800" cy="2088000"/>
          </a:xfrm>
        </p:grpSpPr>
        <p:sp>
          <p:nvSpPr>
            <p:cNvPr id="247" name="圆角矩形 24"/>
            <p:cNvSpPr/>
            <p:nvPr/>
          </p:nvSpPr>
          <p:spPr>
            <a:xfrm>
              <a:off x="4928400" y="3037680"/>
              <a:ext cx="1728000" cy="2088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图片 25" descr=""/>
            <p:cNvPicPr/>
            <p:nvPr/>
          </p:nvPicPr>
          <p:blipFill>
            <a:blip r:embed="rId4"/>
            <a:srcRect l="10630" t="24853" r="10630" b="12134"/>
            <a:stretch/>
          </p:blipFill>
          <p:spPr>
            <a:xfrm>
              <a:off x="4359600" y="3266280"/>
              <a:ext cx="11566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组合 30"/>
          <p:cNvGrpSpPr/>
          <p:nvPr/>
        </p:nvGrpSpPr>
        <p:grpSpPr>
          <a:xfrm>
            <a:off x="6804360" y="1845000"/>
            <a:ext cx="1979280" cy="1359720"/>
            <a:chOff x="6804360" y="1845000"/>
            <a:chExt cx="1979280" cy="1359720"/>
          </a:xfrm>
        </p:grpSpPr>
        <p:sp>
          <p:nvSpPr>
            <p:cNvPr id="250" name="圆角矩形 31"/>
            <p:cNvSpPr/>
            <p:nvPr/>
          </p:nvSpPr>
          <p:spPr>
            <a:xfrm>
              <a:off x="7055640" y="2171520"/>
              <a:ext cx="1728000" cy="1033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图片 32" descr=""/>
            <p:cNvPicPr/>
            <p:nvPr/>
          </p:nvPicPr>
          <p:blipFill>
            <a:blip r:embed="rId5"/>
            <a:srcRect l="10630" t="24853" r="10630" b="12134"/>
            <a:stretch/>
          </p:blipFill>
          <p:spPr>
            <a:xfrm>
              <a:off x="6804360" y="1845000"/>
              <a:ext cx="1156680" cy="57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微软雅黑"/>
                <a:ea typeface="微软雅黑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  <Words>96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03:59:06Z</dcterms:created>
  <dc:creator>www.pptbz.com</dc:creator>
  <dc:description/>
  <dc:language>en-US</dc:language>
  <cp:lastModifiedBy>王玉清</cp:lastModifiedBy>
  <dcterms:modified xsi:type="dcterms:W3CDTF">2016-03-06T03:10:02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