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81A-1165-4B8E-B423-832601EA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398-6856-4DCE-98B5-2DF9FFBF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B96-9219-47D0-AF27-6B29E2C8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C08-518D-4D02-AF3B-73E305EE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D095-E74F-4EB5-8D4C-1BDE8043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95FE-92E6-4E3D-A2C6-B9D779E9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D6DA-BF93-4DAB-9393-4734CD92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B576-40CC-423C-A4B4-4944C34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8097-E52D-4F66-8805-D1EF7F81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187560"/>
            <a:ext cx="8373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205F-0717-45FB-8277-46E86D9D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4C6F-FE7E-4354-9A45-B6A2578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FDE-8F05-4A45-98C9-993CCB9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6896-BBCA-47D0-A826-C553E804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278F-01B0-48A5-8115-BE9AFCE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721B-5909-4931-8ED7-D905EB01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4971-00A2-46CB-BD12-ECB2FDAA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800-1560-4CDA-B1D6-A2619A29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76B-8F7C-4901-99C0-3AD93195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8DF-559F-477A-AECF-D88F5860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ECF-F8D9-466A-AC54-5EB1DAD0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87560"/>
            <a:ext cx="8373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ABE-1C37-422C-86AF-7D151FC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BD6-3570-4747-B817-AC604DB8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B5A-9C2A-4634-941F-7AC0D54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4D7-269C-4493-9BDE-71B69A9C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EE19-0E4A-410D-A97D-E09BB30670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4A61-BE3B-4298-BDED-A305155208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7280" y="528480"/>
            <a:ext cx="7413840" cy="13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方正粗倩简体"/>
                <a:ea typeface="方正粗倩简体"/>
              </a:rPr>
              <a:t>七彩夏天通用</a:t>
            </a:r>
            <a:r>
              <a:rPr b="0" lang="en-US" sz="4000" spc="-1" strike="noStrike">
                <a:solidFill>
                  <a:srgbClr val="6633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663300"/>
                </a:solidFill>
                <a:latin typeface="方正粗倩简体"/>
                <a:ea typeface="方正粗倩简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0" y="662796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09840" y="1765440"/>
            <a:ext cx="618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640" y="5133600"/>
            <a:ext cx="6189480" cy="77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</a:rPr>
              <a:t>谢谢欣赏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95280" y="6504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45:50Z</dcterms:created>
  <dc:creator/>
  <dc:description/>
  <cp:keywords/>
  <dc:language>en-US</dc:language>
  <cp:lastModifiedBy>王玉清</cp:lastModifiedBy>
  <cp:lastPrinted>1899-12-30T00:00:00Z</cp:lastPrinted>
  <dcterms:modified xsi:type="dcterms:W3CDTF">2016-02-21T03:37:05Z</dcterms:modified>
  <cp:revision>5</cp:revision>
  <dc:subject/>
  <dc:title>非凡图库：www.ffpic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