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55D89-A4EA-4868-920B-3CE79AC40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5874E-2F4F-4BE5-84F0-82CA416CB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B87E5-0BD8-4BB0-99A6-D72588D3E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04260-EBD8-4A9E-A259-3DE01A2A8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1B9C4-C79F-4336-B7F9-F48A900EF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CB662-EB52-48BE-873C-C79A71C69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E467A-84B2-4219-AA0A-2B594A59B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32389-FBA5-4C6E-9B3A-75DD32357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290F6-44E8-4B1F-BB96-D689ED9F3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E821C-3156-4236-8DE6-45C9ECC1C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AC557-ABF5-4C06-9185-00F7FE40D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593F0-E219-45C1-B824-AF54B26CC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948FE-0E43-4533-AE6C-0ACDB0A016A3}" type="slidenum">
              <a:rPr b="0" lang="fr-CA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321760" cy="101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Calibri"/>
                <a:ea typeface="宋体"/>
              </a:rPr>
              <a:t>清爽简约绿色商务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Calibri"/>
                <a:ea typeface="宋体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ff"/>
                </a:solidFill>
                <a:latin typeface="Calibri"/>
                <a:ea typeface="宋体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974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  <a:ea typeface="宋体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  <a:ea typeface="宋体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071440" y="27432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Calibri"/>
                <a:ea typeface="宋体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2071440" y="1600200"/>
            <a:ext cx="6615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  <a:ea typeface="宋体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  <a:ea typeface="宋体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9T12:51:15Z</dcterms:created>
  <dc:creator>ppt宝藏</dc:creator>
  <dc:description/>
  <dc:language>en-US</dc:language>
  <cp:lastModifiedBy>a</cp:lastModifiedBy>
  <dcterms:modified xsi:type="dcterms:W3CDTF">2015-07-25T06:21:39Z</dcterms:modified>
  <cp:revision>4</cp:revision>
  <dc:subject/>
  <dc:title>www.pptbz.com</dc:title>
</cp:coreProperties>
</file>