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4EE-7CA8-47C5-A12E-F3E6412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D1C-7B15-42C6-A352-1CCA73D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68C-E53F-42F8-91D4-AB61138B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598-3565-45F2-B14F-2FC94F25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C85-1010-4088-8E89-32AF833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5EC-90C6-460F-B6D3-C0DD0A06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AA3-5E49-4E9D-9496-8F7FABDE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198-1AA3-4F9B-B3B7-91EE1FF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617-6444-4F53-91C2-923C2C5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D6B-AC8E-477B-966E-979A634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88E-DE20-484B-9956-371709DD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9AD-8D15-4244-8D58-930DF77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a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9" descr="E:\图片资料\e-mail\stationery\abstract_H_Z\urban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33"/>
          <p:cNvGrpSpPr/>
          <p:nvPr/>
        </p:nvGrpSpPr>
        <p:grpSpPr>
          <a:xfrm>
            <a:off x="6810480" y="304920"/>
            <a:ext cx="2376000" cy="6095520"/>
            <a:chOff x="6810480" y="304920"/>
            <a:chExt cx="2376000" cy="6095520"/>
          </a:xfrm>
        </p:grpSpPr>
        <p:pic>
          <p:nvPicPr>
            <p:cNvPr id="2" name="Picture 331" descr="E:\图片资料\e-mail\stationery\abstract_H_Z\urban\3.jpg"/>
            <p:cNvPicPr/>
            <p:nvPr/>
          </p:nvPicPr>
          <p:blipFill>
            <a:blip r:embed="rId3"/>
            <a:stretch/>
          </p:blipFill>
          <p:spPr>
            <a:xfrm>
              <a:off x="6810480" y="1537200"/>
              <a:ext cx="2361240" cy="48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27" descr="E:\图片资料\e-mail\stationery\abstract_H_Z\urban\urban_right.gif"/>
            <p:cNvPicPr/>
            <p:nvPr/>
          </p:nvPicPr>
          <p:blipFill>
            <a:blip r:embed="rId4"/>
            <a:stretch/>
          </p:blipFill>
          <p:spPr>
            <a:xfrm>
              <a:off x="6810480" y="304920"/>
              <a:ext cx="2376000" cy="124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328" descr="E:\图片资料\e-mail\stationery\abstract_H_Z\urban\urban_top.gif"/>
          <p:cNvPicPr/>
          <p:nvPr/>
        </p:nvPicPr>
        <p:blipFill>
          <a:blip r:embed="rId5"/>
          <a:stretch/>
        </p:blipFill>
        <p:spPr>
          <a:xfrm>
            <a:off x="6708600" y="71280"/>
            <a:ext cx="2435400" cy="228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8" descr="E:\jll\河山图标.jpg"/>
          <p:cNvPicPr/>
          <p:nvPr/>
        </p:nvPicPr>
        <p:blipFill>
          <a:blip r:embed="rId6"/>
          <a:stretch/>
        </p:blipFill>
        <p:spPr>
          <a:xfrm>
            <a:off x="495288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30" descr="E:\图片资料\e-mail\stationery\abstract_H_Z\urban\2.jpg"/>
          <p:cNvPicPr/>
          <p:nvPr/>
        </p:nvPicPr>
        <p:blipFill>
          <a:blip r:embed="rId7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26" descr="E:\图片资料\e-mail\stationery\abstract_H_Z\urban\urban_bottom.gif"/>
          <p:cNvPicPr/>
          <p:nvPr/>
        </p:nvPicPr>
        <p:blipFill>
          <a:blip r:embed="rId8"/>
          <a:stretch/>
        </p:blipFill>
        <p:spPr>
          <a:xfrm>
            <a:off x="1219320" y="6114960"/>
            <a:ext cx="6858000" cy="7430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C9D-98EA-4856-A2A8-F9D2DF8F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人物剪影完整版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5:39:43Z</dcterms:created>
  <dc:creator>ppt宝藏</dc:creator>
  <dc:description/>
  <dc:language>en-US</dc:language>
  <cp:lastModifiedBy>a</cp:lastModifiedBy>
  <dcterms:modified xsi:type="dcterms:W3CDTF">2015-07-25T07:30:30Z</dcterms:modified>
  <cp:revision>13</cp:revision>
  <dc:subject/>
  <dc:title>www.pptbz.com</dc:title>
</cp:coreProperties>
</file>