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6D8F-EA32-4990-B4CA-E139FAB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91B72-E4BE-4D06-B48D-C11EE16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1B394-6AF5-4CA1-A777-A37BF0D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5F7E5-700B-43E6-98B3-87A7493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3DE7-C176-4E36-B281-18B4C2B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0B40C-3E3F-43FD-9085-94C1C90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179A4-B353-4BAE-9580-0E0CAAC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C96F-2D1A-44D8-AD82-25CA3DBE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B93C-A0DA-4524-85AD-B219FF34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AD122-517B-49B7-8DB4-5A5919AB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4510-6257-4CE9-B5A7-987F60C8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2A58-535D-42ED-BDAC-1355EBC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0275B-AC6C-4FA1-933E-90AD745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66B5-89E1-4504-BE6D-4D207FC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B1DCE-7D74-4660-B405-A17BADDD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DCD4-C4D4-47B6-B5B8-D39A557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4641-7929-4FE3-96B4-521641A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3EFE4-3F30-4BAC-A050-1AC391C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8E58C-0677-45C0-A87F-6D6EB5E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CF05-29B1-4585-A392-02A3937C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5FF4-B28A-4B1C-AEC9-65C89013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8A4D8-31CD-4FA2-88FB-7A5FEC25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02AE5-35DD-4E62-A5A6-9DC9EA24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812F1-53B0-4474-AB1F-5F481A2F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1D0DB-D40A-40B3-99F9-CA1F418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DD244-BB5C-4033-8329-94871EF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3CF43-51F2-4579-A4A4-02E65E3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2EED8-C123-4DD0-8A33-DF0794F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2A149-94E1-4CAB-82BC-4E8BD5B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0FEA4-CADF-4B3C-BEF5-811E805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7BD-5EE1-4CA6-BBED-BA023A9B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C8BE-0B67-48E2-8436-270C1FC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EB727-B200-4586-B46C-D0019CF5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6AE9-4DD8-4341-8915-94E090C8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5941-8CB6-4FCB-9F6A-F08FE984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4960-D224-48C5-A38A-764A76D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F21A7-07BD-4CE6-BA1B-65AAF1B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CE0DD-371A-4445-9D5F-4A5E5000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BB52-0AE5-459E-BAA5-103FAA22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0BDA9-1B37-43D4-9891-7AE76298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71A90-D118-4C91-9B84-3F16152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DCF-79A7-4D29-87E0-7F116D3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CA36A-228D-45AC-852B-52ABC85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7E937-2543-4FBC-9492-2806582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B4551-68C1-41B4-801B-05158B0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78328-AEDE-42C7-9800-CEBA5A7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2ED70-9C9B-41A7-A7F5-6EF1D9A8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180F-2421-47A6-99E1-F7E3C834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B2146-6800-4F6E-9BA9-9C71291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F6846-04DE-47D3-B451-9EB7CAB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F539E-A4D2-49F5-9A80-10F578A8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C0E9-02CD-472F-A163-47AFD07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437-3625-43B5-9150-6C2C2D9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0E2C-C058-4BA0-BC07-82E1BE7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8B79-77A8-409A-AC93-6C24A00C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59E9-8774-4E8D-8EEC-233CE18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B300-0381-45BE-A3BE-084B0C7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9FF79-38A4-48AC-B91E-448962DB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CBB4B-447E-4BB4-9815-A762776F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69C39-72A2-4D16-97F8-A49D206E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828-9E43-4647-BCE3-F56B6AD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F3-2D33-4DA5-B955-5CCA319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8A7-3868-4372-A8D0-9299771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12A-00FA-4579-8249-62E566E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A73-2D72-4A74-923E-F6BB191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BE2-82EA-444C-86E8-66C75F2D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AE5-7C21-4AE3-8A0A-9C14FE6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B30-9D65-463B-8DF1-8E4AA10F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123-47E5-4275-9AFF-37F0AEE9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CF9-E50D-4718-A54E-AE0E1EF5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528-8A3B-4A77-BE75-ABBDF880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EFC8-7BA1-493D-9F32-8A71F6F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5E42-FE49-4511-8515-3746BB1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4C2-6DC5-482B-81E8-A95AB29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FB2-0518-44A2-854E-22C99EBF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348-E686-419B-B100-FE74226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A8F3-C086-4135-B77B-84173C3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ECEC-DBA1-4C44-8839-7BEA72C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378-7C9A-439E-BBC0-0BE593C2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45CC-0B2E-4C96-ADD7-DD1184D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9D9-CB68-4DEF-B959-305BABEB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9134-8638-4E75-9EAC-B0021B45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48ED-E49D-49DF-89DF-59E50DB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A693-E4C3-4B3C-BF4A-24B9353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EE83-BA75-43F9-9105-019E016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CB63-C887-41BE-A4E9-A006256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6808-E5D8-4AF6-9E4C-37929032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F362-042F-48FC-B1AB-890F53C6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6F0A-1CF0-4FDF-87F1-479FD46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B830-7F5A-4327-881D-1C82270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5E6E-B438-4BE7-9AB6-995F8B9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ABEA-10EF-44EA-9A0D-B4C63DF9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BEA5-A6F7-4DA5-A85B-4E313CCC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2634-7AD7-4871-BED8-F85EE11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8D0F-9415-452D-A616-AA40B8A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3C50-48D3-4B2A-B974-63002425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392E-4099-4DD8-8833-F033A07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2FB7-CA4F-4A23-A21D-FA67211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84B9-0CD6-499B-AEF3-3627C8A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D359-ECD9-46D8-80B5-1E48FE3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BEFE-6065-40E6-A82B-3299A00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C194-4F12-47EE-A3E2-2AA0DA04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03FC-2455-46D9-BA80-3438C89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89DE-B0A4-4FD1-A190-31973FFF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0877-E40B-4F3C-AD02-D20EA769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FCFCD-608A-4005-9D9E-6975B285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5EB2-4E0C-4D8A-B62B-DF52BBF9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76D7-E31A-4217-89D6-6171D449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BF3B-A63F-4688-8FF1-E82F2908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2FC6-C284-4A32-8C62-E16A79D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2D80A-0F8D-4C03-B489-0F9DCC1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5F50-0C07-466E-9108-3E9C247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BA8A-8BEF-4396-BDB8-2A13974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712A-8229-4BE2-8C65-2323B6C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5028-8B8E-4E6F-9041-264A8B9C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BF91-FB51-4846-AB53-71B0FE9E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62216-5918-4FCB-99F8-92DB4C19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1281-7829-4788-806A-6C89A96B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FD0F-F8DD-456C-A0EA-60A3A09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ACBD-DC22-4B53-8C2D-F1BC648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0B42-7DDB-4943-B16C-92D7D78E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3AD6-4857-4D84-BF28-E1177B6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9AF6-7B6E-4747-9603-6F65476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58EE-1BB9-4457-8D96-6C04343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33C0-4D42-48DB-8B66-483FA29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94AF-B350-45A9-BC71-97C318F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D1034-2D34-4B05-ABF0-5FE41CB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225A-BAD3-4591-9A49-6CB7CCD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8427-7FFD-418C-8991-7312D75E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2392-86D4-4919-A4BC-14EA8B83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A182-B94B-4A7C-A61B-B7510403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C8CB-C0C9-4BED-9C50-89419080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6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EF8-B3F3-4379-A028-225EA09097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A02-5AD5-46CB-8FB5-C3B46B446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45FC-4694-4CA2-B2CD-D7A0602CD9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9CE-E4E4-4238-A6F8-AE63FF639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1B6-0646-47DB-98B5-3BC592A410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819-0EE7-4106-B6BB-A0307BD8B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C36-21BB-412B-8B9E-8B13940A5D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3BEF-697B-4A2D-9AC1-157B2207E2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E14-D03D-4D6D-AB49-41A5293CCC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7EE-29FE-40F4-959E-B58720439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5" descr=""/>
          <p:cNvPicPr/>
          <p:nvPr/>
        </p:nvPicPr>
        <p:blipFill>
          <a:blip r:embed="rId2"/>
          <a:stretch/>
        </p:blipFill>
        <p:spPr>
          <a:xfrm>
            <a:off x="7524720" y="1268280"/>
            <a:ext cx="1619280" cy="558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"/>
          <p:cNvPicPr/>
          <p:nvPr/>
        </p:nvPicPr>
        <p:blipFill>
          <a:blip r:embed="rId3"/>
          <a:stretch/>
        </p:blipFill>
        <p:spPr>
          <a:xfrm>
            <a:off x="7451640" y="836640"/>
            <a:ext cx="399960" cy="1390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4"/>
          <a:stretch/>
        </p:blipFill>
        <p:spPr>
          <a:xfrm>
            <a:off x="250920" y="5877000"/>
            <a:ext cx="2520720" cy="71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1" descr=""/>
          <p:cNvPicPr/>
          <p:nvPr/>
        </p:nvPicPr>
        <p:blipFill>
          <a:blip r:embed="rId5"/>
          <a:stretch/>
        </p:blipFill>
        <p:spPr>
          <a:xfrm>
            <a:off x="6156360" y="5419800"/>
            <a:ext cx="139068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"/>
          <p:cNvPicPr/>
          <p:nvPr/>
        </p:nvPicPr>
        <p:blipFill>
          <a:blip r:embed="rId6"/>
          <a:stretch/>
        </p:blipFill>
        <p:spPr>
          <a:xfrm>
            <a:off x="6084720" y="422100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"/>
          <p:cNvPicPr/>
          <p:nvPr/>
        </p:nvPicPr>
        <p:blipFill>
          <a:blip r:embed="rId7"/>
          <a:stretch/>
        </p:blipFill>
        <p:spPr>
          <a:xfrm>
            <a:off x="5508720" y="5013360"/>
            <a:ext cx="1008000" cy="77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4" descr=""/>
          <p:cNvPicPr/>
          <p:nvPr/>
        </p:nvPicPr>
        <p:blipFill>
          <a:blip r:embed="rId8"/>
          <a:stretch/>
        </p:blipFill>
        <p:spPr>
          <a:xfrm>
            <a:off x="5292720" y="501336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5" descr=""/>
          <p:cNvPicPr/>
          <p:nvPr/>
        </p:nvPicPr>
        <p:blipFill>
          <a:blip r:embed="rId9"/>
          <a:stretch/>
        </p:blipFill>
        <p:spPr>
          <a:xfrm>
            <a:off x="5148360" y="48690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6" descr=""/>
          <p:cNvPicPr/>
          <p:nvPr/>
        </p:nvPicPr>
        <p:blipFill>
          <a:blip r:embed="rId10"/>
          <a:stretch/>
        </p:blipFill>
        <p:spPr>
          <a:xfrm>
            <a:off x="5148360" y="5157720"/>
            <a:ext cx="1152360" cy="17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"/>
          <p:cNvPicPr/>
          <p:nvPr/>
        </p:nvPicPr>
        <p:blipFill>
          <a:blip r:embed="rId11"/>
          <a:stretch/>
        </p:blipFill>
        <p:spPr>
          <a:xfrm>
            <a:off x="6156360" y="4797360"/>
            <a:ext cx="1152360" cy="88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8" descr=""/>
          <p:cNvPicPr/>
          <p:nvPr/>
        </p:nvPicPr>
        <p:blipFill>
          <a:blip r:embed="rId12"/>
          <a:stretch/>
        </p:blipFill>
        <p:spPr>
          <a:xfrm>
            <a:off x="6516720" y="4221000"/>
            <a:ext cx="1297080" cy="99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9" descr=""/>
          <p:cNvPicPr/>
          <p:nvPr/>
        </p:nvPicPr>
        <p:blipFill>
          <a:blip r:embed="rId13"/>
          <a:stretch/>
        </p:blipFill>
        <p:spPr>
          <a:xfrm>
            <a:off x="6084720" y="5300640"/>
            <a:ext cx="576360" cy="44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0" descr=""/>
          <p:cNvPicPr/>
          <p:nvPr/>
        </p:nvPicPr>
        <p:blipFill>
          <a:blip r:embed="rId14"/>
          <a:stretch/>
        </p:blipFill>
        <p:spPr>
          <a:xfrm>
            <a:off x="7020000" y="5229360"/>
            <a:ext cx="647640" cy="49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"/>
          <p:cNvPicPr/>
          <p:nvPr/>
        </p:nvPicPr>
        <p:blipFill>
          <a:blip r:embed="rId15"/>
          <a:stretch/>
        </p:blipFill>
        <p:spPr>
          <a:xfrm>
            <a:off x="7308720" y="5805360"/>
            <a:ext cx="216000" cy="1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2" descr=""/>
          <p:cNvPicPr/>
          <p:nvPr/>
        </p:nvPicPr>
        <p:blipFill>
          <a:blip r:embed="rId16"/>
          <a:stretch/>
        </p:blipFill>
        <p:spPr>
          <a:xfrm>
            <a:off x="7164360" y="5516640"/>
            <a:ext cx="360360" cy="277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"/>
          <p:cNvPicPr/>
          <p:nvPr/>
        </p:nvPicPr>
        <p:blipFill>
          <a:blip r:embed="rId17"/>
          <a:stretch/>
        </p:blipFill>
        <p:spPr>
          <a:xfrm>
            <a:off x="1403280" y="5805360"/>
            <a:ext cx="187164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3EE-8C7F-414B-AF29-4E81D9FD10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444-78D1-49C6-A1B0-610B6A724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8E0-6343-418D-98F1-F6414868D6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8A75-29EF-4D38-9391-1D0BB049A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C66-A1CE-4A25-846A-05B32EA9ED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8009-FFD8-467B-8678-85EDEC4F0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B41-1747-4D64-84C4-796110B023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F52-F4B4-4A3E-9965-17ADB02F6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84DE-0484-40FF-BBEE-72718F6AD5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425-629A-43F0-AAB8-9907273EA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3B9-B7E3-4C18-A44E-B8E1BDD6C6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2D6-08C5-4C06-B03A-7AB2F38E5E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85800" y="3429000"/>
            <a:ext cx="4643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61840" y="1989000"/>
            <a:ext cx="73818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手绘笑傲江湖动态</a:t>
            </a:r>
            <a:r>
              <a:rPr b="0" lang="en-US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292929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d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548" name="图示 2" descr=""/>
          <p:cNvPicPr/>
          <p:nvPr/>
        </p:nvPicPr>
        <p:blipFill>
          <a:blip r:embed="rId1"/>
          <a:stretch/>
        </p:blipFill>
        <p:spPr>
          <a:xfrm>
            <a:off x="1511280" y="1395360"/>
            <a:ext cx="6127920" cy="40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2" descr=""/>
          <p:cNvPicPr/>
          <p:nvPr/>
        </p:nvPicPr>
        <p:blipFill>
          <a:blip r:embed="rId1"/>
          <a:stretch/>
        </p:blipFill>
        <p:spPr>
          <a:xfrm>
            <a:off x="1523880" y="1384200"/>
            <a:ext cx="6096240" cy="4089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示 2" descr=""/>
          <p:cNvPicPr/>
          <p:nvPr/>
        </p:nvPicPr>
        <p:blipFill>
          <a:blip r:embed="rId1"/>
          <a:stretch/>
        </p:blipFill>
        <p:spPr>
          <a:xfrm>
            <a:off x="1390680" y="82224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5:37:21Z</dcterms:created>
  <dc:creator>wq</dc:creator>
  <dc:description/>
  <cp:keywords/>
  <dc:language>en-US</dc:language>
  <cp:lastModifiedBy>王玉清</cp:lastModifiedBy>
  <dcterms:modified xsi:type="dcterms:W3CDTF">2016-02-19T07:28:54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7</vt:r8>
  </property>
</Properties>
</file>