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AD85-097C-41E8-9648-BFEDEEAE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A80A-3249-4D64-A395-F5BCB353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A855-ED0C-4BE3-B4D9-0F9574F3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85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128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85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128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1A2-AE02-4664-8A9F-E7082EB5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C93-263E-415D-99DB-DB6C73DC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89D7-5077-45A3-AD54-093322DC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FBB-8599-43D8-ABF8-05F23530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5B3-7A8A-4AAA-A4E1-9B8CC04A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E66-DDD3-4D16-B453-3C780B11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DD4-70E9-46D4-9206-6BCC123B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0A74-B8DC-4337-A670-B1FF97D7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94B-38F2-468F-96FC-24BBDCF0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E:\jll\河山图标.jpg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1" descr="E:\图片资料\e-mail\stationery\abstract_A_G\binary_again\2020.jpg"/>
          <p:cNvPicPr/>
          <p:nvPr/>
        </p:nvPicPr>
        <p:blipFill>
          <a:blip r:embed="rId3"/>
          <a:stretch/>
        </p:blipFill>
        <p:spPr>
          <a:xfrm>
            <a:off x="228600" y="0"/>
            <a:ext cx="822960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1" descr="E:\图片资料\e-mail\stationery\abstract_A_G\binary_again\binary_again_left.gif"/>
          <p:cNvPicPr/>
          <p:nvPr/>
        </p:nvPicPr>
        <p:blipFill>
          <a:blip r:embed="rId4"/>
          <a:stretch/>
        </p:blipFill>
        <p:spPr>
          <a:xfrm>
            <a:off x="0" y="0"/>
            <a:ext cx="3049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84"/>
          <p:cNvGrpSpPr/>
          <p:nvPr/>
        </p:nvGrpSpPr>
        <p:grpSpPr>
          <a:xfrm>
            <a:off x="8458200" y="0"/>
            <a:ext cx="685800" cy="6857640"/>
            <a:chOff x="8458200" y="0"/>
            <a:chExt cx="685800" cy="6857640"/>
          </a:xfrm>
        </p:grpSpPr>
        <p:pic>
          <p:nvPicPr>
            <p:cNvPr id="4" name="Picture 33" descr="E:\图片资料\e-mail\stationery\abstract_A_G\binary_again\binary_again_right.gif"/>
            <p:cNvPicPr/>
            <p:nvPr/>
          </p:nvPicPr>
          <p:blipFill>
            <a:blip r:embed="rId5"/>
            <a:stretch/>
          </p:blipFill>
          <p:spPr>
            <a:xfrm>
              <a:off x="8458200" y="3085920"/>
              <a:ext cx="685800" cy="37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83" descr="E:\图片资料\e-mail\stationery\abstract_A_G\binary_again\binary_again_right.gif"/>
            <p:cNvPicPr/>
            <p:nvPr/>
          </p:nvPicPr>
          <p:blipFill>
            <a:blip r:embed="rId6"/>
            <a:stretch/>
          </p:blipFill>
          <p:spPr>
            <a:xfrm>
              <a:off x="8458200" y="0"/>
              <a:ext cx="685800" cy="40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98AC-52E5-44A5-96B1-2F25C4798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数码便笺商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08:51:17Z</dcterms:created>
  <dc:creator>ppt宝藏</dc:creator>
  <dc:description/>
  <dc:language>en-US</dc:language>
  <cp:lastModifiedBy>a</cp:lastModifiedBy>
  <dcterms:modified xsi:type="dcterms:W3CDTF">2015-07-25T03:13:04Z</dcterms:modified>
  <cp:revision>10</cp:revision>
  <dc:subject/>
  <dc:title>www.pptbz.com</dc:title>
</cp:coreProperties>
</file>