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34B-1A6B-4099-A1D0-79A32CA8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50BA-057B-4B98-938E-C5D050F9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A8F-EC61-40B4-AFE0-7B87E1D0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C572-9E35-459A-AEA3-F447CD7E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E01-EE20-4038-A706-891F1855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0466-9485-47D9-A4F8-CF737746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D14-8D22-4368-848C-FE3D73BD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68C-91ED-4370-9D63-FEAB22D7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6DB5-B581-4399-9791-C38A97D8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920-1C23-4D23-AF0D-D4FC7937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B0B0-6BC2-437C-9382-65CACC91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7E80-DF52-4E9B-9610-27D04942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:\Documents and Settings\Administrator\桌面\河山图标.jpg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1" descr="D:\Documents and Settings\Administrator\桌面\24\商务\15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1840-94EC-475D-95FB-E50510B37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商务会谈拼图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2:39:33Z</dcterms:created>
  <dc:creator>ppt宝藏</dc:creator>
  <dc:description/>
  <dc:language>en-US</dc:language>
  <cp:lastModifiedBy>a</cp:lastModifiedBy>
  <dcterms:modified xsi:type="dcterms:W3CDTF">2015-07-25T07:11:21Z</dcterms:modified>
  <cp:revision>26</cp:revision>
  <dc:subject/>
  <dc:title>www.pptbz.com</dc:title>
</cp:coreProperties>
</file>