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FA1-8B0F-4C72-9237-6D74FE8E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39D-3271-4B44-8FF6-7568256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C44-EDA6-440C-893F-A8C9897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B2F-E3C0-4CC5-AF7D-F2B13A4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FB25-6ECC-4AAA-97B0-B63288B9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5E6C-337C-45F0-BDD3-B52A61F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2D2-7A2A-4DFA-9F19-34622DD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58E0-BE5E-45D5-82AD-E308D93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3F45-47C5-46DE-8AF1-3000C19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2A6-EE2F-4D19-AA7D-C8010808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2E4-29B9-43A4-AC7C-177A430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327-FB9D-4DC2-B9B1-3C8851C7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CA6-43FC-45E9-B942-9165C4C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9E33-98F2-4038-A7B7-DA223F8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CED-CE14-49F9-9F25-CDB59A34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28A-1B1F-4261-9DB4-DB459FBA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0DF-BA40-4F07-8801-9004D1EA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FC9-B9A6-4B27-AA53-D5906E4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F7A-E10A-46D8-90F0-8A376EB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0B0-AE17-406E-9386-C606EE5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AD5-BFC2-4C3D-B3AE-F1E3419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23D-872D-483D-B615-7AB551B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7ED-0BED-4572-9517-749410E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6A1-F53F-47C6-ABF1-7A3F4AF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A73-1530-40C7-A9ED-59298E92F19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BDD-AB7D-4478-A974-11277C4CC603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商务计划管理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模板完整版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商务计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资源需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技术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人力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资源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财政、分配、激励等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外部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需要从公司外部购买的产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服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技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风险和回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风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所提议的项目的风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消除风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如何消除风险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回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评估预期的赢利（尤其是在筹集资金的情况下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关键问题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近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将关键性的决议和需要立即或近期解决的问题分离开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长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将需要长期解决方案的问题分离出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说明拖延作出决议的后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如果要筹集资金，则应说明细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任务陈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明确地陈述公司的长期任务。应使用有助于指明公司发展方向的语言，但要尽可能地简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队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列出执行总裁和高层管理人员的姓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显示有成就的人员（包括以前的成就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进入该业务领域的年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市场总结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过去、现在和未来的市场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回顾为公司的成功带来机遇的市场份额、领导层、参与者、市场变换、成本、定价或竞争方面发生的变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机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问题和机遇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用户的问题，定义由这些问题所带来的产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服务机遇的实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44400" y="6248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商务观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您的公司所依据的关键技术、观念或策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竞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竞争状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概述公司的竞争优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目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五年目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具体的可度量目标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市场份额方面的目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收入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利润方面的目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财务计划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高层次的财务计划，它定义了财务模型、定价前提并评论了未来三年的预期年度销售额和利润额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请相应地用几张幻灯片来演示此材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12:40Z</dcterms:created>
  <dc:creator>ppt宝藏</dc:creator>
  <dc:description/>
  <dc:language>en-US</dc:language>
  <cp:lastModifiedBy>a</cp:lastModifiedBy>
  <dcterms:modified xsi:type="dcterms:W3CDTF">2015-07-25T06:42:3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8362052</vt:lpwstr>
  </property>
</Properties>
</file>