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236-EE15-4920-95B2-DC508C7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375-2063-4C8C-B8A5-5572962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70C-F6F8-466F-8F3F-DA5CD3C8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4AE-A320-4355-A441-B87F7DFB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119-4620-487A-90BD-146B7CA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0F5-76C6-4814-8238-3E83E260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AFB-943F-4C4D-A5C5-9671919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683-C751-49A0-947F-51BC4223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4A2-F212-4C5E-8166-F92F55E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569-B1D1-4999-BCC8-5E652F2F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FEF-E522-440B-B692-6E5EE083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AF9-2194-4629-ABF9-7F31A7B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D:\Documents and Settings\Administrator\桌面\20\新建文件夹\新建文件夹\02.jpg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D136-EFCD-4281-9638-BC11CF56F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商务之手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05:08Z</dcterms:created>
  <dc:creator>ppt宝藏</dc:creator>
  <dc:description/>
  <dc:language>en-US</dc:language>
  <cp:lastModifiedBy>a</cp:lastModifiedBy>
  <dcterms:modified xsi:type="dcterms:W3CDTF">2015-07-25T03:13:00Z</dcterms:modified>
  <cp:revision>5</cp:revision>
  <dc:subject/>
  <dc:title>www.pptbz.com</dc:title>
</cp:coreProperties>
</file>