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9F2A8-867C-491E-96AB-936E8DED4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8E90-1B97-4A26-ACBB-E60B01F60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71118-2A7D-40CF-95DC-8EDB7F0FB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5049D-F0A8-407A-BEEB-4D56F84FC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48BE9-931E-4D04-B7A5-30DCB4240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F7C2A-F16B-4122-A245-6FE03193D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E68A0-1238-459F-8633-8F4561CFC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3CA07-B99B-4905-83C6-4EBD22CE8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8FF54-FCA5-406E-8A1A-EC09CEE86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7E120-D7E8-4E36-B276-7C1B67274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6B845-270A-4213-8882-B11A048BF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F40C-D2A9-420F-B99D-5548ADA5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FEA2-FA17-49BF-B3B5-0A315A88B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722F-78DA-45F9-AA37-7DB103B0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C6242-AB5C-4FFB-8EB7-AA0D4FDEB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C2063-AA7C-4566-9A36-117C98FAD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D26AE-1EC5-407F-9A71-474069FFB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93D57-84F6-4190-932D-B51F2256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D0FF-751A-4250-ADB9-1FB2A088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3C5D-A8B3-4940-A3D9-E354F665E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45A1-602C-4636-AA44-59D464FB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9D33-C3A3-43BD-9611-037C4A922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15A3-171B-4886-9E8F-081DD976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2805-AD67-4C7A-AEBD-FFE4118B0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素彩网</a:t>
            </a:r>
            <a:r>
              <a:rPr b="0" lang="en-US" sz="1400" spc="-1" strike="noStrike">
                <a:solidFill>
                  <a:srgbClr val="000000"/>
                </a:solidFill>
                <a:latin typeface="Arial"/>
              </a:rPr>
              <a:t>http://www.sc115.com-ppt</a:t>
            </a:r>
            <a:r>
              <a:rPr b="0" lang="zh-CN" sz="1400" spc="-1" strike="noStrike">
                <a:solidFill>
                  <a:srgbClr val="000000"/>
                </a:solidFill>
                <a:latin typeface="Arial"/>
              </a:rPr>
              <a:t>模板免费下载</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1EDF-5FA5-459C-991B-D82E6D169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4872-4579-4E75-83FC-E009EC26E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83" name=""/>
          <p:cNvSpPr/>
          <p:nvPr/>
        </p:nvSpPr>
        <p:spPr>
          <a:xfrm>
            <a:off x="3201840" y="26028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桃花</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85" name="Text Box 5"/>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86" name="页脚占位符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88" name="Text Box 5"/>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93" name="Text Box 5"/>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CE442EF7-215C-41AE-AEEB-8ADBFCBC2FAC}"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07:08:41Z</dcterms:created>
  <dc:creator>幻灯片之家 http://www.eeppt.com</dc:creator>
  <dc:description/>
  <cp:keywords>幻灯片之家 http:/www.eeppt.com</cp:keywords>
  <dc:language>en-US</dc:language>
  <cp:lastModifiedBy/>
  <dcterms:modified xsi:type="dcterms:W3CDTF">2015-07-18T06:47:30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