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8E0-8C8D-468F-9D51-7D18665C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CFC6-3E41-4A46-87E7-295AB5B7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DA3-93F6-429E-ABE6-3B116134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3C7-0851-4276-9610-FD2DCECF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9D9-6144-4F00-AF06-09820787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6D8-D619-44BF-8AE4-BEC1A32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CE2-2D8E-4B4E-A158-9DEE2F2E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0C8-BB7F-44CA-B113-A4F04DFB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E0D-8303-4655-A86C-1941BD6A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C19-028C-43E8-918E-D2D3F145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BEB-1C47-4C9F-8E77-3B26DA1C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772-E8AB-4515-9831-3C8DA2F9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10D8E-137D-409E-84D6-221DD9342865}" type="datetime">
              <a:rPr b="0" lang="nb-NO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65D40-B3D1-4BC2-AA52-B3F54C0DCDE9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rc 16"/>
          <p:cNvSpPr/>
          <p:nvPr/>
        </p:nvSpPr>
        <p:spPr>
          <a:xfrm>
            <a:off x="-9155160" y="3009960"/>
            <a:ext cx="18299160" cy="7715160"/>
          </a:xfrm>
          <a:custGeom>
            <a:avLst/>
            <a:gdLst>
              <a:gd name="textAreaLeft" fmla="*/ 9146880 w 18299160"/>
              <a:gd name="textAreaRight" fmla="*/ 18299520 w 18299160"/>
              <a:gd name="textAreaTop" fmla="*/ 0 h 7715160"/>
              <a:gd name="textAreaBottom" fmla="*/ 3878640 h 7715160"/>
            </a:gdLst>
            <a:ahLst/>
            <a:rect l="textAreaLeft" t="textAreaTop" r="textAreaRight" b="textAreaBottom"/>
            <a:pathLst>
              <a:path stroke="0" w="18300700" h="7715250">
                <a:moveTo>
                  <a:pt x="9147715" y="0"/>
                </a:moveTo>
                <a:lnTo>
                  <a:pt x="9147715" y="0"/>
                </a:lnTo>
                <a:cubicBezTo>
                  <a:pt x="9148593" y="0"/>
                  <a:pt x="9149471" y="-1"/>
                  <a:pt x="9150350" y="0"/>
                </a:cubicBezTo>
                <a:cubicBezTo>
                  <a:pt x="14203948" y="0"/>
                  <a:pt x="18300700" y="1727117"/>
                  <a:pt x="18300700" y="3857625"/>
                </a:cubicBezTo>
                <a:cubicBezTo>
                  <a:pt x="18300700" y="3864681"/>
                  <a:pt x="18300654" y="3871737"/>
                  <a:pt x="18300562" y="3878793"/>
                </a:cubicBezTo>
                <a:lnTo>
                  <a:pt x="9150350" y="3857625"/>
                </a:lnTo>
                <a:lnTo>
                  <a:pt x="9147715" y="0"/>
                </a:lnTo>
                <a:close/>
              </a:path>
              <a:path fill="none" w="18300700" h="7715250">
                <a:moveTo>
                  <a:pt x="9147715" y="0"/>
                </a:moveTo>
                <a:lnTo>
                  <a:pt x="9147715" y="0"/>
                </a:lnTo>
                <a:cubicBezTo>
                  <a:pt x="9148593" y="0"/>
                  <a:pt x="9149471" y="-1"/>
                  <a:pt x="9150350" y="0"/>
                </a:cubicBezTo>
                <a:cubicBezTo>
                  <a:pt x="14203948" y="0"/>
                  <a:pt x="18300700" y="1727117"/>
                  <a:pt x="18300700" y="3857625"/>
                </a:cubicBezTo>
                <a:cubicBezTo>
                  <a:pt x="18300700" y="3864681"/>
                  <a:pt x="18300654" y="3871737"/>
                  <a:pt x="18300562" y="3878793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rc 17"/>
          <p:cNvSpPr/>
          <p:nvPr/>
        </p:nvSpPr>
        <p:spPr>
          <a:xfrm>
            <a:off x="-5446800" y="3187800"/>
            <a:ext cx="10895040" cy="7340400"/>
          </a:xfrm>
          <a:custGeom>
            <a:avLst/>
            <a:gdLst>
              <a:gd name="textAreaLeft" fmla="*/ 5448600 w 10895040"/>
              <a:gd name="textAreaRight" fmla="*/ 10895400 w 10895040"/>
              <a:gd name="textAreaTop" fmla="*/ 0 h 7340400"/>
              <a:gd name="textAreaBottom" fmla="*/ 3681360 h 7340400"/>
            </a:gdLst>
            <a:ahLst/>
            <a:rect l="textAreaLeft" t="textAreaTop" r="textAreaRight" b="textAreaBottom"/>
            <a:pathLst>
              <a:path stroke="0" w="10896600" h="7340600">
                <a:moveTo>
                  <a:pt x="5449449" y="0"/>
                </a:moveTo>
                <a:lnTo>
                  <a:pt x="5449448" y="0"/>
                </a:lnTo>
                <a:cubicBezTo>
                  <a:pt x="8458013" y="427"/>
                  <a:pt x="10896600" y="1643551"/>
                  <a:pt x="10896600" y="3670300"/>
                </a:cubicBezTo>
                <a:cubicBezTo>
                  <a:pt x="10896600" y="3674068"/>
                  <a:pt x="10896591" y="3677836"/>
                  <a:pt x="10896574" y="3681605"/>
                </a:cubicBezTo>
                <a:lnTo>
                  <a:pt x="5448300" y="3670300"/>
                </a:lnTo>
                <a:lnTo>
                  <a:pt x="5449449" y="0"/>
                </a:lnTo>
                <a:close/>
              </a:path>
              <a:path fill="none" w="10896600" h="7340600">
                <a:moveTo>
                  <a:pt x="5449449" y="0"/>
                </a:moveTo>
                <a:lnTo>
                  <a:pt x="5449448" y="0"/>
                </a:lnTo>
                <a:cubicBezTo>
                  <a:pt x="8458013" y="427"/>
                  <a:pt x="10896600" y="1643551"/>
                  <a:pt x="10896600" y="3670300"/>
                </a:cubicBezTo>
                <a:cubicBezTo>
                  <a:pt x="10896600" y="3674068"/>
                  <a:pt x="10896591" y="3677836"/>
                  <a:pt x="10896574" y="368160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Hotel-And-Restaurant-Table-l.jpg"/>
          <p:cNvPicPr/>
          <p:nvPr/>
        </p:nvPicPr>
        <p:blipFill>
          <a:blip r:embed="rId1"/>
          <a:stretch/>
        </p:blipFill>
        <p:spPr>
          <a:xfrm>
            <a:off x="2127240" y="2432160"/>
            <a:ext cx="1158840" cy="1731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Health-Care-Professional-Blue-l.jpg"/>
          <p:cNvPicPr/>
          <p:nvPr/>
        </p:nvPicPr>
        <p:blipFill>
          <a:blip r:embed="rId2"/>
          <a:stretch/>
        </p:blipFill>
        <p:spPr>
          <a:xfrm>
            <a:off x="2328840" y="2481120"/>
            <a:ext cx="1170000" cy="172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World-Wide-Web-Grey-l.jpg"/>
          <p:cNvPicPr/>
          <p:nvPr/>
        </p:nvPicPr>
        <p:blipFill>
          <a:blip r:embed="rId3"/>
          <a:stretch/>
        </p:blipFill>
        <p:spPr>
          <a:xfrm>
            <a:off x="2577960" y="2530440"/>
            <a:ext cx="1262160" cy="1859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wedding.jpg"/>
          <p:cNvPicPr/>
          <p:nvPr/>
        </p:nvPicPr>
        <p:blipFill>
          <a:blip r:embed="rId4"/>
          <a:stretch/>
        </p:blipFill>
        <p:spPr>
          <a:xfrm>
            <a:off x="3005280" y="264636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education.jpg"/>
          <p:cNvPicPr/>
          <p:nvPr/>
        </p:nvPicPr>
        <p:blipFill>
          <a:blip r:embed="rId5"/>
          <a:stretch/>
        </p:blipFill>
        <p:spPr>
          <a:xfrm>
            <a:off x="3255840" y="2676600"/>
            <a:ext cx="1432080" cy="2108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science.jpg"/>
          <p:cNvPicPr/>
          <p:nvPr/>
        </p:nvPicPr>
        <p:blipFill>
          <a:blip r:embed="rId6"/>
          <a:stretch/>
        </p:blipFill>
        <p:spPr>
          <a:xfrm>
            <a:off x="3724200" y="2792520"/>
            <a:ext cx="1683000" cy="24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Billede til free sample-templates.jpg"/>
          <p:cNvPicPr/>
          <p:nvPr/>
        </p:nvPicPr>
        <p:blipFill>
          <a:blip r:embed="rId7"/>
          <a:stretch/>
        </p:blipFill>
        <p:spPr>
          <a:xfrm>
            <a:off x="4254480" y="2987640"/>
            <a:ext cx="1897200" cy="280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music.jpg"/>
          <p:cNvPicPr/>
          <p:nvPr/>
        </p:nvPicPr>
        <p:blipFill>
          <a:blip r:embed="rId8"/>
          <a:stretch/>
        </p:blipFill>
        <p:spPr>
          <a:xfrm>
            <a:off x="4876920" y="3468600"/>
            <a:ext cx="2000160" cy="3011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buddism.jpg"/>
          <p:cNvPicPr/>
          <p:nvPr/>
        </p:nvPicPr>
        <p:blipFill>
          <a:blip r:embed="rId9"/>
          <a:stretch/>
        </p:blipFill>
        <p:spPr>
          <a:xfrm>
            <a:off x="5321160" y="4078440"/>
            <a:ext cx="2444760" cy="3644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54"/>
          <p:cNvSpPr/>
          <p:nvPr/>
        </p:nvSpPr>
        <p:spPr>
          <a:xfrm>
            <a:off x="1411200" y="590400"/>
            <a:ext cx="758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图片展示动态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1:58:37Z</dcterms:created>
  <dc:creator>LiZhenHua</dc:creator>
  <dc:description>三联素材-www.3lian.com</dc:description>
  <cp:keywords/>
  <dc:language>en-US</dc:language>
  <cp:lastModifiedBy>王玉清</cp:lastModifiedBy>
  <dcterms:modified xsi:type="dcterms:W3CDTF">2016-02-19T04:32:27Z</dcterms:modified>
  <cp:revision>36</cp:revision>
  <dc:subject/>
  <dc:title>三联素材-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