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C18-E27A-49C4-A7B7-91F33097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E4D-8E5F-4B1E-BCC6-21E9FDDF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469-BFF4-4A88-A8F2-572F7B7B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9AD-A9B7-4A63-B7FD-6C16570F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E69-595B-450F-B8B6-3A1D0481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460-0EAF-4B1D-9643-59DA0615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5C8-7B4F-4503-BC8C-30EBB2E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EE2-C2D4-463F-A731-B6C2452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70E-6587-46D0-BAAF-08FEE630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24D-7461-4505-9427-D1512E14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069-56DC-4A4C-A682-15C89DB3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3C8-6D58-40A8-9BCC-A8EC13A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4D0B-9991-4C2F-A76B-D21B40730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971440"/>
            <a:ext cx="835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通向成功的桥商务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5800" y="403848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38:20Z</dcterms:created>
  <dc:creator>ppt宝藏</dc:creator>
  <dc:description/>
  <dc:language>en-US</dc:language>
  <cp:lastModifiedBy>a</cp:lastModifiedBy>
  <dcterms:modified xsi:type="dcterms:W3CDTF">2015-07-25T06:58:42Z</dcterms:modified>
  <cp:revision>4</cp:revision>
  <dc:subject/>
  <dc:title>www.pptbz.com</dc:title>
</cp:coreProperties>
</file>