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audio1.wav" ContentType="audio/x-wav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28F-238C-4AC8-B8E3-321097E7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3680" y="415548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3A9-3CEE-451B-94E7-8DC77F9B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404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C03-8228-4E33-BE55-E3F60D13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1792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2180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368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41792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2180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A6E-E871-4DEB-AAE6-F9F3E1CF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8434-4BBD-4AD3-A70E-25C1D6EA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AF9B-E17D-40AB-A5FD-C8327BBC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CF38-372D-48FF-BF3E-055EAD78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E7EA-BE2D-4728-B3F0-94C92DA7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EAF8-D695-4316-8AFD-C215D7C0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619200"/>
            <a:ext cx="10362960" cy="73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508C-BD69-4669-92E9-BC0F0A6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8AA3-24F5-404F-ABEF-AE83B80E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B7A-7DBA-4836-A74D-43D0C902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2404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8C0D-A280-4EA5-8014-A635D76B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62E4-13D8-49DC-A41D-85DF296D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3680" y="415548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0729-A92F-42F3-B1E9-4A107DDC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2404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7FC5-099D-44C4-A8C8-D28DC332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1792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21800" y="236700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368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1792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21800" y="4155480"/>
            <a:ext cx="333684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071-6055-410C-AC0E-55BDC4F1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1BD-0B0D-4B47-A12F-6E43E1A5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24C-88E4-41A3-9905-2C74D342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EBB-2E3E-4A39-9F63-A0DB1B11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619200"/>
            <a:ext cx="10362960" cy="73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868-EE8C-43F5-890D-51CB79D1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93F-9870-45C6-8873-7DC2506E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34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040" y="415548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841-074E-4294-AAB7-A1FCB497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368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040" y="2367000"/>
            <a:ext cx="505728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3680" y="4155480"/>
            <a:ext cx="10363320" cy="16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6F5-CA5C-4996-B206-F9AA10EF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1040" y="1300680"/>
            <a:ext cx="8689680" cy="250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800" spc="-1" strike="noStrike" cap="all">
                <a:solidFill>
                  <a:srgbClr val="000000"/>
                </a:solidFill>
                <a:latin typeface="Tw Cen MT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678800" y="58831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914400" y="5883120"/>
            <a:ext cx="66718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10514160" y="5883120"/>
            <a:ext cx="763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41A1F6-EDE9-4D9F-BFBF-98BF16C8921D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Tw Cen M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10362960" cy="15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3600" spc="-1" strike="noStrike" cap="all">
                <a:solidFill>
                  <a:srgbClr val="000000"/>
                </a:solidFill>
                <a:latin typeface="Tw Cen M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3680" y="2367000"/>
            <a:ext cx="10363320" cy="34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 cap="all">
                <a:solidFill>
                  <a:srgbClr val="000000"/>
                </a:solidFill>
                <a:latin typeface="Tw Cen MT"/>
              </a:rPr>
              <a:t>单击此处编辑母版文本样式</a:t>
            </a:r>
            <a:endParaRPr b="0" lang="en-US" sz="2000" spc="-1" strike="noStrike" cap="all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 cap="all">
                <a:solidFill>
                  <a:srgbClr val="000000"/>
                </a:solidFill>
                <a:latin typeface="Tw Cen MT"/>
              </a:rPr>
              <a:t>第二级</a:t>
            </a:r>
            <a:endParaRPr b="0" lang="en-US" sz="1800" spc="-1" strike="noStrike" cap="all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 cap="all">
                <a:solidFill>
                  <a:srgbClr val="000000"/>
                </a:solidFill>
                <a:latin typeface="Tw Cen MT"/>
              </a:rPr>
              <a:t>第三级</a:t>
            </a:r>
            <a:endParaRPr b="0" lang="en-US" sz="1600" spc="-1" strike="noStrike" cap="all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00" spc="-1" strike="noStrike" cap="all">
                <a:solidFill>
                  <a:srgbClr val="000000"/>
                </a:solidFill>
                <a:latin typeface="Tw Cen MT"/>
              </a:rPr>
              <a:t>第四级</a:t>
            </a:r>
            <a:endParaRPr b="0" lang="en-US" sz="1400" spc="-1" strike="noStrike" cap="all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00" spc="-1" strike="noStrike" cap="all">
                <a:solidFill>
                  <a:srgbClr val="000000"/>
                </a:solidFill>
                <a:latin typeface="Tw Cen MT"/>
              </a:rPr>
              <a:t>第五级</a:t>
            </a:r>
            <a:endParaRPr b="0" lang="en-US" sz="1400" spc="-1" strike="noStrike" cap="all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0" y="58831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914400" y="5883120"/>
            <a:ext cx="66718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514160" y="5883120"/>
            <a:ext cx="763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EFA9DB-D5F9-4938-976A-AA3239417ADB}" type="slidenum">
              <a:rPr b="0" lang="en-US" sz="10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audio" Target="../media/audio1.wav"/><Relationship Id="rId3" Type="http://schemas.openxmlformats.org/officeDocument/2006/relationships/audio" Target="../media/audio1.wav"/><Relationship Id="rId4" Type="http://schemas.openxmlformats.org/officeDocument/2006/relationships/audio" Target="../media/audio1.wav"/><Relationship Id="rId5" Type="http://schemas.openxmlformats.org/officeDocument/2006/relationships/audio" Target="../media/audio1.wav"/><Relationship Id="rId6" Type="http://schemas.openxmlformats.org/officeDocument/2006/relationships/audio" Target="../media/audio1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3"/>
          <p:cNvGrpSpPr/>
          <p:nvPr/>
        </p:nvGrpSpPr>
        <p:grpSpPr>
          <a:xfrm>
            <a:off x="9782280" y="5715000"/>
            <a:ext cx="1598400" cy="502920"/>
            <a:chOff x="9782280" y="5715000"/>
            <a:chExt cx="1598400" cy="502920"/>
          </a:xfrm>
        </p:grpSpPr>
        <p:sp>
          <p:nvSpPr>
            <p:cNvPr id="87" name="[动画大师]_Chevron 4"/>
            <p:cNvSpPr/>
            <p:nvPr/>
          </p:nvSpPr>
          <p:spPr>
            <a:xfrm>
              <a:off x="978228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88" name="[动画大师]_Chevron 5"/>
            <p:cNvSpPr/>
            <p:nvPr/>
          </p:nvSpPr>
          <p:spPr>
            <a:xfrm>
              <a:off x="1004508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89" name="[动画大师]_Chevron 6"/>
            <p:cNvSpPr/>
            <p:nvPr/>
          </p:nvSpPr>
          <p:spPr>
            <a:xfrm>
              <a:off x="1030788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90" name="[动画大师]_Chevron 6"/>
            <p:cNvSpPr/>
            <p:nvPr/>
          </p:nvSpPr>
          <p:spPr>
            <a:xfrm>
              <a:off x="1057104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91" name="[动画大师]_Chevron 6"/>
            <p:cNvSpPr/>
            <p:nvPr/>
          </p:nvSpPr>
          <p:spPr>
            <a:xfrm>
              <a:off x="1083384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  <p:sp>
          <p:nvSpPr>
            <p:cNvPr id="92" name="[动画大师]_Chevron 6"/>
            <p:cNvSpPr/>
            <p:nvPr/>
          </p:nvSpPr>
          <p:spPr>
            <a:xfrm>
              <a:off x="11097000" y="5715000"/>
              <a:ext cx="283680" cy="50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lumMod val="65000"/>
              </a:schemeClr>
            </a:solidFill>
            <a:ln w="3492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softEdge rad="2556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w Cen MT"/>
                <a:ea typeface="宋体"/>
              </a:endParaRPr>
            </a:p>
          </p:txBody>
        </p:sp>
      </p:grpSp>
      <p:sp>
        <p:nvSpPr>
          <p:cNvPr id="93" name="[动画大师]_Chevron 4"/>
          <p:cNvSpPr/>
          <p:nvPr/>
        </p:nvSpPr>
        <p:spPr>
          <a:xfrm>
            <a:off x="977184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4" name="[动画大师]_Chevron 5"/>
          <p:cNvSpPr/>
          <p:nvPr/>
        </p:nvSpPr>
        <p:spPr>
          <a:xfrm>
            <a:off x="1003500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5" name="[动画大师]_Chevron 6"/>
          <p:cNvSpPr/>
          <p:nvPr/>
        </p:nvSpPr>
        <p:spPr>
          <a:xfrm>
            <a:off x="1029780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6" name="[动画大师]_Chevron 6"/>
          <p:cNvSpPr/>
          <p:nvPr/>
        </p:nvSpPr>
        <p:spPr>
          <a:xfrm>
            <a:off x="1056096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7" name="[动画大师]_Chevron 6"/>
          <p:cNvSpPr/>
          <p:nvPr/>
        </p:nvSpPr>
        <p:spPr>
          <a:xfrm>
            <a:off x="1082376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8" name="[动画大师]_Chevron 6"/>
          <p:cNvSpPr/>
          <p:nvPr/>
        </p:nvSpPr>
        <p:spPr>
          <a:xfrm>
            <a:off x="11103120" y="5715000"/>
            <a:ext cx="283680" cy="503640"/>
          </a:xfrm>
          <a:prstGeom prst="chevron">
            <a:avLst>
              <a:gd name="adj" fmla="val 50000"/>
            </a:avLst>
          </a:prstGeom>
          <a:solidFill>
            <a:srgbClr val="2e4fb8"/>
          </a:solidFill>
          <a:ln w="34925">
            <a:noFill/>
          </a:ln>
          <a:effectLst>
            <a:glow rad="50760">
              <a:srgbClr val="00b0f0">
                <a:alpha val="40000"/>
              </a:srgbClr>
            </a:glow>
            <a:innerShdw blurRad="127000">
              <a:srgbClr val="00b0f0">
                <a:alpha val="86000"/>
              </a:srgbClr>
            </a:innerShdw>
            <a:reflection algn="bl" blurRad="6350" dir="5400000" dist="101600" endA="275" endPos="40000" rotWithShape="0" stA="50000" sy="-100000"/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w Cen MT"/>
              <a:ea typeface="宋体"/>
            </a:endParaRPr>
          </a:p>
        </p:txBody>
      </p:sp>
      <p:sp>
        <p:nvSpPr>
          <p:cNvPr id="99" name="文本框 19"/>
          <p:cNvSpPr/>
          <p:nvPr/>
        </p:nvSpPr>
        <p:spPr>
          <a:xfrm>
            <a:off x="-6070680" y="2228760"/>
            <a:ext cx="4570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物流信息管理系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 rot="3721800">
            <a:off x="-1197000" y="2653920"/>
            <a:ext cx="1492560" cy="349560"/>
          </a:xfrm>
          <a:prstGeom prst="rect">
            <a:avLst/>
          </a:prstGeom>
          <a:solidFill>
            <a:schemeClr val="bg1">
              <a:alpha val="88000"/>
            </a:schemeClr>
          </a:solidFill>
          <a:ln>
            <a:noFill/>
          </a:ln>
          <a:effectLst>
            <a:softEdge rad="1522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  <a:ea typeface="宋体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131120" y="5694840"/>
            <a:ext cx="103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3159000" y="56840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楷体"/>
                <a:ea typeface="楷体"/>
              </a:rPr>
              <a:t>方志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4421160" y="56840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楷体"/>
                <a:ea typeface="楷体"/>
              </a:rPr>
              <a:t>赵昌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5610240" y="5684040"/>
            <a:ext cx="6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楷体"/>
                <a:ea typeface="楷体"/>
              </a:rPr>
              <a:t>陈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3715560" y="1521000"/>
            <a:ext cx="5586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Tw Cen MT"/>
                <a:ea typeface="宋体"/>
              </a:rPr>
              <a:t>物流信息管理系统通用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w Cen MT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restart="never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1000" restart="never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8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0" dur="1" restart="never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" dur="800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2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4" dur="1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600" restart="never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16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8" dur="1" restart="never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00" restart="never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0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2" dur="1" restart="never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200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4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26" dur="1" restart="never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1" restart="never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67826 0 E">
                                      <p:cBhvr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63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023 0 L 0.70883 0 E">
                                      <p:cBhvr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4551120" y="2266920"/>
            <a:ext cx="3088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>
              <a:lnSpc>
                <a:spcPct val="100000"/>
              </a:lnSpc>
            </a:pPr>
            <a:r>
              <a:rPr b="1" lang="zh-CN" sz="7200" spc="-1" strike="noStrike" cap="all">
                <a:solidFill>
                  <a:srgbClr val="3195ef"/>
                </a:solidFill>
                <a:latin typeface="微软雅黑"/>
                <a:ea typeface="微软雅黑"/>
              </a:rPr>
              <a:t>感 谢 观 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12192120" y="657000"/>
            <a:ext cx="2352240" cy="95256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-1818720" y="2519640"/>
            <a:ext cx="1818360" cy="1818360"/>
          </a:xfrm>
          <a:prstGeom prst="rect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  <a:ea typeface="宋体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-1818720" y="2519640"/>
            <a:ext cx="1818360" cy="1818360"/>
          </a:xfrm>
          <a:prstGeom prst="rect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  <a:ea typeface="宋体"/>
            </a:endParaRPr>
          </a:p>
        </p:txBody>
      </p:sp>
      <p:sp>
        <p:nvSpPr>
          <p:cNvPr id="110" name="椭圆 4"/>
          <p:cNvSpPr/>
          <p:nvPr/>
        </p:nvSpPr>
        <p:spPr>
          <a:xfrm>
            <a:off x="5191200" y="108576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" descr=""/>
          <p:cNvPicPr/>
          <p:nvPr/>
        </p:nvPicPr>
        <p:blipFill>
          <a:blip r:embed="rId1"/>
          <a:stretch/>
        </p:blipFill>
        <p:spPr>
          <a:xfrm>
            <a:off x="-1818720" y="2519640"/>
            <a:ext cx="1818360" cy="1818360"/>
          </a:xfrm>
          <a:prstGeom prst="rect">
            <a:avLst/>
          </a:prstGeom>
          <a:ln w="0">
            <a:noFill/>
          </a:ln>
        </p:spPr>
      </p:pic>
      <p:sp>
        <p:nvSpPr>
          <p:cNvPr id="112" name="椭圆 3"/>
          <p:cNvSpPr/>
          <p:nvPr/>
        </p:nvSpPr>
        <p:spPr>
          <a:xfrm>
            <a:off x="5191200" y="396180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2"/>
          <p:cNvSpPr/>
          <p:nvPr/>
        </p:nvSpPr>
        <p:spPr>
          <a:xfrm>
            <a:off x="5223600" y="108576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3"/>
          <p:cNvSpPr/>
          <p:nvPr/>
        </p:nvSpPr>
        <p:spPr>
          <a:xfrm>
            <a:off x="6760080" y="108576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4"/>
          <p:cNvSpPr/>
          <p:nvPr/>
        </p:nvSpPr>
        <p:spPr>
          <a:xfrm>
            <a:off x="5223600" y="396180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5"/>
          <p:cNvSpPr/>
          <p:nvPr/>
        </p:nvSpPr>
        <p:spPr>
          <a:xfrm>
            <a:off x="6760080" y="3961800"/>
            <a:ext cx="1818360" cy="1818360"/>
          </a:xfrm>
          <a:prstGeom prst="ellipse">
            <a:avLst/>
          </a:prstGeom>
          <a:solidFill>
            <a:srgbClr val="008bc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chemeClr val="lt1"/>
                </a:solidFill>
                <a:latin typeface="微软雅黑"/>
                <a:ea typeface="微软雅黑"/>
              </a:rPr>
              <a:t>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2.22222E-006 L -0.19179 2.22222E-006 E">
                                      <p:cBhvr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9179 2.22222E-006 L -0.19205 -0.09676 E">
                                      <p:cBhvr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6.25E-007 0 L 0.19024 0 E">
                                      <p:cBhvr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25E-007 0 L 0.57461 0 E">
                                      <p:cBhvr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25E-007 0 L 0.57461 0 E">
                                      <p:cBhvr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7461 0 L 0.57461 -0.20972 E">
                                      <p:cBhvr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7461 0 L 0.57461 0.21111 E">
                                      <p:cBhvr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6.25E-007 -2.22222E-006 L -0.17773 -2.22222E-006 E">
                                      <p:cBhvr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6.25E-007 4.81481E-006 L -0.17773 4.81481E-006 E">
                                      <p:cBhvr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by x="2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57461 0.21111 L 0.64961 0.21111 E">
                                      <p:cBhvr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</p:cBhvr>
                                      <p:by x="2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57461 -0.20972 L 0.64935 -0.20972 E">
                                      <p:cBhvr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6"/>
          <p:cNvSpPr/>
          <p:nvPr/>
        </p:nvSpPr>
        <p:spPr>
          <a:xfrm>
            <a:off x="-2505240" y="119844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基础信息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-2505240" y="21286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配送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-2505240" y="3059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仓库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-2505240" y="398952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-2505240" y="491976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客户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>
            <a:hlinkClick r:id="rId1" action="ppaction://hlinksldjump"/>
          </p:cNvPr>
          <p:cNvSpPr/>
          <p:nvPr/>
        </p:nvSpPr>
        <p:spPr>
          <a:xfrm>
            <a:off x="-2505240" y="1200240"/>
            <a:ext cx="2504880" cy="446040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功能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1">
            <a:hlinkClick r:id="rId2" action="ppaction://hlinksldjump"/>
          </p:cNvPr>
          <p:cNvSpPr/>
          <p:nvPr/>
        </p:nvSpPr>
        <p:spPr>
          <a:xfrm>
            <a:off x="1071576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2">
            <a:hlinkClick r:id="rId3" action="ppaction://hlinksldjump"/>
          </p:cNvPr>
          <p:cNvSpPr/>
          <p:nvPr/>
        </p:nvSpPr>
        <p:spPr>
          <a:xfrm>
            <a:off x="1006776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3">
            <a:hlinkClick r:id="rId4" action="ppaction://hlinksldjump"/>
          </p:cNvPr>
          <p:cNvSpPr/>
          <p:nvPr/>
        </p:nvSpPr>
        <p:spPr>
          <a:xfrm>
            <a:off x="942012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4">
            <a:hlinkClick r:id="rId5" action="ppaction://hlinksldjump"/>
          </p:cNvPr>
          <p:cNvSpPr/>
          <p:nvPr/>
        </p:nvSpPr>
        <p:spPr>
          <a:xfrm>
            <a:off x="877248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5">
            <a:hlinkClick r:id="rId6" action="ppaction://hlinksldjump"/>
          </p:cNvPr>
          <p:cNvSpPr/>
          <p:nvPr/>
        </p:nvSpPr>
        <p:spPr>
          <a:xfrm>
            <a:off x="8124840" y="6019920"/>
            <a:ext cx="475920" cy="475920"/>
          </a:xfrm>
          <a:prstGeom prst="ellipse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w Cen MT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7157880" y="5861160"/>
            <a:ext cx="4181040" cy="7934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  <a:ea typeface="宋体"/>
            </a:endParaRPr>
          </a:p>
        </p:txBody>
      </p:sp>
      <p:sp>
        <p:nvSpPr>
          <p:cNvPr id="129" name="五边形 16">
            <a:hlinkClick r:id="rId7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1.48148E-006 L 0.25 -1.48148E-006 E">
                                      <p:cBhvr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3.7037E-006 L 0.25 -3.7037E-006 E">
                                      <p:cBhvr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3.7037E-006 L 0.47057 -3.7037E-006 E">
                                      <p:cBhvr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7 3.7037E-006 L 1.20742 3.7037E-006 E">
                                      <p:cBhvr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7 1.85185E-006 L 1.20586 1.85185E-006 E">
                                      <p:cBhvr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7 0 L 1.20742 0 E">
                                      <p:cBhvr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8 -1.85185E-006 L 1.20742 -1.85185E-006 E">
                                      <p:cBhvr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7 -3.7037E-006 L 0.91054 -0.0787 E">
                                      <p:cBhvr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7 3.7037E-006 L 1.20586 3.7037E-006 E">
                                      <p:cBhvr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7 1.85185E-006 L 1.20742 1.85185E-006 E">
                                      <p:cBhvr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7 0 L 1.20586 0 E">
                                      <p:cBhvr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7 -3.7037E-006 L 1.20586 -3.7037E-006 E">
                                      <p:cBhvr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7 -1.85185E-006 L 0.91054 -0.21435 E">
                                      <p:cBhvr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8 3.7037E-006 L 1.20742 3.7037E-006 E">
                                      <p:cBhvr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8 1.85185E-006 L 1.20586 1.85185E-006 E">
                                      <p:cBhvr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8 -1.85185E-006 L 1.20742 -1.85185E-006 E">
                                      <p:cBhvr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8 -3.7037E-006 L 1.20586 -3.7037E-006 E">
                                      <p:cBhvr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7 0 L 0.91211 -0.34722 E">
                                      <p:cBhvr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8 3.7037E-006 L 1.20742 3.7037E-006 E">
                                      <p:cBhvr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8 0 L 1.20586 0 E">
                                      <p:cBhvr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8 -1.85185E-006 L 1.20898 -1.85185E-006 E">
                                      <p:cBhvr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8 -3.7037E-006 L 1.20742 -3.7037E-006 E">
                                      <p:cBhvr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7 1.85185E-006 L 0.90742 -0.48287 E">
                                      <p:cBhvr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2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delay="0" evt="onClick">
                    <p:tgtEl>
                      <p:spTgt spid="1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57 1.85185E-006 L 1.20586 1.85185E-006 E">
                                      <p:cBhvr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7057 0 L 1.20898 0 E">
                                      <p:cBhvr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7058 -1.85185E-006 L 1.20742 -1.85185E-006 E">
                                      <p:cBhvr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47058 -3.7037E-006 L 1.20742 -3.7037E-006 E">
                                      <p:cBhvr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47058 -5.0307E-017 L 0.91367 -0.6213 E">
                                      <p:cBhvr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35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25 -1.48148E-006 L 4.375E-006 -1.48148E-006 E">
                                      <p:cBhvr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基础信息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7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增加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连接符 33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33" name="直接连接符 34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34" name="矩形 35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显示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6"/>
          <p:cNvSpPr/>
          <p:nvPr/>
        </p:nvSpPr>
        <p:spPr>
          <a:xfrm>
            <a:off x="1792440" y="402444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删除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41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42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3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配送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边形 4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5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41" name="直接连接符 6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42" name="矩形 7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配送申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配送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1792440" y="402444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新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五边形 11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2040" y="63396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6bcfe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仓库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直接连接符 6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49" name="直接连接符 7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50" name="矩形 8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品入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品出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1792440" y="402444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品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1"/>
          <p:cNvSpPr/>
          <p:nvPr/>
        </p:nvSpPr>
        <p:spPr>
          <a:xfrm>
            <a:off x="5599080" y="402444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货品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五边形 12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五边形 13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直接连接符 6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58" name="直接连接符 7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59" name="矩形 8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权限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信息维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五边形 12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五边形 13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8601120" y="665280"/>
            <a:ext cx="2504880" cy="740880"/>
          </a:xfrm>
          <a:prstGeom prst="rect">
            <a:avLst/>
          </a:prstGeom>
          <a:solidFill>
            <a:srgbClr val="2fa3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客户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连接符 6"/>
          <p:cNvCxnSpPr/>
          <p:nvPr/>
        </p:nvCxnSpPr>
        <p:spPr>
          <a:xfrm>
            <a:off x="1136520" y="1790640"/>
            <a:ext cx="11055600" cy="36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cxnSp>
        <p:nvCxnSpPr>
          <p:cNvPr id="165" name="直接连接符 7"/>
          <p:cNvCxnSpPr/>
          <p:nvPr/>
        </p:nvCxnSpPr>
        <p:spPr>
          <a:xfrm>
            <a:off x="1136520" y="1790640"/>
            <a:ext cx="360" cy="4467600"/>
          </a:xfrm>
          <a:prstGeom prst="straightConnector1">
            <a:avLst/>
          </a:prstGeom>
          <a:ln>
            <a:solidFill>
              <a:srgbClr val="2fa3ee"/>
            </a:solidFill>
            <a:round/>
          </a:ln>
        </p:spPr>
      </p:cxnSp>
      <p:sp>
        <p:nvSpPr>
          <p:cNvPr id="166" name="矩形 8"/>
          <p:cNvSpPr/>
          <p:nvPr/>
        </p:nvSpPr>
        <p:spPr>
          <a:xfrm>
            <a:off x="179244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物流信息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5599080" y="2039760"/>
            <a:ext cx="3001680" cy="1388880"/>
          </a:xfrm>
          <a:prstGeom prst="rect">
            <a:avLst/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chemeClr val="lt1"/>
                </a:solidFill>
                <a:latin typeface="微软雅黑"/>
                <a:ea typeface="微软雅黑"/>
              </a:rPr>
              <a:t>运单信息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五边形 12">
            <a:hlinkClick r:id="rId1" action="ppaction://hlinksldjump"/>
          </p:cNvPr>
          <p:cNvSpPr/>
          <p:nvPr/>
        </p:nvSpPr>
        <p:spPr>
          <a:xfrm flipH="1">
            <a:off x="9279720" y="5985000"/>
            <a:ext cx="83484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rId2" action="ppaction://hlinksldjump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五边形 13">
            <a:hlinkClick r:id="rId3" action="ppaction://hlinksldjump"/>
          </p:cNvPr>
          <p:cNvSpPr/>
          <p:nvPr/>
        </p:nvSpPr>
        <p:spPr>
          <a:xfrm>
            <a:off x="11377440" y="5985000"/>
            <a:ext cx="775800" cy="545760"/>
          </a:xfrm>
          <a:prstGeom prst="homePlate">
            <a:avLst>
              <a:gd name="adj" fmla="val 50000"/>
            </a:avLst>
          </a:prstGeom>
          <a:solidFill>
            <a:srgbClr val="2fa3ee"/>
          </a:solidFill>
          <a:ln>
            <a:solidFill>
              <a:srgbClr val="2278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chemeClr val="lt1"/>
                </a:solidFill>
                <a:uFillTx/>
                <a:latin typeface="Tw Cen MT"/>
                <a:ea typeface="宋体"/>
                <a:hlinkClick r:id="" action="ppaction://hlinkshowjump?jump=lastslide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水滴">
  <a:themeElements>
    <a:clrScheme name="水滴">
      <a:dk1>
        <a:srgbClr val="000000"/>
      </a:dk1>
      <a:lt1>
        <a:srgbClr val="ffffff"/>
      </a:lt1>
      <a:dk2>
        <a:srgbClr val="355071"/>
      </a:dk2>
      <a:lt2>
        <a:srgbClr val="aabed7"/>
      </a:lt2>
      <a:accent1>
        <a:srgbClr val="2fa3ee"/>
      </a:accent1>
      <a:accent2>
        <a:srgbClr val="4bcaad"/>
      </a:accent2>
      <a:accent3>
        <a:srgbClr val="86c157"/>
      </a:accent3>
      <a:accent4>
        <a:srgbClr val="d99c3f"/>
      </a:accent4>
      <a:accent5>
        <a:srgbClr val="ce6633"/>
      </a:accent5>
      <a:accent6>
        <a:srgbClr val="a35dd1"/>
      </a:accent6>
      <a:hlink>
        <a:srgbClr val="56bcfe"/>
      </a:hlink>
      <a:folHlink>
        <a:srgbClr val="97c5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水滴">
  <a:themeElements>
    <a:clrScheme name="水滴">
      <a:dk1>
        <a:srgbClr val="000000"/>
      </a:dk1>
      <a:lt1>
        <a:srgbClr val="ffffff"/>
      </a:lt1>
      <a:dk2>
        <a:srgbClr val="355071"/>
      </a:dk2>
      <a:lt2>
        <a:srgbClr val="aabed7"/>
      </a:lt2>
      <a:accent1>
        <a:srgbClr val="2fa3ee"/>
      </a:accent1>
      <a:accent2>
        <a:srgbClr val="4bcaad"/>
      </a:accent2>
      <a:accent3>
        <a:srgbClr val="86c157"/>
      </a:accent3>
      <a:accent4>
        <a:srgbClr val="d99c3f"/>
      </a:accent4>
      <a:accent5>
        <a:srgbClr val="ce6633"/>
      </a:accent5>
      <a:accent6>
        <a:srgbClr val="a35dd1"/>
      </a:accent6>
      <a:hlink>
        <a:srgbClr val="56bcfe"/>
      </a:hlink>
      <a:folHlink>
        <a:srgbClr val="97c5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4033925[[fn=水滴]]</Template>
  <TotalTime>392</TotalTime>
  <Application>LibreOffice/7.4.7.2$Linux_X86_64 LibreOffice_project/40$Build-2</Application>
  <AppVersion>15.0000</AppVersion>
  <Words>120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7T05:04:42Z</dcterms:created>
  <dc:creator>方志鹏</dc:creator>
  <dc:description/>
  <dc:language>en-US</dc:language>
  <cp:lastModifiedBy>王玉清</cp:lastModifiedBy>
  <dcterms:modified xsi:type="dcterms:W3CDTF">2016-02-24T02:47:0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0</vt:r8>
  </property>
</Properties>
</file>