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AEC-203A-4E9A-B93D-ADF40E35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955-BC5C-4F6F-A145-63CB95D1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10B-0F0E-437A-A873-8F2E3BE4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7E6-8A59-46D1-811F-C7FFB07F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B1DCA-ED1C-4DED-8CD4-04C56A2D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8B5A8-5AD2-4999-B869-0CD4BDB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514F3-8315-4F79-9434-6EDBE1CA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C50ED-AAF5-4D6C-8340-C0D9FEF2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26C21-ED17-4230-ACAA-196AAA43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F2870-8B1C-4143-88A0-B787D25A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3281C-EF57-4B43-8488-C9D6E119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B5F-EE00-4236-9A59-77C5EDEF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C9243-9F67-459B-8ED5-6560885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41491-13C3-4250-941D-5A3BA20E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F393A-051A-4018-8F4B-9179E5EE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01C0B-76CD-4433-B705-1B4C5F9D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8B67D-43B2-4095-8207-6729DBF7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0D7-19A8-45F3-A598-316E93ED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1FB-99CD-4950-9565-8B85F36D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4DA-633A-4841-8C6E-7F04A003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6A1-4AE7-4303-8B23-0045E23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3A5-FD5C-4BA0-A3EF-6BEDD32A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E85-CA9B-4AAC-A465-EBF4A7D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82F-AFBD-4D10-AB96-A8B667D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7BBC-EAA6-4A86-8EEC-D90DAFA16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88B5-A2D8-47CF-9401-5CA3237F1F9B}" type="slidenum">
              <a:rPr b="0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1"/>
          <p:cNvPicPr/>
          <p:nvPr/>
        </p:nvPicPr>
        <p:blipFill>
          <a:blip r:embed="rId1"/>
          <a:stretch/>
        </p:blipFill>
        <p:spPr>
          <a:xfrm>
            <a:off x="581040" y="0"/>
            <a:ext cx="7572240" cy="762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4"/>
          <p:cNvPicPr/>
          <p:nvPr/>
        </p:nvPicPr>
        <p:blipFill>
          <a:blip r:embed="rId2"/>
          <a:srcRect l="34213" t="19002" r="53712" b="66004"/>
          <a:stretch/>
        </p:blipFill>
        <p:spPr>
          <a:xfrm>
            <a:off x="3171960" y="1447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5"/>
          <p:cNvPicPr/>
          <p:nvPr/>
        </p:nvPicPr>
        <p:blipFill>
          <a:blip r:embed="rId3"/>
          <a:srcRect l="56355" t="5000" r="25537" b="81001"/>
          <a:stretch/>
        </p:blipFill>
        <p:spPr>
          <a:xfrm>
            <a:off x="4848120" y="3808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6"/>
          <p:cNvPicPr/>
          <p:nvPr/>
        </p:nvPicPr>
        <p:blipFill>
          <a:blip r:embed="rId4"/>
          <a:srcRect l="47297" t="20001" r="35600" b="67003"/>
          <a:stretch/>
        </p:blipFill>
        <p:spPr>
          <a:xfrm>
            <a:off x="4162320" y="1523880"/>
            <a:ext cx="129564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7"/>
          <p:cNvPicPr/>
          <p:nvPr/>
        </p:nvPicPr>
        <p:blipFill>
          <a:blip r:embed="rId5"/>
          <a:srcRect l="53334" t="4001" r="14468" b="69002"/>
          <a:stretch/>
        </p:blipFill>
        <p:spPr>
          <a:xfrm>
            <a:off x="4619520" y="30492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8"/>
          <p:cNvPicPr/>
          <p:nvPr/>
        </p:nvPicPr>
        <p:blipFill>
          <a:blip r:embed="rId6"/>
          <a:srcRect l="53334" t="13002" r="0" b="41002"/>
          <a:stretch/>
        </p:blipFill>
        <p:spPr>
          <a:xfrm>
            <a:off x="4619520" y="990720"/>
            <a:ext cx="3533760" cy="350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9"/>
          <p:cNvPicPr/>
          <p:nvPr/>
        </p:nvPicPr>
        <p:blipFill>
          <a:blip r:embed="rId7"/>
          <a:srcRect l="11069" t="27000" r="26542" b="26001"/>
          <a:stretch/>
        </p:blipFill>
        <p:spPr>
          <a:xfrm>
            <a:off x="1419120" y="2057400"/>
            <a:ext cx="4724640" cy="358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10"/>
          <p:cNvPicPr/>
          <p:nvPr/>
        </p:nvPicPr>
        <p:blipFill>
          <a:blip r:embed="rId8"/>
          <a:srcRect l="48303" t="57003" r="0" b="0"/>
          <a:stretch/>
        </p:blipFill>
        <p:spPr>
          <a:xfrm>
            <a:off x="4238640" y="4343400"/>
            <a:ext cx="391464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2"/>
          <p:cNvPicPr/>
          <p:nvPr/>
        </p:nvPicPr>
        <p:blipFill>
          <a:blip r:embed="rId9"/>
          <a:srcRect l="7043" t="0" r="39623" b="91002"/>
          <a:stretch/>
        </p:blipFill>
        <p:spPr>
          <a:xfrm>
            <a:off x="1114560" y="0"/>
            <a:ext cx="403848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3"/>
          <p:cNvPicPr/>
          <p:nvPr/>
        </p:nvPicPr>
        <p:blipFill>
          <a:blip r:embed="rId10"/>
          <a:srcRect l="0" t="19002" r="73839" b="41002"/>
          <a:stretch/>
        </p:blipFill>
        <p:spPr>
          <a:xfrm>
            <a:off x="581040" y="1447920"/>
            <a:ext cx="1981080" cy="3047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蝴蝶"/>
          <p:cNvPicPr/>
          <p:nvPr/>
        </p:nvPicPr>
        <p:blipFill>
          <a:blip r:embed="rId11"/>
          <a:srcRect l="68429" t="32001" r="13458" b="59001"/>
          <a:stretch/>
        </p:blipFill>
        <p:spPr>
          <a:xfrm rot="17696400">
            <a:off x="7009920" y="8380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蝴蝶"/>
          <p:cNvPicPr/>
          <p:nvPr/>
        </p:nvPicPr>
        <p:blipFill>
          <a:blip r:embed="rId12"/>
          <a:srcRect l="68429" t="32001" r="13458" b="59001"/>
          <a:stretch/>
        </p:blipFill>
        <p:spPr>
          <a:xfrm rot="2917200">
            <a:off x="1409400" y="4991400"/>
            <a:ext cx="1067040" cy="53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蝴蝶"/>
          <p:cNvPicPr/>
          <p:nvPr/>
        </p:nvPicPr>
        <p:blipFill>
          <a:blip r:embed="rId13"/>
          <a:srcRect l="68429" t="32001" r="13458" b="59001"/>
          <a:stretch/>
        </p:blipFill>
        <p:spPr>
          <a:xfrm rot="21272400">
            <a:off x="2514240" y="510516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95" name="矩形 1"/>
          <p:cNvSpPr/>
          <p:nvPr/>
        </p:nvSpPr>
        <p:spPr>
          <a:xfrm>
            <a:off x="2094480" y="18399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唯美花藤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PPT</a:t>
            </a:r>
            <a:r>
              <a:rPr b="0" lang="ko-KR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4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7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3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7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752480" y="2057400"/>
            <a:ext cx="5648400" cy="644400"/>
            <a:chOff x="1752480" y="2057400"/>
            <a:chExt cx="5648400" cy="644400"/>
          </a:xfrm>
        </p:grpSpPr>
        <p:sp>
          <p:nvSpPr>
            <p:cNvPr id="99" name="AutoShape 5"/>
            <p:cNvSpPr/>
            <p:nvPr/>
          </p:nvSpPr>
          <p:spPr>
            <a:xfrm>
              <a:off x="1752480" y="205740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2117520" y="2178000"/>
              <a:ext cx="4910400" cy="4190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1. Int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7"/>
          <p:cNvGrpSpPr/>
          <p:nvPr/>
        </p:nvGrpSpPr>
        <p:grpSpPr>
          <a:xfrm>
            <a:off x="1752480" y="2895480"/>
            <a:ext cx="5648400" cy="644400"/>
            <a:chOff x="1752480" y="2895480"/>
            <a:chExt cx="5648400" cy="644400"/>
          </a:xfrm>
        </p:grpSpPr>
        <p:sp>
          <p:nvSpPr>
            <p:cNvPr id="102" name="AutoShape 18"/>
            <p:cNvSpPr/>
            <p:nvPr/>
          </p:nvSpPr>
          <p:spPr>
            <a:xfrm>
              <a:off x="1752480" y="289548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9"/>
            <p:cNvSpPr/>
            <p:nvPr/>
          </p:nvSpPr>
          <p:spPr>
            <a:xfrm>
              <a:off x="2117520" y="3016080"/>
              <a:ext cx="4910400" cy="4190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2. Strate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0"/>
          <p:cNvGrpSpPr/>
          <p:nvPr/>
        </p:nvGrpSpPr>
        <p:grpSpPr>
          <a:xfrm>
            <a:off x="1752480" y="3733920"/>
            <a:ext cx="5648400" cy="644400"/>
            <a:chOff x="1752480" y="3733920"/>
            <a:chExt cx="5648400" cy="644400"/>
          </a:xfrm>
        </p:grpSpPr>
        <p:sp>
          <p:nvSpPr>
            <p:cNvPr id="105" name="AutoShape 21"/>
            <p:cNvSpPr/>
            <p:nvPr/>
          </p:nvSpPr>
          <p:spPr>
            <a:xfrm>
              <a:off x="1752480" y="373392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2"/>
            <p:cNvSpPr/>
            <p:nvPr/>
          </p:nvSpPr>
          <p:spPr>
            <a:xfrm>
              <a:off x="2117520" y="3854520"/>
              <a:ext cx="4910400" cy="4190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3. Challenges forw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"/>
          <p:cNvGrpSpPr/>
          <p:nvPr/>
        </p:nvGrpSpPr>
        <p:grpSpPr>
          <a:xfrm>
            <a:off x="1752480" y="4572000"/>
            <a:ext cx="5648400" cy="644400"/>
            <a:chOff x="1752480" y="4572000"/>
            <a:chExt cx="5648400" cy="644400"/>
          </a:xfrm>
        </p:grpSpPr>
        <p:sp>
          <p:nvSpPr>
            <p:cNvPr id="108" name="AutoShape 24"/>
            <p:cNvSpPr/>
            <p:nvPr/>
          </p:nvSpPr>
          <p:spPr>
            <a:xfrm>
              <a:off x="1752480" y="457200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2117520" y="4692600"/>
              <a:ext cx="4910400" cy="4190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4. Conclu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Column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049400" y="1782720"/>
            <a:ext cx="7047000" cy="3487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122560" y="2475000"/>
            <a:ext cx="5843520" cy="265896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371600" y="20574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038480" y="35812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.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Column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762120" y="2286000"/>
            <a:ext cx="7618320" cy="1338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2251080" y="2405160"/>
            <a:ext cx="6016680" cy="109692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803160" y="232236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.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762120" y="3809880"/>
            <a:ext cx="7618320" cy="133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2251080" y="3929040"/>
            <a:ext cx="6016680" cy="109692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803160" y="38466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.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362320" y="1752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olumn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813280" y="3573360"/>
            <a:ext cx="319320" cy="490680"/>
          </a:xfrm>
          <a:prstGeom prst="rightArrow">
            <a:avLst>
              <a:gd name="adj1" fmla="val 45981"/>
              <a:gd name="adj2" fmla="val 4629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3036960" y="3573360"/>
            <a:ext cx="318960" cy="490680"/>
          </a:xfrm>
          <a:prstGeom prst="rightArrow">
            <a:avLst>
              <a:gd name="adj1" fmla="val 45981"/>
              <a:gd name="adj2" fmla="val 4629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4"/>
          <p:cNvGrpSpPr/>
          <p:nvPr/>
        </p:nvGrpSpPr>
        <p:grpSpPr>
          <a:xfrm>
            <a:off x="665280" y="2341440"/>
            <a:ext cx="2241360" cy="2994120"/>
            <a:chOff x="665280" y="2341440"/>
            <a:chExt cx="2241360" cy="2994120"/>
          </a:xfrm>
        </p:grpSpPr>
        <p:sp>
          <p:nvSpPr>
            <p:cNvPr id="127" name="AutoShape 6"/>
            <p:cNvSpPr/>
            <p:nvPr/>
          </p:nvSpPr>
          <p:spPr>
            <a:xfrm>
              <a:off x="665280" y="234144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787320" y="2828880"/>
              <a:ext cx="1996560" cy="2390760"/>
            </a:xfrm>
            <a:custGeom>
              <a:avLst/>
              <a:gdLst>
                <a:gd name="textAreaLeft" fmla="*/ 97200 w 1996560"/>
                <a:gd name="textAreaRight" fmla="*/ 1899360 w 199656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64">
                  <a:moveTo>
                    <a:pt x="3600" y="0"/>
                  </a:moveTo>
                  <a:arcTo wR="3600" hR="3600" stAng="16200000" swAng="-5400000"/>
                  <a:lnTo>
                    <a:pt x="0" y="22264"/>
                  </a:lnTo>
                  <a:arcTo wR="3600" hR="3600" stAng="10800000" swAng="-5400000"/>
                  <a:lnTo>
                    <a:pt x="18000" y="258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761760" y="2438280"/>
              <a:ext cx="2057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1.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3"/>
          <p:cNvGrpSpPr/>
          <p:nvPr/>
        </p:nvGrpSpPr>
        <p:grpSpPr>
          <a:xfrm>
            <a:off x="3436920" y="2347920"/>
            <a:ext cx="2241720" cy="2994120"/>
            <a:chOff x="3436920" y="2347920"/>
            <a:chExt cx="2241720" cy="2994120"/>
          </a:xfrm>
        </p:grpSpPr>
        <p:sp>
          <p:nvSpPr>
            <p:cNvPr id="131" name="AutoShape 10"/>
            <p:cNvSpPr/>
            <p:nvPr/>
          </p:nvSpPr>
          <p:spPr>
            <a:xfrm>
              <a:off x="3436920" y="2347920"/>
              <a:ext cx="2241720" cy="2994120"/>
            </a:xfrm>
            <a:custGeom>
              <a:avLst/>
              <a:gdLst>
                <a:gd name="textAreaLeft" fmla="*/ 109440 w 2241720"/>
                <a:gd name="textAreaRight" fmla="*/ 2132280 w 2241720"/>
                <a:gd name="textAreaTop" fmla="*/ 109440 h 2994120"/>
                <a:gd name="textAreaBottom" fmla="*/ 2884680 h 29941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>
              <a:off x="3559320" y="283536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9"/>
            <p:cNvSpPr/>
            <p:nvPr/>
          </p:nvSpPr>
          <p:spPr>
            <a:xfrm>
              <a:off x="3505320" y="2438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2.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2"/>
          <p:cNvGrpSpPr/>
          <p:nvPr/>
        </p:nvGrpSpPr>
        <p:grpSpPr>
          <a:xfrm>
            <a:off x="6248520" y="2347920"/>
            <a:ext cx="2241360" cy="2994120"/>
            <a:chOff x="6248520" y="2347920"/>
            <a:chExt cx="2241360" cy="2994120"/>
          </a:xfrm>
        </p:grpSpPr>
        <p:sp>
          <p:nvSpPr>
            <p:cNvPr id="135" name="AutoShape 14"/>
            <p:cNvSpPr/>
            <p:nvPr/>
          </p:nvSpPr>
          <p:spPr>
            <a:xfrm>
              <a:off x="6248520" y="234792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5"/>
            <p:cNvSpPr/>
            <p:nvPr/>
          </p:nvSpPr>
          <p:spPr>
            <a:xfrm>
              <a:off x="6400440" y="281952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0"/>
            <p:cNvSpPr/>
            <p:nvPr/>
          </p:nvSpPr>
          <p:spPr>
            <a:xfrm>
              <a:off x="6324480" y="2438280"/>
              <a:ext cx="2057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3.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21"/>
          <p:cNvSpPr/>
          <p:nvPr/>
        </p:nvSpPr>
        <p:spPr>
          <a:xfrm>
            <a:off x="2362320" y="1828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8600" y="6294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2133720" y="1676520"/>
          <a:ext cx="624816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76520"/>
                    <a:ext cx="62481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7:44:08Z</dcterms:modified>
  <cp:revision>1</cp:revision>
  <dc:subject/>
  <dc:title>PowerPoint 演示文稿</dc:title>
</cp:coreProperties>
</file>