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A4A8B-857C-4F0F-B788-4C88AC9C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o replace this picture, just select and delete it. Then use the Insert Picture icon to replace it with one of your ow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FF841E-E9EA-46E2-AAAB-4C4D638F8F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A9AE08-49AA-4FBE-93D9-7EDE04652D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4" name="Group 14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5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23" name="Group 16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24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7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8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9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0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1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2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3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4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5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6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7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8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3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4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5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6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7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8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3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4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5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6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7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8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9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0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1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2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3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4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5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6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7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8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9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0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1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2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3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4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5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6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7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8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9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0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1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2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3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4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5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6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7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8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9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0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1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2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3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4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5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6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7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8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9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0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1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2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3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4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5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6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7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8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9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0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1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2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3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4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5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6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7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8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9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0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1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2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3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4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5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6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7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8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9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0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1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2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3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4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5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6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7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8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9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60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61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162" name="Rectangle 310"/>
          <p:cNvSpPr/>
          <p:nvPr/>
        </p:nvSpPr>
        <p:spPr>
          <a:xfrm>
            <a:off x="1440" y="1828800"/>
            <a:ext cx="12188520" cy="3200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163" name="Straight Connector 311"/>
          <p:cNvCxnSpPr/>
          <p:nvPr/>
        </p:nvCxnSpPr>
        <p:spPr>
          <a:xfrm>
            <a:off x="1440" y="18288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164" name="Straight Connector 312"/>
          <p:cNvCxnSpPr/>
          <p:nvPr/>
        </p:nvCxnSpPr>
        <p:spPr>
          <a:xfrm>
            <a:off x="1440" y="50292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-216720" y="-1101240"/>
            <a:ext cx="13624560" cy="8194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2040480"/>
            <a:ext cx="6192360" cy="164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565a5c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Freeform 331"/>
          <p:cNvSpPr/>
          <p:nvPr/>
        </p:nvSpPr>
        <p:spPr>
          <a:xfrm>
            <a:off x="7846920" y="0"/>
            <a:ext cx="4341600" cy="6857640"/>
          </a:xfrm>
          <a:custGeom>
            <a:avLst/>
            <a:gdLst>
              <a:gd name="textAreaLeft" fmla="*/ 0 w 4341600"/>
              <a:gd name="textAreaRight" fmla="*/ 4341960 w 4341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4341813" h="6857999">
                <a:moveTo>
                  <a:pt x="360311" y="0"/>
                </a:moveTo>
                <a:lnTo>
                  <a:pt x="4341813" y="0"/>
                </a:lnTo>
                <a:lnTo>
                  <a:pt x="4341813" y="6857999"/>
                </a:lnTo>
                <a:lnTo>
                  <a:pt x="358165" y="6857999"/>
                </a:lnTo>
                <a:cubicBezTo>
                  <a:pt x="357915" y="6857790"/>
                  <a:pt x="357699" y="6857550"/>
                  <a:pt x="357483" y="6857309"/>
                </a:cubicBezTo>
                <a:cubicBezTo>
                  <a:pt x="188317" y="6665845"/>
                  <a:pt x="95755" y="6394603"/>
                  <a:pt x="95755" y="6072305"/>
                </a:cubicBezTo>
                <a:cubicBezTo>
                  <a:pt x="95755" y="5982955"/>
                  <a:pt x="102138" y="5893604"/>
                  <a:pt x="118097" y="5801063"/>
                </a:cubicBezTo>
                <a:cubicBezTo>
                  <a:pt x="137248" y="5657465"/>
                  <a:pt x="181933" y="5478765"/>
                  <a:pt x="226619" y="5287300"/>
                </a:cubicBezTo>
                <a:cubicBezTo>
                  <a:pt x="315989" y="4920327"/>
                  <a:pt x="418127" y="4502296"/>
                  <a:pt x="418127" y="4148087"/>
                </a:cubicBezTo>
                <a:cubicBezTo>
                  <a:pt x="418127" y="3848126"/>
                  <a:pt x="344716" y="3653470"/>
                  <a:pt x="194701" y="3557738"/>
                </a:cubicBezTo>
                <a:cubicBezTo>
                  <a:pt x="0" y="3430095"/>
                  <a:pt x="0" y="3430095"/>
                  <a:pt x="0" y="3430095"/>
                </a:cubicBezTo>
                <a:lnTo>
                  <a:pt x="194701" y="3302452"/>
                </a:lnTo>
                <a:cubicBezTo>
                  <a:pt x="344716" y="3203528"/>
                  <a:pt x="418127" y="3012064"/>
                  <a:pt x="418127" y="2712103"/>
                </a:cubicBezTo>
                <a:cubicBezTo>
                  <a:pt x="418127" y="2357894"/>
                  <a:pt x="315989" y="1939863"/>
                  <a:pt x="226619" y="1569698"/>
                </a:cubicBezTo>
                <a:cubicBezTo>
                  <a:pt x="181933" y="1381425"/>
                  <a:pt x="137248" y="1199533"/>
                  <a:pt x="118097" y="1059126"/>
                </a:cubicBezTo>
                <a:cubicBezTo>
                  <a:pt x="102138" y="966585"/>
                  <a:pt x="95755" y="874044"/>
                  <a:pt x="95755" y="787885"/>
                </a:cubicBezTo>
                <a:cubicBezTo>
                  <a:pt x="95755" y="465586"/>
                  <a:pt x="188317" y="194345"/>
                  <a:pt x="357483" y="288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Freeform 332"/>
          <p:cNvSpPr/>
          <p:nvPr/>
        </p:nvSpPr>
        <p:spPr>
          <a:xfrm>
            <a:off x="8082360" y="-1440"/>
            <a:ext cx="4123440" cy="6859080"/>
          </a:xfrm>
          <a:custGeom>
            <a:avLst/>
            <a:gdLst>
              <a:gd name="textAreaLeft" fmla="*/ 0 w 4123440"/>
              <a:gd name="textAreaRight" fmla="*/ 4123800 w 4123440"/>
              <a:gd name="textAreaTop" fmla="*/ 0 h 6859080"/>
              <a:gd name="textAreaBottom" fmla="*/ 6859440 h 6859080"/>
            </a:gdLst>
            <a:ahLst/>
            <a:rect l="textAreaLeft" t="textAreaTop" r="textAreaRight" b="textAreaBottom"/>
            <a:pathLst>
              <a:path w="4123825" h="6859588">
                <a:moveTo>
                  <a:pt x="339164" y="0"/>
                </a:moveTo>
                <a:lnTo>
                  <a:pt x="4123825" y="0"/>
                </a:lnTo>
                <a:lnTo>
                  <a:pt x="4123825" y="6859588"/>
                </a:lnTo>
                <a:lnTo>
                  <a:pt x="337195" y="6859588"/>
                </a:lnTo>
                <a:lnTo>
                  <a:pt x="308262" y="6836249"/>
                </a:lnTo>
                <a:cubicBezTo>
                  <a:pt x="279371" y="6810237"/>
                  <a:pt x="251005" y="6781885"/>
                  <a:pt x="223173" y="6751035"/>
                </a:cubicBezTo>
                <a:cubicBezTo>
                  <a:pt x="21642" y="6526966"/>
                  <a:pt x="-33617" y="6176249"/>
                  <a:pt x="18391" y="5819037"/>
                </a:cubicBezTo>
                <a:cubicBezTo>
                  <a:pt x="112656" y="5198787"/>
                  <a:pt x="642487" y="3831640"/>
                  <a:pt x="28143" y="3432212"/>
                </a:cubicBezTo>
                <a:cubicBezTo>
                  <a:pt x="642487" y="3032784"/>
                  <a:pt x="112656" y="1662389"/>
                  <a:pt x="18391" y="1042140"/>
                </a:cubicBezTo>
                <a:cubicBezTo>
                  <a:pt x="-33617" y="684928"/>
                  <a:pt x="21642" y="334210"/>
                  <a:pt x="223173" y="110141"/>
                </a:cubicBezTo>
                <a:cubicBezTo>
                  <a:pt x="251006" y="79291"/>
                  <a:pt x="279371" y="50940"/>
                  <a:pt x="308262" y="24928"/>
                </a:cubicBezTo>
                <a:close/>
              </a:path>
            </a:pathLst>
          </a:custGeom>
          <a:solidFill>
            <a:schemeClr val="tx1"/>
          </a:solidFill>
          <a:ln w="5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117640" y="-1440"/>
            <a:ext cx="4088160" cy="6859080"/>
          </a:xfrm>
          <a:prstGeom prst="rect">
            <a:avLst/>
          </a:prstGeom>
          <a:solidFill>
            <a:srgbClr val="f9d9da"/>
          </a:solidFill>
          <a:ln w="0">
            <a:noFill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209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210" name="Group 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211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7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229" name="Group 2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230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3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4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3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3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4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7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8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0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8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1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5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6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7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8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0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0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1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0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68" name="Rectangle 164"/>
          <p:cNvSpPr/>
          <p:nvPr/>
        </p:nvSpPr>
        <p:spPr>
          <a:xfrm>
            <a:off x="1440" y="0"/>
            <a:ext cx="12188520" cy="18284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69" name="Straight Connector 165"/>
          <p:cNvCxnSpPr/>
          <p:nvPr/>
        </p:nvCxnSpPr>
        <p:spPr>
          <a:xfrm>
            <a:off x="1440" y="18288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370" name="Rectangle 166"/>
          <p:cNvSpPr/>
          <p:nvPr/>
        </p:nvSpPr>
        <p:spPr>
          <a:xfrm>
            <a:off x="1440" y="5029200"/>
            <a:ext cx="12188520" cy="18284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71" name="Straight Connector 167"/>
          <p:cNvCxnSpPr/>
          <p:nvPr/>
        </p:nvCxnSpPr>
        <p:spPr>
          <a:xfrm>
            <a:off x="1440" y="50292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372" name="Freeform 169"/>
          <p:cNvSpPr/>
          <p:nvPr/>
        </p:nvSpPr>
        <p:spPr>
          <a:xfrm>
            <a:off x="1397160" y="531720"/>
            <a:ext cx="3738240" cy="5793840"/>
          </a:xfrm>
          <a:custGeom>
            <a:avLst/>
            <a:gdLst>
              <a:gd name="textAreaLeft" fmla="*/ 0 w 3738240"/>
              <a:gd name="textAreaRight" fmla="*/ 3738600 w 3738240"/>
              <a:gd name="textAreaTop" fmla="*/ 0 h 5793840"/>
              <a:gd name="textAreaBottom" fmla="*/ 5794200 h 57938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Freeform 173"/>
          <p:cNvSpPr/>
          <p:nvPr/>
        </p:nvSpPr>
        <p:spPr>
          <a:xfrm rot="5400000">
            <a:off x="6438240" y="584640"/>
            <a:ext cx="4051080" cy="5687640"/>
          </a:xfrm>
          <a:custGeom>
            <a:avLst/>
            <a:gdLst>
              <a:gd name="textAreaLeft" fmla="*/ 0 w 4051080"/>
              <a:gd name="textAreaRight" fmla="*/ 4051440 w 4051080"/>
              <a:gd name="textAreaTop" fmla="*/ 0 h 5687640"/>
              <a:gd name="textAreaBottom" fmla="*/ 5688000 h 5687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095880" y="5599080"/>
            <a:ext cx="480024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612440" y="876240"/>
            <a:ext cx="3308040" cy="510516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5940000" y="1624680"/>
            <a:ext cx="5047200" cy="36086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5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6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17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418" name="Rectangle 5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19" name="Straight Connector 6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1" name="Freeform 8"/>
          <p:cNvSpPr/>
          <p:nvPr/>
        </p:nvSpPr>
        <p:spPr>
          <a:xfrm>
            <a:off x="4743360" y="2016360"/>
            <a:ext cx="2742840" cy="390564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3905640"/>
              <a:gd name="textAreaBottom" fmla="*/ 3906000 h 3905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01400" y="2251440"/>
            <a:ext cx="2427120" cy="3435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3" name="Freeform 11"/>
          <p:cNvSpPr/>
          <p:nvPr/>
        </p:nvSpPr>
        <p:spPr>
          <a:xfrm rot="5400000">
            <a:off x="8499600" y="1989360"/>
            <a:ext cx="2779200" cy="3902400"/>
          </a:xfrm>
          <a:custGeom>
            <a:avLst/>
            <a:gdLst>
              <a:gd name="textAreaLeft" fmla="*/ 0 w 2779200"/>
              <a:gd name="textAreaRight" fmla="*/ 2779560 w 2779200"/>
              <a:gd name="textAreaTop" fmla="*/ 0 h 3902400"/>
              <a:gd name="textAreaBottom" fmla="*/ 3902760 h 390240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body"/>
          </p:nvPr>
        </p:nvSpPr>
        <p:spPr>
          <a:xfrm>
            <a:off x="8172720" y="2714040"/>
            <a:ext cx="3432240" cy="2454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5" name="Freeform 14"/>
          <p:cNvSpPr/>
          <p:nvPr/>
        </p:nvSpPr>
        <p:spPr>
          <a:xfrm rot="5400000">
            <a:off x="993960" y="1989360"/>
            <a:ext cx="2779200" cy="3902400"/>
          </a:xfrm>
          <a:custGeom>
            <a:avLst/>
            <a:gdLst>
              <a:gd name="textAreaLeft" fmla="*/ 0 w 2779200"/>
              <a:gd name="textAreaRight" fmla="*/ 2779560 w 2779200"/>
              <a:gd name="textAreaTop" fmla="*/ 0 h 3902400"/>
              <a:gd name="textAreaBottom" fmla="*/ 3902760 h 390240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body"/>
          </p:nvPr>
        </p:nvSpPr>
        <p:spPr>
          <a:xfrm>
            <a:off x="667080" y="2714040"/>
            <a:ext cx="3432240" cy="2454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77148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 type="body"/>
          </p:nvPr>
        </p:nvSpPr>
        <p:spPr>
          <a:xfrm>
            <a:off x="828900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 type="body"/>
          </p:nvPr>
        </p:nvSpPr>
        <p:spPr>
          <a:xfrm>
            <a:off x="4495680" y="5974200"/>
            <a:ext cx="3200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69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470" name="Group 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471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3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4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5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9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0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4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5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6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489" name="Group 2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490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1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2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3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4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5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6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7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8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9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0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1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2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4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5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6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7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8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9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0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1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2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3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4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5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6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7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8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9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0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1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2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3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4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5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6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7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8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9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0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1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2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3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4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5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6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7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8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9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0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1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2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3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4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5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6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7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8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9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0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1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2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3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4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5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6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7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8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9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0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1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2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3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4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5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6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7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8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9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0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1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2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3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4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5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6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7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8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9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0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1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2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3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4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5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6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7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8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9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0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1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2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3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4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5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6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7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8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9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0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1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2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3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4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5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6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7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8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9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0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1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2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3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4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5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6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7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8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9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0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1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2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3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4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5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6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7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628" name="Freeform 170"/>
          <p:cNvSpPr/>
          <p:nvPr/>
        </p:nvSpPr>
        <p:spPr>
          <a:xfrm>
            <a:off x="435240" y="676440"/>
            <a:ext cx="3654360" cy="5505120"/>
          </a:xfrm>
          <a:custGeom>
            <a:avLst/>
            <a:gdLst>
              <a:gd name="textAreaLeft" fmla="*/ 0 w 3654360"/>
              <a:gd name="textAreaRight" fmla="*/ 3654720 w 3654360"/>
              <a:gd name="textAreaTop" fmla="*/ 0 h 5505120"/>
              <a:gd name="textAreaBottom" fmla="*/ 5505480 h 550512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624240" y="975960"/>
            <a:ext cx="3276360" cy="490608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Freeform 176"/>
          <p:cNvSpPr/>
          <p:nvPr/>
        </p:nvSpPr>
        <p:spPr>
          <a:xfrm rot="5400000">
            <a:off x="4783320" y="185040"/>
            <a:ext cx="2666160" cy="3743640"/>
          </a:xfrm>
          <a:custGeom>
            <a:avLst/>
            <a:gdLst>
              <a:gd name="textAreaLeft" fmla="*/ 0 w 2666160"/>
              <a:gd name="textAreaRight" fmla="*/ 2666520 w 266616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469760" y="880200"/>
            <a:ext cx="3292560" cy="23540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2" name="Freeform 179"/>
          <p:cNvSpPr/>
          <p:nvPr/>
        </p:nvSpPr>
        <p:spPr>
          <a:xfrm rot="5400000">
            <a:off x="4783320" y="2979360"/>
            <a:ext cx="2666160" cy="3743640"/>
          </a:xfrm>
          <a:custGeom>
            <a:avLst/>
            <a:gdLst>
              <a:gd name="textAreaLeft" fmla="*/ 0 w 2666160"/>
              <a:gd name="textAreaRight" fmla="*/ 2666520 w 266616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body"/>
          </p:nvPr>
        </p:nvSpPr>
        <p:spPr>
          <a:xfrm>
            <a:off x="4469760" y="3674160"/>
            <a:ext cx="3292560" cy="23540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4" name="Freeform 182"/>
          <p:cNvSpPr/>
          <p:nvPr/>
        </p:nvSpPr>
        <p:spPr>
          <a:xfrm>
            <a:off x="8118720" y="676440"/>
            <a:ext cx="3654360" cy="5505120"/>
          </a:xfrm>
          <a:custGeom>
            <a:avLst/>
            <a:gdLst>
              <a:gd name="textAreaLeft" fmla="*/ 0 w 3654360"/>
              <a:gd name="textAreaRight" fmla="*/ 3654720 w 3654360"/>
              <a:gd name="textAreaTop" fmla="*/ 0 h 5505120"/>
              <a:gd name="textAreaBottom" fmla="*/ 5505480 h 550512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8307720" y="975960"/>
            <a:ext cx="3276360" cy="490608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4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5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676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677" name="Freeform 26"/>
          <p:cNvSpPr/>
          <p:nvPr/>
        </p:nvSpPr>
        <p:spPr>
          <a:xfrm flipH="1">
            <a:off x="4624920" y="4229280"/>
            <a:ext cx="2026800" cy="2628720"/>
          </a:xfrm>
          <a:custGeom>
            <a:avLst/>
            <a:gdLst>
              <a:gd name="textAreaLeft" fmla="*/ 360 w 2026800"/>
              <a:gd name="textAreaRight" fmla="*/ 2027520 w 202680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2027074" h="2628900">
                <a:moveTo>
                  <a:pt x="920309" y="0"/>
                </a:moveTo>
                <a:cubicBezTo>
                  <a:pt x="912226" y="0"/>
                  <a:pt x="900100" y="0"/>
                  <a:pt x="887974" y="0"/>
                </a:cubicBezTo>
                <a:cubicBezTo>
                  <a:pt x="851597" y="20242"/>
                  <a:pt x="811178" y="36436"/>
                  <a:pt x="799052" y="72871"/>
                </a:cubicBezTo>
                <a:cubicBezTo>
                  <a:pt x="754592" y="206467"/>
                  <a:pt x="879891" y="291483"/>
                  <a:pt x="883932" y="380547"/>
                </a:cubicBezTo>
                <a:cubicBezTo>
                  <a:pt x="883932" y="412935"/>
                  <a:pt x="851597" y="469612"/>
                  <a:pt x="835429" y="510095"/>
                </a:cubicBezTo>
                <a:cubicBezTo>
                  <a:pt x="718215" y="821819"/>
                  <a:pt x="613126" y="1129495"/>
                  <a:pt x="491869" y="1425025"/>
                </a:cubicBezTo>
                <a:cubicBezTo>
                  <a:pt x="463575" y="1408833"/>
                  <a:pt x="483786" y="1368349"/>
                  <a:pt x="487828" y="1340011"/>
                </a:cubicBezTo>
                <a:cubicBezTo>
                  <a:pt x="503995" y="1174027"/>
                  <a:pt x="520163" y="995899"/>
                  <a:pt x="536329" y="829916"/>
                </a:cubicBezTo>
                <a:cubicBezTo>
                  <a:pt x="544414" y="761094"/>
                  <a:pt x="540372" y="667982"/>
                  <a:pt x="556540" y="623449"/>
                </a:cubicBezTo>
                <a:cubicBezTo>
                  <a:pt x="580791" y="554626"/>
                  <a:pt x="689921" y="546530"/>
                  <a:pt x="693963" y="465563"/>
                </a:cubicBezTo>
                <a:cubicBezTo>
                  <a:pt x="698006" y="384595"/>
                  <a:pt x="584832" y="360305"/>
                  <a:pt x="556540" y="421031"/>
                </a:cubicBezTo>
                <a:cubicBezTo>
                  <a:pt x="532288" y="360305"/>
                  <a:pt x="415074" y="364354"/>
                  <a:pt x="406989" y="449369"/>
                </a:cubicBezTo>
                <a:cubicBezTo>
                  <a:pt x="402948" y="538434"/>
                  <a:pt x="508037" y="550579"/>
                  <a:pt x="524205" y="623449"/>
                </a:cubicBezTo>
                <a:cubicBezTo>
                  <a:pt x="536329" y="667982"/>
                  <a:pt x="512078" y="752997"/>
                  <a:pt x="503995" y="817771"/>
                </a:cubicBezTo>
                <a:cubicBezTo>
                  <a:pt x="483786" y="1024238"/>
                  <a:pt x="467617" y="1234753"/>
                  <a:pt x="451451" y="1416929"/>
                </a:cubicBezTo>
                <a:cubicBezTo>
                  <a:pt x="390822" y="1145688"/>
                  <a:pt x="334235" y="736804"/>
                  <a:pt x="281691" y="433176"/>
                </a:cubicBezTo>
                <a:cubicBezTo>
                  <a:pt x="273608" y="380547"/>
                  <a:pt x="253397" y="323870"/>
                  <a:pt x="257440" y="287434"/>
                </a:cubicBezTo>
                <a:cubicBezTo>
                  <a:pt x="261482" y="234806"/>
                  <a:pt x="318068" y="202419"/>
                  <a:pt x="301900" y="145742"/>
                </a:cubicBezTo>
                <a:cubicBezTo>
                  <a:pt x="289774" y="89064"/>
                  <a:pt x="196811" y="97162"/>
                  <a:pt x="188728" y="149790"/>
                </a:cubicBezTo>
                <a:cubicBezTo>
                  <a:pt x="140225" y="125499"/>
                  <a:pt x="95765" y="157887"/>
                  <a:pt x="91722" y="190274"/>
                </a:cubicBezTo>
                <a:cubicBezTo>
                  <a:pt x="83638" y="259096"/>
                  <a:pt x="168518" y="275289"/>
                  <a:pt x="217020" y="295532"/>
                </a:cubicBezTo>
                <a:cubicBezTo>
                  <a:pt x="273608" y="676078"/>
                  <a:pt x="354445" y="1060673"/>
                  <a:pt x="398906" y="1433123"/>
                </a:cubicBezTo>
                <a:cubicBezTo>
                  <a:pt x="370612" y="1420978"/>
                  <a:pt x="358486" y="1380494"/>
                  <a:pt x="346361" y="1352156"/>
                </a:cubicBezTo>
                <a:cubicBezTo>
                  <a:pt x="273608" y="1194269"/>
                  <a:pt x="204895" y="1036383"/>
                  <a:pt x="136183" y="874448"/>
                </a:cubicBezTo>
                <a:cubicBezTo>
                  <a:pt x="107889" y="817771"/>
                  <a:pt x="51303" y="728706"/>
                  <a:pt x="51303" y="684174"/>
                </a:cubicBezTo>
                <a:cubicBezTo>
                  <a:pt x="47262" y="639643"/>
                  <a:pt x="95765" y="566772"/>
                  <a:pt x="35135" y="558675"/>
                </a:cubicBezTo>
                <a:lnTo>
                  <a:pt x="0" y="566871"/>
                </a:lnTo>
                <a:lnTo>
                  <a:pt x="0" y="707213"/>
                </a:lnTo>
                <a:lnTo>
                  <a:pt x="23009" y="708465"/>
                </a:lnTo>
                <a:cubicBezTo>
                  <a:pt x="136183" y="947319"/>
                  <a:pt x="241272" y="1194269"/>
                  <a:pt x="354445" y="1433123"/>
                </a:cubicBezTo>
                <a:cubicBezTo>
                  <a:pt x="338277" y="1433123"/>
                  <a:pt x="322109" y="1412880"/>
                  <a:pt x="314026" y="1400737"/>
                </a:cubicBezTo>
                <a:lnTo>
                  <a:pt x="0" y="1014531"/>
                </a:lnTo>
                <a:lnTo>
                  <a:pt x="0" y="1082104"/>
                </a:lnTo>
                <a:lnTo>
                  <a:pt x="233188" y="1368349"/>
                </a:lnTo>
                <a:cubicBezTo>
                  <a:pt x="257440" y="1395676"/>
                  <a:pt x="286237" y="1418448"/>
                  <a:pt x="302531" y="1446913"/>
                </a:cubicBezTo>
                <a:lnTo>
                  <a:pt x="308670" y="1463328"/>
                </a:lnTo>
                <a:lnTo>
                  <a:pt x="60420" y="1294977"/>
                </a:lnTo>
                <a:lnTo>
                  <a:pt x="0" y="1251155"/>
                </a:lnTo>
                <a:lnTo>
                  <a:pt x="0" y="1296880"/>
                </a:lnTo>
                <a:lnTo>
                  <a:pt x="19978" y="1311166"/>
                </a:lnTo>
                <a:cubicBezTo>
                  <a:pt x="87680" y="1359240"/>
                  <a:pt x="154370" y="1406808"/>
                  <a:pt x="217020" y="1453365"/>
                </a:cubicBezTo>
                <a:cubicBezTo>
                  <a:pt x="231167" y="1463486"/>
                  <a:pt x="246324" y="1472594"/>
                  <a:pt x="258956" y="1482716"/>
                </a:cubicBezTo>
                <a:lnTo>
                  <a:pt x="283195" y="1514782"/>
                </a:lnTo>
                <a:lnTo>
                  <a:pt x="0" y="1409214"/>
                </a:lnTo>
                <a:lnTo>
                  <a:pt x="0" y="1450869"/>
                </a:lnTo>
                <a:lnTo>
                  <a:pt x="28395" y="1461697"/>
                </a:lnTo>
                <a:cubicBezTo>
                  <a:pt x="116277" y="1496384"/>
                  <a:pt x="202917" y="1532190"/>
                  <a:pt x="287323" y="1569984"/>
                </a:cubicBezTo>
                <a:cubicBezTo>
                  <a:pt x="207881" y="1562027"/>
                  <a:pt x="107588" y="1552081"/>
                  <a:pt x="4314" y="1541638"/>
                </a:cubicBezTo>
                <a:lnTo>
                  <a:pt x="0" y="1541195"/>
                </a:lnTo>
                <a:lnTo>
                  <a:pt x="0" y="1569997"/>
                </a:lnTo>
                <a:lnTo>
                  <a:pt x="150721" y="1583535"/>
                </a:lnTo>
                <a:cubicBezTo>
                  <a:pt x="198695" y="1588135"/>
                  <a:pt x="243630" y="1592860"/>
                  <a:pt x="283350" y="1597833"/>
                </a:cubicBezTo>
                <a:cubicBezTo>
                  <a:pt x="195964" y="1621703"/>
                  <a:pt x="105601" y="1639606"/>
                  <a:pt x="14244" y="1655022"/>
                </a:cubicBezTo>
                <a:lnTo>
                  <a:pt x="0" y="1657211"/>
                </a:lnTo>
                <a:lnTo>
                  <a:pt x="0" y="1699723"/>
                </a:lnTo>
                <a:lnTo>
                  <a:pt x="295267" y="1653530"/>
                </a:lnTo>
                <a:lnTo>
                  <a:pt x="0" y="1793037"/>
                </a:lnTo>
                <a:lnTo>
                  <a:pt x="0" y="1824962"/>
                </a:lnTo>
                <a:lnTo>
                  <a:pt x="299238" y="1689336"/>
                </a:lnTo>
                <a:cubicBezTo>
                  <a:pt x="303211" y="1709228"/>
                  <a:pt x="275406" y="1721163"/>
                  <a:pt x="263491" y="1729119"/>
                </a:cubicBezTo>
                <a:lnTo>
                  <a:pt x="0" y="1946709"/>
                </a:lnTo>
                <a:lnTo>
                  <a:pt x="0" y="1999791"/>
                </a:lnTo>
                <a:lnTo>
                  <a:pt x="338959" y="1725142"/>
                </a:lnTo>
                <a:cubicBezTo>
                  <a:pt x="338959" y="1756969"/>
                  <a:pt x="311155" y="1780839"/>
                  <a:pt x="295267" y="1808688"/>
                </a:cubicBezTo>
                <a:cubicBezTo>
                  <a:pt x="227742" y="1900191"/>
                  <a:pt x="158232" y="1995673"/>
                  <a:pt x="88720" y="2091653"/>
                </a:cubicBezTo>
                <a:lnTo>
                  <a:pt x="0" y="2214479"/>
                </a:lnTo>
                <a:lnTo>
                  <a:pt x="0" y="2267850"/>
                </a:lnTo>
                <a:lnTo>
                  <a:pt x="17224" y="2246312"/>
                </a:lnTo>
                <a:cubicBezTo>
                  <a:pt x="120496" y="2099112"/>
                  <a:pt x="275406" y="1888255"/>
                  <a:pt x="366763" y="1756969"/>
                </a:cubicBezTo>
                <a:cubicBezTo>
                  <a:pt x="311153" y="1928041"/>
                  <a:pt x="246608" y="2099112"/>
                  <a:pt x="180573" y="2271178"/>
                </a:cubicBezTo>
                <a:lnTo>
                  <a:pt x="46386" y="2628900"/>
                </a:lnTo>
                <a:lnTo>
                  <a:pt x="92636" y="2628900"/>
                </a:lnTo>
                <a:lnTo>
                  <a:pt x="244127" y="2216474"/>
                </a:lnTo>
                <a:cubicBezTo>
                  <a:pt x="299239" y="2066290"/>
                  <a:pt x="354847" y="1918094"/>
                  <a:pt x="414428" y="1772882"/>
                </a:cubicBezTo>
                <a:cubicBezTo>
                  <a:pt x="442231" y="1788796"/>
                  <a:pt x="422371" y="1828579"/>
                  <a:pt x="418399" y="1856428"/>
                </a:cubicBezTo>
                <a:cubicBezTo>
                  <a:pt x="402511" y="2019543"/>
                  <a:pt x="386623" y="2194592"/>
                  <a:pt x="370735" y="2357707"/>
                </a:cubicBezTo>
                <a:cubicBezTo>
                  <a:pt x="362791" y="2425340"/>
                  <a:pt x="366763" y="2516843"/>
                  <a:pt x="350875" y="2560606"/>
                </a:cubicBezTo>
                <a:cubicBezTo>
                  <a:pt x="344917" y="2577515"/>
                  <a:pt x="333745" y="2590693"/>
                  <a:pt x="320278" y="2602193"/>
                </a:cubicBezTo>
                <a:lnTo>
                  <a:pt x="282674" y="2628900"/>
                </a:lnTo>
                <a:lnTo>
                  <a:pt x="434855" y="2628900"/>
                </a:lnTo>
                <a:lnTo>
                  <a:pt x="407910" y="2605239"/>
                </a:lnTo>
                <a:cubicBezTo>
                  <a:pt x="396056" y="2592682"/>
                  <a:pt x="386623" y="2578509"/>
                  <a:pt x="382651" y="2560606"/>
                </a:cubicBezTo>
                <a:cubicBezTo>
                  <a:pt x="370735" y="2516843"/>
                  <a:pt x="394567" y="2433297"/>
                  <a:pt x="402511" y="2369643"/>
                </a:cubicBezTo>
                <a:cubicBezTo>
                  <a:pt x="422371" y="2166743"/>
                  <a:pt x="438260" y="1959867"/>
                  <a:pt x="454148" y="1780839"/>
                </a:cubicBezTo>
                <a:cubicBezTo>
                  <a:pt x="498834" y="1980754"/>
                  <a:pt x="541284" y="2256755"/>
                  <a:pt x="581501" y="2508141"/>
                </a:cubicBezTo>
                <a:lnTo>
                  <a:pt x="601033" y="2628900"/>
                </a:lnTo>
                <a:lnTo>
                  <a:pt x="643632" y="2628900"/>
                </a:lnTo>
                <a:lnTo>
                  <a:pt x="639282" y="2601882"/>
                </a:lnTo>
                <a:cubicBezTo>
                  <a:pt x="591431" y="2320659"/>
                  <a:pt x="538553" y="2039436"/>
                  <a:pt x="505785" y="1764925"/>
                </a:cubicBezTo>
                <a:cubicBezTo>
                  <a:pt x="533588" y="1776861"/>
                  <a:pt x="545505" y="1816645"/>
                  <a:pt x="557420" y="1844494"/>
                </a:cubicBezTo>
                <a:cubicBezTo>
                  <a:pt x="628917" y="1999651"/>
                  <a:pt x="696442" y="2154809"/>
                  <a:pt x="763967" y="2313945"/>
                </a:cubicBezTo>
                <a:cubicBezTo>
                  <a:pt x="791770" y="2369643"/>
                  <a:pt x="847380" y="2457167"/>
                  <a:pt x="847380" y="2500930"/>
                </a:cubicBezTo>
                <a:cubicBezTo>
                  <a:pt x="851351" y="2544692"/>
                  <a:pt x="803687" y="2616304"/>
                  <a:pt x="863268" y="2624261"/>
                </a:cubicBezTo>
                <a:cubicBezTo>
                  <a:pt x="899016" y="2628240"/>
                  <a:pt x="906960" y="2612325"/>
                  <a:pt x="914904" y="2580498"/>
                </a:cubicBezTo>
                <a:cubicBezTo>
                  <a:pt x="1038037" y="2596412"/>
                  <a:pt x="958597" y="2465125"/>
                  <a:pt x="875183" y="2477059"/>
                </a:cubicBezTo>
                <a:cubicBezTo>
                  <a:pt x="763967" y="2242334"/>
                  <a:pt x="660693" y="1999651"/>
                  <a:pt x="549476" y="1764925"/>
                </a:cubicBezTo>
                <a:cubicBezTo>
                  <a:pt x="565364" y="1764925"/>
                  <a:pt x="581253" y="1784818"/>
                  <a:pt x="589197" y="1796752"/>
                </a:cubicBezTo>
                <a:cubicBezTo>
                  <a:pt x="811631" y="2063306"/>
                  <a:pt x="1030093" y="2345773"/>
                  <a:pt x="1248555" y="2608347"/>
                </a:cubicBezTo>
                <a:lnTo>
                  <a:pt x="1245866" y="2628900"/>
                </a:lnTo>
                <a:lnTo>
                  <a:pt x="1559852" y="2628900"/>
                </a:lnTo>
                <a:lnTo>
                  <a:pt x="1550430" y="2620282"/>
                </a:lnTo>
                <a:cubicBezTo>
                  <a:pt x="1474961" y="2572541"/>
                  <a:pt x="1375660" y="2608347"/>
                  <a:pt x="1288275" y="2576519"/>
                </a:cubicBezTo>
                <a:cubicBezTo>
                  <a:pt x="1260472" y="2568562"/>
                  <a:pt x="1224723" y="2512865"/>
                  <a:pt x="1196918" y="2477059"/>
                </a:cubicBezTo>
                <a:cubicBezTo>
                  <a:pt x="1018176" y="2258247"/>
                  <a:pt x="843407" y="2039434"/>
                  <a:pt x="668637" y="1828579"/>
                </a:cubicBezTo>
                <a:cubicBezTo>
                  <a:pt x="636861" y="1792774"/>
                  <a:pt x="597141" y="1764925"/>
                  <a:pt x="589197" y="1721163"/>
                </a:cubicBezTo>
                <a:cubicBezTo>
                  <a:pt x="803687" y="1860407"/>
                  <a:pt x="1006261" y="2011586"/>
                  <a:pt x="1212806" y="2162766"/>
                </a:cubicBezTo>
                <a:cubicBezTo>
                  <a:pt x="1228694" y="2238355"/>
                  <a:pt x="1204862" y="2361686"/>
                  <a:pt x="1268416" y="2389534"/>
                </a:cubicBezTo>
                <a:cubicBezTo>
                  <a:pt x="1331968" y="2417383"/>
                  <a:pt x="1403464" y="2377600"/>
                  <a:pt x="1387576" y="2286097"/>
                </a:cubicBezTo>
                <a:cubicBezTo>
                  <a:pt x="1494822" y="2294053"/>
                  <a:pt x="1506737" y="2150831"/>
                  <a:pt x="1431268" y="2122982"/>
                </a:cubicBezTo>
                <a:cubicBezTo>
                  <a:pt x="1371688" y="2103089"/>
                  <a:pt x="1292248" y="2142873"/>
                  <a:pt x="1236638" y="2134916"/>
                </a:cubicBezTo>
                <a:cubicBezTo>
                  <a:pt x="1196918" y="2126960"/>
                  <a:pt x="1121450" y="2055349"/>
                  <a:pt x="1077757" y="2027500"/>
                </a:cubicBezTo>
                <a:cubicBezTo>
                  <a:pt x="946680" y="1932018"/>
                  <a:pt x="807660" y="1836537"/>
                  <a:pt x="684525" y="1745033"/>
                </a:cubicBezTo>
                <a:cubicBezTo>
                  <a:pt x="656722" y="1725142"/>
                  <a:pt x="624945" y="1709228"/>
                  <a:pt x="617001" y="1681379"/>
                </a:cubicBezTo>
                <a:cubicBezTo>
                  <a:pt x="962568" y="1816645"/>
                  <a:pt x="1312107" y="1943954"/>
                  <a:pt x="1657675" y="2079219"/>
                </a:cubicBezTo>
                <a:cubicBezTo>
                  <a:pt x="1685479" y="2158788"/>
                  <a:pt x="1685479" y="2294053"/>
                  <a:pt x="1768892" y="2313945"/>
                </a:cubicBezTo>
                <a:cubicBezTo>
                  <a:pt x="1848332" y="2329858"/>
                  <a:pt x="1907913" y="2258247"/>
                  <a:pt x="1876137" y="2170722"/>
                </a:cubicBezTo>
                <a:cubicBezTo>
                  <a:pt x="1979410" y="2166743"/>
                  <a:pt x="1991325" y="2019543"/>
                  <a:pt x="1911885" y="1987716"/>
                </a:cubicBezTo>
                <a:cubicBezTo>
                  <a:pt x="1828473" y="1955888"/>
                  <a:pt x="1733143" y="2035457"/>
                  <a:pt x="1669591" y="2035457"/>
                </a:cubicBezTo>
                <a:cubicBezTo>
                  <a:pt x="1637814" y="2035457"/>
                  <a:pt x="1586179" y="2007609"/>
                  <a:pt x="1538513" y="1987716"/>
                </a:cubicBezTo>
                <a:cubicBezTo>
                  <a:pt x="1280331" y="1896212"/>
                  <a:pt x="1006261" y="1788796"/>
                  <a:pt x="756023" y="1693315"/>
                </a:cubicBezTo>
                <a:cubicBezTo>
                  <a:pt x="712330" y="1677400"/>
                  <a:pt x="660693" y="1665466"/>
                  <a:pt x="628917" y="1637616"/>
                </a:cubicBezTo>
                <a:cubicBezTo>
                  <a:pt x="887100" y="1653530"/>
                  <a:pt x="1173086" y="1689336"/>
                  <a:pt x="1439212" y="1713206"/>
                </a:cubicBezTo>
                <a:cubicBezTo>
                  <a:pt x="1478932" y="1737076"/>
                  <a:pt x="1482905" y="1816645"/>
                  <a:pt x="1542486" y="1812666"/>
                </a:cubicBezTo>
                <a:cubicBezTo>
                  <a:pt x="1578235" y="1812666"/>
                  <a:pt x="1617955" y="1768903"/>
                  <a:pt x="1582206" y="1725142"/>
                </a:cubicBezTo>
                <a:cubicBezTo>
                  <a:pt x="1594123" y="1701270"/>
                  <a:pt x="1625899" y="1693315"/>
                  <a:pt x="1617955" y="1661487"/>
                </a:cubicBezTo>
                <a:cubicBezTo>
                  <a:pt x="1586179" y="1546113"/>
                  <a:pt x="1502766" y="1633637"/>
                  <a:pt x="1439212" y="1681379"/>
                </a:cubicBezTo>
                <a:cubicBezTo>
                  <a:pt x="1173086" y="1653530"/>
                  <a:pt x="902988" y="1629660"/>
                  <a:pt x="636861" y="1597833"/>
                </a:cubicBezTo>
                <a:cubicBezTo>
                  <a:pt x="791770" y="1558048"/>
                  <a:pt x="966541" y="1534178"/>
                  <a:pt x="1165142" y="1502351"/>
                </a:cubicBezTo>
                <a:cubicBezTo>
                  <a:pt x="1296219" y="1478479"/>
                  <a:pt x="1443185" y="1454609"/>
                  <a:pt x="1570291" y="1434718"/>
                </a:cubicBezTo>
                <a:cubicBezTo>
                  <a:pt x="1613982" y="1426761"/>
                  <a:pt x="1681507" y="1406869"/>
                  <a:pt x="1709311" y="1410848"/>
                </a:cubicBezTo>
                <a:cubicBezTo>
                  <a:pt x="1745060" y="1418804"/>
                  <a:pt x="1780807" y="1462567"/>
                  <a:pt x="1812585" y="1478479"/>
                </a:cubicBezTo>
                <a:cubicBezTo>
                  <a:pt x="1903941" y="1534178"/>
                  <a:pt x="2019130" y="1530200"/>
                  <a:pt x="2027074" y="1418804"/>
                </a:cubicBezTo>
                <a:cubicBezTo>
                  <a:pt x="2027074" y="1414826"/>
                  <a:pt x="2027074" y="1414826"/>
                  <a:pt x="2027074" y="1410848"/>
                </a:cubicBezTo>
                <a:cubicBezTo>
                  <a:pt x="2015157" y="1367085"/>
                  <a:pt x="1995298" y="1331279"/>
                  <a:pt x="1947633" y="1319345"/>
                </a:cubicBezTo>
                <a:cubicBezTo>
                  <a:pt x="2011186" y="1247733"/>
                  <a:pt x="1963522" y="1148273"/>
                  <a:pt x="1892025" y="1144294"/>
                </a:cubicBezTo>
                <a:cubicBezTo>
                  <a:pt x="1756975" y="1128381"/>
                  <a:pt x="1737116" y="1299452"/>
                  <a:pt x="1685479" y="1375042"/>
                </a:cubicBezTo>
                <a:cubicBezTo>
                  <a:pt x="1508723" y="1404881"/>
                  <a:pt x="1332961" y="1434718"/>
                  <a:pt x="1156702" y="1463561"/>
                </a:cubicBezTo>
                <a:lnTo>
                  <a:pt x="922627" y="1499900"/>
                </a:lnTo>
                <a:lnTo>
                  <a:pt x="940609" y="1495245"/>
                </a:lnTo>
                <a:lnTo>
                  <a:pt x="629349" y="1543940"/>
                </a:lnTo>
                <a:lnTo>
                  <a:pt x="644187" y="1536618"/>
                </a:lnTo>
                <a:lnTo>
                  <a:pt x="624147" y="1541270"/>
                </a:lnTo>
                <a:lnTo>
                  <a:pt x="979421" y="1373409"/>
                </a:lnTo>
                <a:cubicBezTo>
                  <a:pt x="1104214" y="1318756"/>
                  <a:pt x="1229513" y="1265116"/>
                  <a:pt x="1348749" y="1206414"/>
                </a:cubicBezTo>
                <a:cubicBezTo>
                  <a:pt x="1417461" y="1246898"/>
                  <a:pt x="1587221" y="1299526"/>
                  <a:pt x="1583180" y="1178076"/>
                </a:cubicBezTo>
                <a:cubicBezTo>
                  <a:pt x="1579138" y="1137592"/>
                  <a:pt x="1554886" y="1121399"/>
                  <a:pt x="1514467" y="1109254"/>
                </a:cubicBezTo>
                <a:cubicBezTo>
                  <a:pt x="1542760" y="1044479"/>
                  <a:pt x="1502341" y="995899"/>
                  <a:pt x="1457881" y="991851"/>
                </a:cubicBezTo>
                <a:cubicBezTo>
                  <a:pt x="1364917" y="983753"/>
                  <a:pt x="1356834" y="1109254"/>
                  <a:pt x="1332583" y="1182123"/>
                </a:cubicBezTo>
                <a:cubicBezTo>
                  <a:pt x="1090069" y="1291430"/>
                  <a:pt x="847555" y="1396688"/>
                  <a:pt x="609083" y="1510042"/>
                </a:cubicBezTo>
                <a:cubicBezTo>
                  <a:pt x="605041" y="1489800"/>
                  <a:pt x="633335" y="1477655"/>
                  <a:pt x="645461" y="1469559"/>
                </a:cubicBezTo>
                <a:cubicBezTo>
                  <a:pt x="912226" y="1250946"/>
                  <a:pt x="1195158" y="1012093"/>
                  <a:pt x="1465964" y="797528"/>
                </a:cubicBezTo>
                <a:cubicBezTo>
                  <a:pt x="1599347" y="817771"/>
                  <a:pt x="1785274" y="829916"/>
                  <a:pt x="1765064" y="684174"/>
                </a:cubicBezTo>
                <a:cubicBezTo>
                  <a:pt x="1756981" y="631546"/>
                  <a:pt x="1708478" y="595111"/>
                  <a:pt x="1643807" y="607256"/>
                </a:cubicBezTo>
                <a:cubicBezTo>
                  <a:pt x="1647849" y="534385"/>
                  <a:pt x="1619557" y="485804"/>
                  <a:pt x="1571054" y="473659"/>
                </a:cubicBezTo>
                <a:cubicBezTo>
                  <a:pt x="1437672" y="449369"/>
                  <a:pt x="1417461" y="619401"/>
                  <a:pt x="1437672" y="752997"/>
                </a:cubicBezTo>
                <a:cubicBezTo>
                  <a:pt x="1154738" y="999947"/>
                  <a:pt x="863723" y="1238800"/>
                  <a:pt x="568665" y="1473606"/>
                </a:cubicBezTo>
                <a:cubicBezTo>
                  <a:pt x="568665" y="1441220"/>
                  <a:pt x="596958" y="1416929"/>
                  <a:pt x="613126" y="1388591"/>
                </a:cubicBezTo>
                <a:cubicBezTo>
                  <a:pt x="750549" y="1202366"/>
                  <a:pt x="896058" y="999947"/>
                  <a:pt x="1033483" y="809674"/>
                </a:cubicBezTo>
                <a:cubicBezTo>
                  <a:pt x="1118361" y="805626"/>
                  <a:pt x="1239618" y="813722"/>
                  <a:pt x="1255786" y="740851"/>
                </a:cubicBezTo>
                <a:cubicBezTo>
                  <a:pt x="1263871" y="688223"/>
                  <a:pt x="1231535" y="639643"/>
                  <a:pt x="1154738" y="647739"/>
                </a:cubicBezTo>
                <a:cubicBezTo>
                  <a:pt x="1158781" y="578917"/>
                  <a:pt x="1090069" y="530336"/>
                  <a:pt x="1033483" y="574869"/>
                </a:cubicBezTo>
                <a:cubicBezTo>
                  <a:pt x="1005189" y="595111"/>
                  <a:pt x="1001148" y="623449"/>
                  <a:pt x="1001148" y="659884"/>
                </a:cubicBezTo>
                <a:cubicBezTo>
                  <a:pt x="1001148" y="692272"/>
                  <a:pt x="1017315" y="736804"/>
                  <a:pt x="1009231" y="777287"/>
                </a:cubicBezTo>
                <a:cubicBezTo>
                  <a:pt x="1005189" y="821819"/>
                  <a:pt x="928394" y="898739"/>
                  <a:pt x="896058" y="943270"/>
                </a:cubicBezTo>
                <a:cubicBezTo>
                  <a:pt x="790969" y="1093060"/>
                  <a:pt x="633335" y="1307624"/>
                  <a:pt x="540372" y="1441220"/>
                </a:cubicBezTo>
                <a:cubicBezTo>
                  <a:pt x="653545" y="1093060"/>
                  <a:pt x="803095" y="744900"/>
                  <a:pt x="928394" y="388644"/>
                </a:cubicBezTo>
                <a:cubicBezTo>
                  <a:pt x="1017315" y="344111"/>
                  <a:pt x="1187074" y="336015"/>
                  <a:pt x="1211326" y="230757"/>
                </a:cubicBezTo>
                <a:cubicBezTo>
                  <a:pt x="1235577" y="117403"/>
                  <a:pt x="1122404" y="48581"/>
                  <a:pt x="1021357" y="105258"/>
                </a:cubicBezTo>
                <a:cubicBezTo>
                  <a:pt x="1017315" y="40485"/>
                  <a:pt x="972854" y="16194"/>
                  <a:pt x="920309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8" name="Freeform 20"/>
          <p:cNvSpPr/>
          <p:nvPr/>
        </p:nvSpPr>
        <p:spPr>
          <a:xfrm>
            <a:off x="5715360" y="1838160"/>
            <a:ext cx="6474600" cy="5019480"/>
          </a:xfrm>
          <a:custGeom>
            <a:avLst/>
            <a:gdLst>
              <a:gd name="textAreaLeft" fmla="*/ 0 w 6474600"/>
              <a:gd name="textAreaRight" fmla="*/ 6474960 w 6474600"/>
              <a:gd name="textAreaTop" fmla="*/ 0 h 5019480"/>
              <a:gd name="textAreaBottom" fmla="*/ 5019840 h 5019480"/>
            </a:gdLst>
            <a:ahLst/>
            <a:rect l="textAreaLeft" t="textAreaTop" r="textAreaRight" b="textAreaBottom"/>
            <a:pathLst>
              <a:path w="6474908" h="5019902">
                <a:moveTo>
                  <a:pt x="542719" y="0"/>
                </a:moveTo>
                <a:lnTo>
                  <a:pt x="6474908" y="0"/>
                </a:lnTo>
                <a:lnTo>
                  <a:pt x="6474908" y="5019902"/>
                </a:lnTo>
                <a:lnTo>
                  <a:pt x="526551" y="5019902"/>
                </a:lnTo>
                <a:lnTo>
                  <a:pt x="465204" y="4976523"/>
                </a:lnTo>
                <a:cubicBezTo>
                  <a:pt x="406254" y="4930594"/>
                  <a:pt x="348780" y="4877231"/>
                  <a:pt x="292881" y="4816583"/>
                </a:cubicBezTo>
                <a:cubicBezTo>
                  <a:pt x="122821" y="4627549"/>
                  <a:pt x="53538" y="4331396"/>
                  <a:pt x="103926" y="4003738"/>
                </a:cubicBezTo>
                <a:cubicBezTo>
                  <a:pt x="122821" y="3874565"/>
                  <a:pt x="163761" y="3732789"/>
                  <a:pt x="207851" y="3584713"/>
                </a:cubicBezTo>
                <a:cubicBezTo>
                  <a:pt x="346418" y="3118430"/>
                  <a:pt x="425149" y="2775018"/>
                  <a:pt x="166911" y="2611189"/>
                </a:cubicBezTo>
                <a:cubicBezTo>
                  <a:pt x="0" y="2504070"/>
                  <a:pt x="0" y="2504070"/>
                  <a:pt x="0" y="2504070"/>
                </a:cubicBezTo>
                <a:cubicBezTo>
                  <a:pt x="166911" y="2400101"/>
                  <a:pt x="166911" y="2400101"/>
                  <a:pt x="166911" y="2400101"/>
                </a:cubicBezTo>
                <a:cubicBezTo>
                  <a:pt x="425149" y="2236272"/>
                  <a:pt x="346418" y="1892861"/>
                  <a:pt x="207851" y="1426578"/>
                </a:cubicBezTo>
                <a:cubicBezTo>
                  <a:pt x="163761" y="1275351"/>
                  <a:pt x="122821" y="1136726"/>
                  <a:pt x="103926" y="1007553"/>
                </a:cubicBezTo>
                <a:cubicBezTo>
                  <a:pt x="53538" y="679895"/>
                  <a:pt x="122821" y="380591"/>
                  <a:pt x="292881" y="194708"/>
                </a:cubicBezTo>
                <a:cubicBezTo>
                  <a:pt x="355473" y="127365"/>
                  <a:pt x="422050" y="71541"/>
                  <a:pt x="494107" y="2690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9" name="Rectangle 23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680" name="Straight Connector 24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6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3" name="Freeform 21"/>
          <p:cNvSpPr/>
          <p:nvPr/>
        </p:nvSpPr>
        <p:spPr>
          <a:xfrm>
            <a:off x="5922720" y="1838160"/>
            <a:ext cx="6267240" cy="5019480"/>
          </a:xfrm>
          <a:custGeom>
            <a:avLst/>
            <a:gdLst>
              <a:gd name="textAreaLeft" fmla="*/ 0 w 6267240"/>
              <a:gd name="textAreaRight" fmla="*/ 6267600 w 6267240"/>
              <a:gd name="textAreaTop" fmla="*/ 0 h 5019480"/>
              <a:gd name="textAreaBottom" fmla="*/ 5019840 h 5019480"/>
            </a:gdLst>
            <a:ahLst/>
            <a:rect l="textAreaLeft" t="textAreaTop" r="textAreaRight" b="textAreaBottom"/>
            <a:pathLst>
              <a:path w="6267574" h="5019902">
                <a:moveTo>
                  <a:pt x="561605" y="0"/>
                </a:moveTo>
                <a:lnTo>
                  <a:pt x="6267574" y="0"/>
                </a:lnTo>
                <a:lnTo>
                  <a:pt x="6267574" y="5019902"/>
                </a:lnTo>
                <a:lnTo>
                  <a:pt x="538499" y="5019902"/>
                </a:lnTo>
                <a:lnTo>
                  <a:pt x="513419" y="5012291"/>
                </a:lnTo>
                <a:cubicBezTo>
                  <a:pt x="-339347" y="4712367"/>
                  <a:pt x="117108" y="3682650"/>
                  <a:pt x="162231" y="3473533"/>
                </a:cubicBezTo>
                <a:cubicBezTo>
                  <a:pt x="213801" y="3234542"/>
                  <a:pt x="387174" y="2828720"/>
                  <a:pt x="40426" y="2514684"/>
                </a:cubicBezTo>
                <a:lnTo>
                  <a:pt x="40426" y="2512230"/>
                </a:lnTo>
                <a:cubicBezTo>
                  <a:pt x="387174" y="2198194"/>
                  <a:pt x="213801" y="1792372"/>
                  <a:pt x="162231" y="1553381"/>
                </a:cubicBezTo>
                <a:cubicBezTo>
                  <a:pt x="117108" y="1344264"/>
                  <a:pt x="-339347" y="314548"/>
                  <a:pt x="513420" y="14623"/>
                </a:cubicBezTo>
                <a:close/>
              </a:path>
            </a:pathLst>
          </a:custGeom>
          <a:solidFill>
            <a:schemeClr val="bg1"/>
          </a:solidFill>
          <a:ln w="508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body"/>
          </p:nvPr>
        </p:nvSpPr>
        <p:spPr>
          <a:xfrm>
            <a:off x="5947200" y="1838160"/>
            <a:ext cx="6241320" cy="50194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27432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95280" y="1782360"/>
            <a:ext cx="6822000" cy="164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565a5c"/>
                </a:solidFill>
                <a:latin typeface="Century Gothic"/>
              </a:rPr>
              <a:t>唯美浪漫红动态</a:t>
            </a:r>
            <a:r>
              <a:rPr b="0" lang="en-US" sz="4000" spc="-1" strike="noStrike">
                <a:solidFill>
                  <a:srgbClr val="565a5c"/>
                </a:solidFill>
                <a:latin typeface="Century Gothic"/>
              </a:rPr>
              <a:t>PPT</a:t>
            </a:r>
            <a:r>
              <a:rPr b="0" lang="zh-CN" sz="4000" spc="-1" strike="noStrike">
                <a:solidFill>
                  <a:srgbClr val="565a5c"/>
                </a:solidFill>
                <a:latin typeface="Century Gothic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295280" y="3819600"/>
            <a:ext cx="619236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icture Placeholder 4"/>
          <p:cNvSpPr/>
          <p:nvPr/>
        </p:nvSpPr>
        <p:spPr>
          <a:xfrm>
            <a:off x="8117640" y="-1440"/>
            <a:ext cx="4088160" cy="6859080"/>
          </a:xfrm>
          <a:custGeom>
            <a:avLst/>
            <a:gdLst>
              <a:gd name="textAreaLeft" fmla="*/ 0 w 4088160"/>
              <a:gd name="textAreaRight" fmla="*/ 4088520 w 4088160"/>
              <a:gd name="textAreaTop" fmla="*/ 0 h 6859080"/>
              <a:gd name="textAreaBottom" fmla="*/ 6859440 h 6859080"/>
            </a:gdLst>
            <a:ahLst/>
            <a:rect l="textAreaLeft" t="textAreaTop" r="textAreaRight" b="textAreaBottom"/>
            <a:pathLst>
              <a:path w="4088501" h="6859587">
                <a:moveTo>
                  <a:pt x="381124" y="0"/>
                </a:moveTo>
                <a:lnTo>
                  <a:pt x="4088501" y="0"/>
                </a:lnTo>
                <a:lnTo>
                  <a:pt x="4088501" y="6859587"/>
                </a:lnTo>
                <a:lnTo>
                  <a:pt x="379163" y="6859587"/>
                </a:lnTo>
                <a:lnTo>
                  <a:pt x="303828" y="6798612"/>
                </a:lnTo>
                <a:cubicBezTo>
                  <a:pt x="275352" y="6772887"/>
                  <a:pt x="247395" y="6744849"/>
                  <a:pt x="219963" y="6714340"/>
                </a:cubicBezTo>
                <a:cubicBezTo>
                  <a:pt x="21330" y="6492747"/>
                  <a:pt x="-33134" y="6145906"/>
                  <a:pt x="18126" y="5792641"/>
                </a:cubicBezTo>
                <a:cubicBezTo>
                  <a:pt x="111035" y="5179246"/>
                  <a:pt x="633247" y="3827207"/>
                  <a:pt x="27738" y="3432193"/>
                </a:cubicBezTo>
                <a:cubicBezTo>
                  <a:pt x="633247" y="3037179"/>
                  <a:pt x="111035" y="1681929"/>
                  <a:pt x="18126" y="1068533"/>
                </a:cubicBezTo>
                <a:cubicBezTo>
                  <a:pt x="-33134" y="715269"/>
                  <a:pt x="21330" y="368427"/>
                  <a:pt x="219963" y="146834"/>
                </a:cubicBezTo>
                <a:cubicBezTo>
                  <a:pt x="247395" y="116325"/>
                  <a:pt x="275353" y="88287"/>
                  <a:pt x="303828" y="6256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095880" y="5599080"/>
            <a:ext cx="480024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2" name="Picture Placeholder 1" descr=""/>
          <p:cNvPicPr/>
          <p:nvPr/>
        </p:nvPicPr>
        <p:blipFill>
          <a:blip r:embed="rId1"/>
          <a:srcRect l="-247791" t="-216880" r="-247791" b="-216880"/>
          <a:stretch/>
        </p:blipFill>
        <p:spPr>
          <a:xfrm>
            <a:off x="5940000" y="1624680"/>
            <a:ext cx="5047200" cy="36086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33" name="Picture Placeholder 2" descr=""/>
          <p:cNvPicPr/>
          <p:nvPr/>
        </p:nvPicPr>
        <p:blipFill>
          <a:blip r:embed="rId2"/>
          <a:srcRect l="-145200" t="-327583" r="-145200" b="-327583"/>
          <a:stretch/>
        </p:blipFill>
        <p:spPr>
          <a:xfrm>
            <a:off x="1612440" y="876240"/>
            <a:ext cx="3308040" cy="510516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148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828900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495680" y="5974200"/>
            <a:ext cx="3200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pic>
        <p:nvPicPr>
          <p:cNvPr id="738" name="Picture Placeholder 1" descr=""/>
          <p:cNvPicPr/>
          <p:nvPr/>
        </p:nvPicPr>
        <p:blipFill>
          <a:blip r:embed="rId1"/>
          <a:srcRect l="-152506" t="-131523" r="-152506" b="-131523"/>
          <a:stretch/>
        </p:blipFill>
        <p:spPr>
          <a:xfrm>
            <a:off x="667080" y="2714040"/>
            <a:ext cx="3432240" cy="2454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39" name="Picture Placeholder 2" descr=""/>
          <p:cNvPicPr/>
          <p:nvPr/>
        </p:nvPicPr>
        <p:blipFill>
          <a:blip r:embed="rId2"/>
          <a:srcRect l="-93203" t="-204047" r="-93203" b="-204047"/>
          <a:stretch/>
        </p:blipFill>
        <p:spPr>
          <a:xfrm>
            <a:off x="4901400" y="2251440"/>
            <a:ext cx="2427120" cy="3435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0" name="Picture Placeholder 3" descr=""/>
          <p:cNvPicPr/>
          <p:nvPr/>
        </p:nvPicPr>
        <p:blipFill>
          <a:blip r:embed="rId3"/>
          <a:srcRect l="-152506" t="-131523" r="-152506" b="-131523"/>
          <a:stretch/>
        </p:blipFill>
        <p:spPr>
          <a:xfrm>
            <a:off x="8172720" y="2714040"/>
            <a:ext cx="3432240" cy="2454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Placeholder 1" descr=""/>
          <p:cNvPicPr/>
          <p:nvPr/>
        </p:nvPicPr>
        <p:blipFill>
          <a:blip r:embed="rId1"/>
          <a:srcRect l="-143331" t="-312833" r="-143331" b="-312833"/>
          <a:stretch/>
        </p:blipFill>
        <p:spPr>
          <a:xfrm>
            <a:off x="624240" y="975960"/>
            <a:ext cx="3276360" cy="490608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2" name="Picture Placeholder 2" descr=""/>
          <p:cNvPicPr/>
          <p:nvPr/>
        </p:nvPicPr>
        <p:blipFill>
          <a:blip r:embed="rId2"/>
          <a:srcRect l="-144265" t="-124121" r="-144265" b="-124121"/>
          <a:stretch/>
        </p:blipFill>
        <p:spPr>
          <a:xfrm>
            <a:off x="4469760" y="880200"/>
            <a:ext cx="3292560" cy="23540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3" name="Picture Placeholder 3" descr=""/>
          <p:cNvPicPr/>
          <p:nvPr/>
        </p:nvPicPr>
        <p:blipFill>
          <a:blip r:embed="rId3"/>
          <a:srcRect l="-144265" t="-124121" r="-144265" b="-124121"/>
          <a:stretch/>
        </p:blipFill>
        <p:spPr>
          <a:xfrm>
            <a:off x="4469760" y="3674160"/>
            <a:ext cx="3292560" cy="23540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4" name="Picture Placeholder 4" descr=""/>
          <p:cNvPicPr/>
          <p:nvPr/>
        </p:nvPicPr>
        <p:blipFill>
          <a:blip r:embed="rId4"/>
          <a:srcRect l="-143331" t="-312833" r="-143331" b="-312833"/>
          <a:stretch/>
        </p:blipFill>
        <p:spPr>
          <a:xfrm>
            <a:off x="8307720" y="975960"/>
            <a:ext cx="3276360" cy="490608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sp>
        <p:nvSpPr>
          <p:cNvPr id="7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565a5c"/>
              </a:solidFill>
              <a:latin typeface="Century Gothic"/>
            </a:endParaRPr>
          </a:p>
        </p:txBody>
      </p:sp>
      <p:pic>
        <p:nvPicPr>
          <p:cNvPr id="748" name="Picture Placeholder 6" descr=""/>
          <p:cNvPicPr/>
          <p:nvPr/>
        </p:nvPicPr>
        <p:blipFill>
          <a:blip r:embed="rId1"/>
          <a:srcRect l="-318267" t="-321246" r="-318267" b="-321246"/>
          <a:stretch/>
        </p:blipFill>
        <p:spPr>
          <a:xfrm>
            <a:off x="5947200" y="1838160"/>
            <a:ext cx="6241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141aba3b8f8cb7f331be6546df69db50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f8e4ef66d87525153bd8907774ed28f8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E7BDFF65-7D4B-49E3-9B1F-4B3B9509C3F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9CFE93CC-2A71-437A-AF3E-8FAC68A5E311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B1A9C6AD-12D7-4B7D-9ABA-FA2E73A34B56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4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55:55Z</dcterms:created>
  <dc:creator/>
  <dc:description/>
  <dc:language>en-US</dc:language>
  <cp:lastModifiedBy/>
  <dcterms:modified xsi:type="dcterms:W3CDTF">2016-02-19T03:57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Notes">
    <vt:r8>2</vt:r8>
  </property>
  <property fmtid="{D5CDD505-2E9C-101B-9397-08002B2CF9AE}" pid="8" name="PresentationFormat">
    <vt:lpwstr>宽屏</vt:lpwstr>
  </property>
  <property fmtid="{D5CDD505-2E9C-101B-9397-08002B2CF9AE}" pid="9" name="ScenarioTags">
    <vt:lpwstr/>
  </property>
  <property fmtid="{D5CDD505-2E9C-101B-9397-08002B2CF9AE}" pid="10" name="Slides">
    <vt:r8>5</vt:r8>
  </property>
</Properties>
</file>