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EC56-5731-45A7-B34A-156360DEB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320" y="3511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600F-B127-477F-BEB8-043A4C1D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32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9336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B5D3-B108-430C-97A2-68B7301B2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5876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4120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32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5876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4120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B75F-AE79-47B1-AA02-932850244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BB101-AC94-477B-A05F-A492C1362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49727-5DEF-4D1E-878F-CBFBB2DC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92C1-B3A0-406F-A554-5D41973A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5541-835D-4527-92F7-716D4EB9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0B37-0E8B-4BF5-AB33-F0746187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320" y="-360"/>
            <a:ext cx="81532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6A8CB-E7CA-4815-A79B-49893FE3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32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FFA1-6E68-48CC-96D6-5E171F50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3C93-BEDE-4C82-9958-37A468E3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9336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5054-E588-4B4A-AF76-97A77258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320" y="3511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68D4-A7D4-45C3-A0AB-3EC83A19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320" y="3511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92562-1323-45BA-A595-192DB2C6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32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9336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4686-7B79-42AB-ADC2-4AE49B69E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85876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4120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32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85876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4120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0AF9-26B6-4EE9-900F-8D4B2A0A8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4B98-A97B-45B7-BD25-E6DE6584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FC6D-A4B6-42B7-8006-A5F1F76F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FF53-1A81-4CE8-B8DA-4D4327A5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320" y="-360"/>
            <a:ext cx="81532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9046-07AF-4821-A64C-A7475C17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32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2645-D96C-4894-92F1-578B00CE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9336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A4EA-8076-4995-80F6-9FFF1B63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320" y="3511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BE91-ED47-4D73-93BC-382AECB7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Franklin Gothic Demi"/>
              </a:rPr>
              <a:t>Click to edit the outline text format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Franklin Gothic Demi"/>
              </a:rPr>
              <a:t>Second Outline Level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 lvl="2" marL="1143000" indent="-22860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Franklin Gothic Demi"/>
              </a:rPr>
              <a:t>Third Outline Level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Franklin Gothic Demi"/>
              </a:rPr>
              <a:t>Fourth Outline Level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Franklin Gothic Demi"/>
              </a:rPr>
              <a:t>Fifth Outline Level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Franklin Gothic Demi"/>
              </a:rPr>
              <a:t>Sixth Outline Level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Franklin Gothic Demi"/>
              </a:rPr>
              <a:t>Seventh Outline Level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029E-5248-4F9D-ACD0-910E6DD27E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Franklin Gothic Demi"/>
              </a:rPr>
              <a:t>Click to edit the outline text format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Franklin Gothic Demi"/>
              </a:rPr>
              <a:t>Second Outline Level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 lvl="2" marL="1143000" indent="-22860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Franklin Gothic Demi"/>
              </a:rPr>
              <a:t>Third Outline Level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Franklin Gothic Demi"/>
              </a:rPr>
              <a:t>Fourth Outline Level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Franklin Gothic Demi"/>
              </a:rPr>
              <a:t>Fifth Outline Level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Franklin Gothic Demi"/>
              </a:rPr>
              <a:t>Sixth Outline Level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Franklin Gothic Demi"/>
              </a:rPr>
              <a:t>Seventh Outline Level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3787-5B26-4FA8-AC0C-A0A82355FA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  <a:ea typeface="宋体"/>
              </a:rPr>
              <a:t>WorldMarket</a:t>
            </a:r>
            <a:r>
              <a:rPr b="0" lang="zh-CN" sz="4000" spc="-1" strike="noStrike">
                <a:solidFill>
                  <a:srgbClr val="000000"/>
                </a:solidFill>
                <a:latin typeface="Impact"/>
                <a:ea typeface="宋体"/>
              </a:rPr>
              <a:t>通用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Impact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32763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d4d4d"/>
              </a:solidFill>
              <a:latin typeface="Franklin Gothic Demi"/>
              <a:ea typeface="宋体"/>
            </a:endParaRPr>
          </a:p>
        </p:txBody>
      </p:sp>
      <p:pic>
        <p:nvPicPr>
          <p:cNvPr id="84" name="Picture 8" descr="world_map_animation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343560" y="4800600"/>
            <a:ext cx="2743200" cy="1324080"/>
          </a:xfrm>
          <a:prstGeom prst="rect">
            <a:avLst/>
          </a:prstGeom>
          <a:ln w="0">
            <a:noFill/>
          </a:ln>
        </p:spPr>
      </p:pic>
      <p:sp>
        <p:nvSpPr>
          <p:cNvPr id="85" name="矩形 12"/>
          <p:cNvSpPr/>
          <p:nvPr/>
        </p:nvSpPr>
        <p:spPr>
          <a:xfrm>
            <a:off x="358560" y="640080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  <a:ea typeface="宋体"/>
              </a:rPr>
              <a:t>Your Topic Goes Here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Franklin Gothic Demi"/>
                <a:ea typeface="宋体"/>
              </a:rPr>
              <a:t>Your subtopics go here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pic>
        <p:nvPicPr>
          <p:cNvPr id="88" name="Picture 8" descr="worldwide_marketplace_map"/>
          <p:cNvPicPr/>
          <p:nvPr/>
        </p:nvPicPr>
        <p:blipFill>
          <a:blip r:embed="rId1"/>
          <a:stretch/>
        </p:blipFill>
        <p:spPr>
          <a:xfrm>
            <a:off x="6400800" y="4827600"/>
            <a:ext cx="27432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2763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600" spc="-1" strike="noStrike">
              <a:solidFill>
                <a:srgbClr val="4d4d4d"/>
              </a:solidFill>
              <a:latin typeface="Franklin Gothic Dem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  <a:ea typeface="宋体"/>
              </a:rPr>
              <a:t>Your Topic Goes Here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Franklin Gothic Demi"/>
                <a:ea typeface="宋体"/>
              </a:rPr>
              <a:t>Your subtopics go here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pic>
        <p:nvPicPr>
          <p:cNvPr id="93" name="Picture 4" descr="worldwide_marketplace_map"/>
          <p:cNvPicPr/>
          <p:nvPr/>
        </p:nvPicPr>
        <p:blipFill>
          <a:blip r:embed="rId2"/>
          <a:stretch/>
        </p:blipFill>
        <p:spPr>
          <a:xfrm>
            <a:off x="6400800" y="4827600"/>
            <a:ext cx="2743200" cy="1298520"/>
          </a:xfrm>
          <a:prstGeom prst="rect">
            <a:avLst/>
          </a:prstGeom>
          <a:ln w="0">
            <a:noFill/>
          </a:ln>
        </p:spPr>
      </p:pic>
      <p:sp>
        <p:nvSpPr>
          <p:cNvPr id="94" name="矩形 12"/>
          <p:cNvSpPr/>
          <p:nvPr/>
        </p:nvSpPr>
        <p:spPr>
          <a:xfrm>
            <a:off x="179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1T19:48:25Z</dcterms:created>
  <dc:creator>eclipse</dc:creator>
  <dc:description/>
  <dc:language>en-US</dc:language>
  <cp:lastModifiedBy>王玉清</cp:lastModifiedBy>
  <dcterms:modified xsi:type="dcterms:W3CDTF">2016-02-21T05:00:50Z</dcterms:modified>
  <cp:revision>33</cp:revision>
  <dc:subject/>
  <dc:title>PowerPoint Presentation</dc:title>
</cp:coreProperties>
</file>