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C2B-C1B1-48EE-87F5-BC11F9AD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0B8-AB7D-4589-AE67-0F3624D0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CBF6-D97C-4F60-98FD-0D42C4D4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0869-32E3-4F96-B70D-7C5A9BD3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3197-2B1F-42DA-90ED-B345DA09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5E60-17A1-42C0-A45D-9479194E2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0781-86E7-4750-A0F9-EDBD56E9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DBF2-FC5C-4D9C-A9B5-8C657E59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5D09-554B-4451-83F1-7FBD1AB0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9E10-4D7E-455E-ADC0-30FD8D8C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7EB7-4477-4395-9132-072AF685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459E-7377-41BE-A55C-1F485366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6598-2CA5-4D0B-9D88-3CBE8CED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AA17-26F2-4532-9A5C-087A78D4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7DB9-9E77-4BBE-83ED-7930CA5D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9361-BD06-409C-8469-AF41B4C9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B813-617C-4FCC-912B-822E3E85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3B48-8B7F-43C7-94BD-A1416218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225-4E72-4577-B5E9-DFA0C57E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0A27-4F05-417A-B958-A67DBEC5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ECC0-DE7D-44BD-884D-3122F167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DAF-17A7-4942-AF03-D7240609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209F-7877-4E9C-89BF-7DBD9017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B35-6CC5-46BC-8330-6061D7C8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C62E9B2-8714-4D97-A830-4C0B3262B02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048F0D-2C30-4408-9731-B7CD392A60C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9640" y="1989000"/>
            <a:ext cx="88545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雪花树叶线条图案咖啡色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pread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pread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pread</Template>
  <TotalTime>1</TotalTime>
  <Application>LibreOffice/7.4.7.2$Linux_X86_64 LibreOffice_project/40$Build-2</Application>
  <AppVersion>15.0000</AppVersion>
  <Words>14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00:30:55Z</dcterms:created>
  <dc:creator>admin</dc:creator>
  <dc:description/>
  <dc:language>en-US</dc:language>
  <cp:lastModifiedBy>王玉清</cp:lastModifiedBy>
  <dcterms:modified xsi:type="dcterms:W3CDTF">2016-02-24T03:38:00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