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94E-2EEE-4B9F-9FB5-CD442669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5FE-AE91-4CFF-9FF1-0BD630FB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6E9-03C0-4374-B865-2A712209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B52-0C0B-4A78-9BC3-6844824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913B-7E87-433B-8874-6E94E011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95F8-9B1F-4E8A-8103-23238150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EF25-9A1E-4ED0-9D5C-4A53AF1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E21B-D9BA-404B-8933-21674535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D7CE-ABBC-4262-9540-06CFCD72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D6D-0221-473D-A764-B512338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5B53-C374-487E-9492-320C154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791-624A-4A0C-AE2B-2BADDC7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927-D49C-443D-B099-0349F5F8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455-2982-4EB7-BEDD-74B69281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CFE-4655-49D1-87D1-0ADA523C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9AF7-7492-40F3-B6F7-876DF322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0C95-3630-48EA-B0D7-A3E46A8A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F121-7CAF-43A8-8380-588CD170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7A34-1A1E-408E-9692-B9AA2526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EB483-940A-445C-8D3A-0F4E69C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87FA-F216-4390-B6AF-BAB19A87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AD9E-9A0C-404E-A34E-0C5C709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193-08EB-4C27-AD4D-A16D1203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4DE3-5D68-40F5-9819-6242C13E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F469-C40C-4557-BEE2-5EF06E6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8D79-80EF-4988-9C3F-27616E2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73BE-FB12-44D8-8947-7BFEC99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2A5B-8AEF-40C2-9BBF-F02634A6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6D0B-0A37-4F92-B086-E91F0A60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A728-9B27-407F-B7F8-3D37962B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138C-B0F7-4D47-8F00-BCEA9B79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D3D5-EB2C-489F-A45A-68657230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FB2F3-C4C6-43C2-B939-168580F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769-E457-4295-A653-C3ED7BD8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AFCF-C185-4814-B751-55527C18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CD2F-8158-4109-8EFE-65E2C5DC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1F92-CFCC-4A62-9D08-54658937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1385-4187-4B34-B34F-C77E9B8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9188-8639-4ED4-AC23-2E201BA5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A5BC-5B49-4FC2-879F-3D3FA35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15A73-7AAB-4FF2-8545-3949F97D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451F6-E85D-4588-BFA1-1309D046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6141-C64C-42F7-ABB9-0307D0BC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A93-434E-4C4E-AD3D-F3FE4B78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2D2-1CF2-493C-AE48-A5B7D3EF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F72-B319-42D7-A2F1-7364D8A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D66-AA92-4898-B209-6CC6ABF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5EC-100A-4CDD-BA70-2EEFB02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mputer_kuan_262885_10[1]"/>
          <p:cNvPicPr/>
          <p:nvPr/>
        </p:nvPicPr>
        <p:blipFill>
          <a:blip r:embed="rId2"/>
          <a:srcRect l="3950" t="0" r="5029" b="0"/>
          <a:stretch/>
        </p:blipFill>
        <p:spPr>
          <a:xfrm>
            <a:off x="1440" y="60480"/>
            <a:ext cx="9107640" cy="639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DB4-33EC-4EF7-8B6D-18C913C62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mputer_kuan_263056_9[1]"/>
          <p:cNvPicPr/>
          <p:nvPr/>
        </p:nvPicPr>
        <p:blipFill>
          <a:blip r:embed="rId2"/>
          <a:stretch/>
        </p:blipFill>
        <p:spPr>
          <a:xfrm>
            <a:off x="-31680" y="0"/>
            <a:ext cx="921384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CE92-19F8-49B2-811B-3C293F85E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omputer_kuan_262951_9[1]"/>
          <p:cNvPicPr/>
          <p:nvPr/>
        </p:nvPicPr>
        <p:blipFill>
          <a:blip r:embed="rId2"/>
          <a:stretch/>
        </p:blipFill>
        <p:spPr>
          <a:xfrm>
            <a:off x="34920" y="1440"/>
            <a:ext cx="9109080" cy="681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BAE-45CB-446E-97F6-3CEF55A29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mputer_kuan_262934_11[1]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6DF-7DF0-4336-8E9A-8EBE78C6B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239292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相恋小曲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57200" y="63151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21:03:06Z</dcterms:created>
  <dc:creator>张媚</dc:creator>
  <dc:description/>
  <cp:keywords/>
  <dc:language>en-US</dc:language>
  <cp:lastModifiedBy>王玉清</cp:lastModifiedBy>
  <cp:lastPrinted>1899-12-30T00:00:00Z</cp:lastPrinted>
  <dcterms:modified xsi:type="dcterms:W3CDTF">2016-02-20T04:00:01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