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10C-721D-4F1D-BBB5-C1CED39D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0BC-4631-427B-93ED-C8D40DCA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F9D-5AA7-40FE-8B3F-73D8B1F7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99C-4087-451F-A89E-704B431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53C-E0B5-40D0-AAD6-32983961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768-89A5-41DC-A15D-A06467B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61D-858B-420C-97E3-95AFD24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D5B-3748-44BE-8046-A0EAB5F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B3A7-E829-4FB8-822A-7E1C8FB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894960"/>
            <a:ext cx="77724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7005-903B-4C26-B67E-C783BB9B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C21-C237-4EDE-BD44-CD5B2B4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31D-C838-4698-9A28-8DE8501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4C3A-FC5D-460C-BE0B-6FFBD08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A64-F57F-4D5E-A75A-F2C3792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CFF-B2C4-482E-989C-47C1085B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6E0-4410-42DA-8F48-9A4FAC7A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0BE-F1F0-4655-8574-05D99CD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5EB-B4CB-4E64-94AA-11C9596C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207-CE07-4BCA-959C-612C201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781-07D9-40AE-B946-F5D5A448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94960"/>
            <a:ext cx="77724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6A8-9FCD-424A-9C38-4897591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055-E11B-432A-990F-1794490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754-C8E1-486C-8038-D184B51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4A4-868C-4154-A94C-5F7934F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092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9200" y="635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856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55B5-6F24-4087-A3EE-8F258057190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524720" y="765000"/>
            <a:ext cx="1389240" cy="34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3CE-52C2-4037-AC50-A9C473B7899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向日葵通用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PPT</a:t>
            </a: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模板免费下载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02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6:09:07Z</dcterms:created>
  <dc:creator>w</dc:creator>
  <dc:description/>
  <dc:language>en-US</dc:language>
  <cp:lastModifiedBy>王玉清</cp:lastModifiedBy>
  <dcterms:modified xsi:type="dcterms:W3CDTF">2016-02-22T03:21:35Z</dcterms:modified>
  <cp:revision>5</cp:revision>
  <dc:subject/>
  <dc:title>投影片 1</dc:title>
</cp:coreProperties>
</file>