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1686-8B07-4CF3-978B-1B9341027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A433-9D52-417F-9F30-07542EDA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F8E-D7B6-402E-BE77-608F0F57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34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18924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8234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18924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989D-A95C-4B08-B84C-E8021FF6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89A7-AE3B-4655-91CF-1A196FA9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D55B-8602-4443-BA25-CD8B52D89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BEBC0-76FF-4F0C-947C-112DC361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431A-0B69-451B-B5D8-C4F044948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6625-9782-446C-B7DD-C164038A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42A6-74C7-42AB-B81A-9431F0FE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87F43-AC52-4BF4-80A0-7810CAC8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33DE-A576-42EC-A2C4-65495759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1F090-EBA8-4355-92EA-1855405E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3186-99AA-4841-81A2-D6DA528F2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40C4-3608-430C-8454-1A725179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CB1EA-4FB7-4BCD-B729-1AD824D69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34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18924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18234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18924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31EF-3F39-43D4-A9AF-0A769BC6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EF787-9E6A-44DC-A1B9-F8A1B612C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31901-901E-4C75-9953-76C69301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C3BAB-23EF-4F92-9345-F33F1A6E6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1992C-0F52-4D82-8589-2D8A8514A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460CB-E411-4EBD-8DA0-E79B0E602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215-972E-4024-8898-FA105771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40F4-2B62-48D5-A69E-527CB965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CED92-763B-4AFE-BAE2-E313E60D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41572-9942-4F75-A8D7-C2A2D90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1EED2-C76B-4DB3-A371-1C5BCC17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76F4A-B0B5-43FB-95A8-49876C47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EF244-C5F5-4F4F-8286-082483CF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8234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18924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18234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318924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B0E05-290A-4360-A552-DD1151A4D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4AA4B-0B6A-4B05-8BAD-D0467BBF4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C2BC-C305-4495-B354-9BDD2E18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039E1-804B-40D7-B0E7-33CB79C4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7C06-91C6-4F71-9C5A-1AE17BDE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30789-CB15-4C88-816B-F7FA867D8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DDE86-5AD9-4B42-A2A1-6204EAA1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C464E-45C0-4D83-B5DD-826ABA16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36281-01A4-447A-979C-35588E1C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EB3A0-BFA6-4967-BBC4-B82A2822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BA7374-03B5-4A44-AC40-74735B69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7D5E1-66DF-4519-AAB5-401A60AC6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9EEFA-1E66-4E0B-A25C-85EF7730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82340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189240" y="144396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182340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3189240" y="1778400"/>
            <a:ext cx="1300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660F0-1DBD-4258-BB01-60D42AE5D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D21A-9B02-4EEC-94D0-2CDF27A8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432-2757-4F8B-9C4A-C0ED7042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AD24-B99A-4B42-B6A8-08AC1DBF4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63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527560" y="177840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A774-39C1-49AC-A88E-AB1894E0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527560" y="1443960"/>
            <a:ext cx="19713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1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778400"/>
            <a:ext cx="4039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3996-51C7-46F3-9651-7A0EAB178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8920" y="5261400"/>
            <a:ext cx="7772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1442D9-AC46-438E-9FA3-2BB804CF6C3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48920" y="14439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»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E1C2A1-00CD-455B-8D6A-EB4B317A125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710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281320" y="1443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»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C9C1AD-1F59-49D0-A331-958B77A8710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body"/>
          </p:nvPr>
        </p:nvSpPr>
        <p:spPr>
          <a:xfrm>
            <a:off x="457200" y="207360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16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7933c"/>
              </a:buClr>
              <a:buFont typeface="Arial"/>
              <a:buChar char="»"/>
            </a:pPr>
            <a:r>
              <a:rPr b="0" lang="en-US" sz="16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4645080" y="14439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645080" y="207360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lick to edit Master text sty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20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Secon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1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Third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77933c"/>
              </a:buClr>
              <a:buFont typeface="Arial"/>
              <a:buChar char="–"/>
            </a:pPr>
            <a:r>
              <a:rPr b="0" lang="en-US" sz="16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our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77933c"/>
              </a:buClr>
              <a:buFont typeface="Arial"/>
              <a:buChar char="»"/>
            </a:pPr>
            <a:r>
              <a:rPr b="0" lang="en-US" sz="16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ifth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8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A229FF5-CDC3-4807-ABC4-7D12E8B41DCB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8920" y="5261400"/>
            <a:ext cx="7772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lick to edit Master title sty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48920" y="4803480"/>
            <a:ext cx="8093160" cy="61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4e863a"/>
                </a:solidFill>
                <a:latin typeface="Calibri"/>
              </a:rPr>
              <a:t>鲜艳玫瑰淡雅通用</a:t>
            </a:r>
            <a:r>
              <a:rPr b="0" lang="en-US" sz="4000" spc="-1" strike="noStrike">
                <a:solidFill>
                  <a:srgbClr val="4e863a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4e863a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2892240" y="3276360"/>
            <a:ext cx="7779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8920" y="144396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1320" y="274680"/>
            <a:ext cx="671040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1320" y="1443960"/>
            <a:ext cx="6710400" cy="42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Make Effective Pres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Using Awesome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Engage your Aud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Capture Audience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lide T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396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Product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2073600"/>
            <a:ext cx="403992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45080" y="144396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Product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45080" y="2073600"/>
            <a:ext cx="4041360" cy="379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77933c"/>
              </a:buClr>
              <a:buFont typeface="Arial"/>
              <a:buChar char="•"/>
            </a:pPr>
            <a:r>
              <a:rPr b="0" lang="en-US" sz="24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Featur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143640" y="6163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7</TotalTime>
  <Application>LibreOffice/7.4.7.2$Linux_X86_64 LibreOffice_project/40$Build-2</Application>
  <AppVersion>15.0000</AppVersion>
  <Words>164</Words>
  <Paragraphs>3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1T19:17:07Z</dcterms:created>
  <dc:creator>Julian</dc:creator>
  <dc:description/>
  <dc:language>en-US</dc:language>
  <cp:lastModifiedBy>王玉清</cp:lastModifiedBy>
  <dcterms:modified xsi:type="dcterms:W3CDTF">2016-02-20T03:18:36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