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923-F245-41B3-AE69-B6BC3505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99F-7337-4BCE-A26A-AA31926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298-E50C-484E-8E18-D46F6536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3BA-8862-4303-A663-269A51EC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7701-A7C8-4501-A2F9-382D64DC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067-0D4B-4D26-BEB6-B1421E0B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0DB1-723A-4176-92A3-A3E12F56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251-42D5-456D-A694-D7BDC96F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F40-634B-4D94-BC16-A37F0FF8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582-595E-44DE-A92F-B273DD93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FE23-6A1E-4786-86EA-B6F5443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C30-6B28-4661-BF15-DFDC827E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1D89-B9B6-4A70-99C8-325F944F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722-688D-4EA7-AD75-00C9D43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6EF-76B9-48AF-92A2-E0D6FE2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E252-7D2E-4B66-9D20-AA072BA0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031C-FCF5-4C86-8B42-2B876580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033-7886-44AC-B017-7F047D8E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312-33FB-4751-A44E-FDF0E211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FC6-BBD8-480C-832F-5600FBBE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761-058F-447B-BE29-4E506452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C38-7ADC-4614-8FF8-FE5806E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6A8-ABD2-448F-A62C-62EC6BDB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418-1785-4763-978F-B0A7428C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0ABC7C-2B0C-4CAE-B21A-91E5250DC4C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c06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c06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c06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D33980-7C7A-4A4B-9AB3-AB88559B80C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819520"/>
            <a:ext cx="81428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印度风光通用</a:t>
            </a:r>
            <a:r>
              <a:rPr b="1" lang="en-US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c06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24816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1295280"/>
            <a:ext cx="6476760" cy="50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5680" y="152280"/>
            <a:ext cx="724356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29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1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c0600"/>
                </a:solidFill>
                <a:latin typeface="Adobe Caslon Pro"/>
              </a:rPr>
              <a:t>MyTemplatesShop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7400" y="1600200"/>
            <a:ext cx="7799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68">
  <a:themeElements>
    <a:clrScheme name="Custom 142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68">
  <a:themeElements>
    <a:clrScheme name="Custom 142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0068</Template>
  <TotalTime>0</TotalTime>
  <Application>LibreOffice/7.4.7.2$Linux_X86_64 LibreOffice_project/40$Build-2</Application>
  <AppVersion>15.0000</AppVersion>
  <Words>120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3:02:01Z</dcterms:created>
  <dc:creator>YANGS</dc:creator>
  <dc:description/>
  <dc:language>en-US</dc:language>
  <cp:lastModifiedBy>王玉清</cp:lastModifiedBy>
  <dcterms:modified xsi:type="dcterms:W3CDTF">2016-02-23T03:47:09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