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B55E-B1D3-4BB9-B947-E6E318B4E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3345-D216-4CE6-9EC7-C1D960991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19FD-C56F-441D-859C-420764FF2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AAD6-97F9-4C82-9C6F-02DDBB5D6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D3A7-37DD-45B0-A204-B1DFE6D66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DD25-DDD0-4547-B580-29429640A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24DD-3C9B-4A01-99EF-EF3DF80B0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179D-8BE0-4019-A79F-1E5321073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1B79-988D-40C3-BA5B-FA081E570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CD19-7DBB-452F-A9E5-93D954AE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1A56-9F3A-41C5-92B3-3E5CE2E5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C265-86DA-47F2-B8BD-DF0F2F769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53EC0-E5CB-4614-891C-F84B936DC3D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圆角矩形 4"/>
          <p:cNvSpPr/>
          <p:nvPr/>
        </p:nvSpPr>
        <p:spPr>
          <a:xfrm rot="2709000">
            <a:off x="911520" y="-1399320"/>
            <a:ext cx="9657000" cy="9661320"/>
          </a:xfrm>
          <a:custGeom>
            <a:avLst/>
            <a:gdLst>
              <a:gd name="textAreaLeft" fmla="*/ 0 w 9657000"/>
              <a:gd name="textAreaRight" fmla="*/ 9657360 w 9657000"/>
              <a:gd name="textAreaTop" fmla="*/ 0 h 9661320"/>
              <a:gd name="textAreaBottom" fmla="*/ 9661680 h 9661320"/>
            </a:gdLst>
            <a:ahLst/>
            <a:rect l="textAreaLeft" t="textAreaTop" r="textAreaRight" b="textAreaBottom"/>
            <a:pathLst>
              <a:path w="9662232" h="9662041">
                <a:moveTo>
                  <a:pt x="810646" y="5631839"/>
                </a:moveTo>
                <a:lnTo>
                  <a:pt x="4051389" y="8855635"/>
                </a:lnTo>
                <a:cubicBezTo>
                  <a:pt x="3943397" y="8966582"/>
                  <a:pt x="3792361" y="9035181"/>
                  <a:pt x="3625303" y="9035181"/>
                </a:cubicBezTo>
                <a:lnTo>
                  <a:pt x="1236733" y="9035181"/>
                </a:lnTo>
                <a:cubicBezTo>
                  <a:pt x="906931" y="9035181"/>
                  <a:pt x="639573" y="8767823"/>
                  <a:pt x="639573" y="8438021"/>
                </a:cubicBezTo>
                <a:lnTo>
                  <a:pt x="639573" y="6049451"/>
                </a:lnTo>
                <a:cubicBezTo>
                  <a:pt x="639573" y="5886708"/>
                  <a:pt x="704675" y="5739170"/>
                  <a:pt x="810646" y="5631839"/>
                </a:cubicBezTo>
                <a:close/>
                <a:moveTo>
                  <a:pt x="0" y="4825433"/>
                </a:moveTo>
                <a:lnTo>
                  <a:pt x="4800196" y="0"/>
                </a:lnTo>
                <a:lnTo>
                  <a:pt x="9662232" y="4836608"/>
                </a:lnTo>
                <a:lnTo>
                  <a:pt x="4862035" y="9662041"/>
                </a:lnTo>
                <a:lnTo>
                  <a:pt x="4051389" y="8855635"/>
                </a:lnTo>
                <a:cubicBezTo>
                  <a:pt x="4157361" y="8748304"/>
                  <a:pt x="4222463" y="8600765"/>
                  <a:pt x="4222463" y="8438021"/>
                </a:cubicBezTo>
                <a:lnTo>
                  <a:pt x="4222463" y="6049451"/>
                </a:lnTo>
                <a:cubicBezTo>
                  <a:pt x="4222463" y="5719649"/>
                  <a:pt x="3955105" y="5452291"/>
                  <a:pt x="3625303" y="5452291"/>
                </a:cubicBezTo>
                <a:lnTo>
                  <a:pt x="1236733" y="5452291"/>
                </a:lnTo>
                <a:cubicBezTo>
                  <a:pt x="1069675" y="5452291"/>
                  <a:pt x="918638" y="5520891"/>
                  <a:pt x="810646" y="5631839"/>
                </a:cubicBezTo>
                <a:lnTo>
                  <a:pt x="0" y="4825433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965520" y="2033280"/>
            <a:ext cx="2790720" cy="2790720"/>
            <a:chOff x="965520" y="2033280"/>
            <a:chExt cx="2790720" cy="2790720"/>
          </a:xfrm>
        </p:grpSpPr>
        <p:sp>
          <p:nvSpPr>
            <p:cNvPr id="43" name="圆角矩形 2"/>
            <p:cNvSpPr/>
            <p:nvPr/>
          </p:nvSpPr>
          <p:spPr>
            <a:xfrm rot="2709000">
              <a:off x="1380240" y="2448360"/>
              <a:ext cx="1968840" cy="1967040"/>
            </a:xfrm>
            <a:prstGeom prst="roundRect">
              <a:avLst>
                <a:gd name="adj" fmla="val 16667"/>
              </a:avLst>
            </a:prstGeom>
            <a:solidFill>
              <a:srgbClr val="00b0f0"/>
            </a:solidFill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圆角矩形 6"/>
            <p:cNvSpPr/>
            <p:nvPr/>
          </p:nvSpPr>
          <p:spPr>
            <a:xfrm rot="2709000">
              <a:off x="1373400" y="2442240"/>
              <a:ext cx="1974240" cy="1972440"/>
            </a:xfrm>
            <a:custGeom>
              <a:avLst/>
              <a:gdLst>
                <a:gd name="textAreaLeft" fmla="*/ 0 w 1974240"/>
                <a:gd name="textAreaRight" fmla="*/ 1974600 w 1974240"/>
                <a:gd name="textAreaTop" fmla="*/ 0 h 1972440"/>
                <a:gd name="textAreaBottom" fmla="*/ 1972440 h 1972440"/>
              </a:gdLst>
              <a:ahLst/>
              <a:rect l="textAreaLeft" t="textAreaTop" r="textAreaRight" b="textAreaBottom"/>
              <a:pathLst>
                <a:path w="2777564" h="2777564">
                  <a:moveTo>
                    <a:pt x="126227" y="157202"/>
                  </a:moveTo>
                  <a:cubicBezTo>
                    <a:pt x="125134" y="158295"/>
                    <a:pt x="124048" y="159394"/>
                    <a:pt x="123267" y="160791"/>
                  </a:cubicBezTo>
                  <a:lnTo>
                    <a:pt x="2628063" y="2652488"/>
                  </a:lnTo>
                  <a:cubicBezTo>
                    <a:pt x="2709969" y="2569531"/>
                    <a:pt x="2760287" y="2455498"/>
                    <a:pt x="2760287" y="2329712"/>
                  </a:cubicBezTo>
                  <a:lnTo>
                    <a:pt x="2760287" y="483567"/>
                  </a:lnTo>
                  <a:cubicBezTo>
                    <a:pt x="2760287" y="228660"/>
                    <a:pt x="2553645" y="22018"/>
                    <a:pt x="2298737" y="22018"/>
                  </a:cubicBezTo>
                  <a:lnTo>
                    <a:pt x="452593" y="22018"/>
                  </a:lnTo>
                  <a:cubicBezTo>
                    <a:pt x="325139" y="22018"/>
                    <a:pt x="209751" y="73678"/>
                    <a:pt x="126227" y="157202"/>
                  </a:cubicBezTo>
                  <a:close/>
                  <a:moveTo>
                    <a:pt x="135591" y="135591"/>
                  </a:moveTo>
                  <a:cubicBezTo>
                    <a:pt x="219366" y="51816"/>
                    <a:pt x="335100" y="0"/>
                    <a:pt x="462937" y="0"/>
                  </a:cubicBezTo>
                  <a:lnTo>
                    <a:pt x="2314627" y="0"/>
                  </a:lnTo>
                  <a:cubicBezTo>
                    <a:pt x="2570300" y="0"/>
                    <a:pt x="2777564" y="207264"/>
                    <a:pt x="2777564" y="462937"/>
                  </a:cubicBezTo>
                  <a:lnTo>
                    <a:pt x="2777564" y="2314627"/>
                  </a:lnTo>
                  <a:cubicBezTo>
                    <a:pt x="2777564" y="2570300"/>
                    <a:pt x="2570300" y="2777564"/>
                    <a:pt x="2314627" y="2777564"/>
                  </a:cubicBezTo>
                  <a:lnTo>
                    <a:pt x="462937" y="2777564"/>
                  </a:lnTo>
                  <a:cubicBezTo>
                    <a:pt x="207264" y="2777564"/>
                    <a:pt x="0" y="2570300"/>
                    <a:pt x="0" y="2314627"/>
                  </a:cubicBezTo>
                  <a:lnTo>
                    <a:pt x="0" y="462937"/>
                  </a:lnTo>
                  <a:cubicBezTo>
                    <a:pt x="0" y="335101"/>
                    <a:pt x="51816" y="219366"/>
                    <a:pt x="135591" y="135591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b0f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" name="TextBox 10"/>
          <p:cNvSpPr/>
          <p:nvPr/>
        </p:nvSpPr>
        <p:spPr>
          <a:xfrm>
            <a:off x="1389240" y="3043080"/>
            <a:ext cx="194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f0"/>
                </a:solidFill>
                <a:latin typeface="Calibri"/>
              </a:rPr>
              <a:t>LO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12"/>
          <p:cNvSpPr/>
          <p:nvPr/>
        </p:nvSpPr>
        <p:spPr>
          <a:xfrm>
            <a:off x="1258920" y="1774800"/>
            <a:ext cx="748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圆角棱形创意蓝色商务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13"/>
          <p:cNvSpPr/>
          <p:nvPr/>
        </p:nvSpPr>
        <p:spPr>
          <a:xfrm>
            <a:off x="5788080" y="5786280"/>
            <a:ext cx="2960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蓝与白的前世今世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蓝与白的前世今世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将来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蓝与白的前世今世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现在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1"/>
          <p:cNvSpPr/>
          <p:nvPr/>
        </p:nvSpPr>
        <p:spPr>
          <a:xfrm>
            <a:off x="5003640" y="4292640"/>
            <a:ext cx="309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封面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微软雅黑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7"/>
          <p:cNvSpPr/>
          <p:nvPr/>
        </p:nvSpPr>
        <p:spPr>
          <a:xfrm>
            <a:off x="2792520" y="0"/>
            <a:ext cx="6351480" cy="6858000"/>
          </a:xfrm>
          <a:custGeom>
            <a:avLst/>
            <a:gdLst>
              <a:gd name="textAreaLeft" fmla="*/ 0 w 6351480"/>
              <a:gd name="textAreaRight" fmla="*/ 6351840 w 635148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6350881" h="6858000">
                <a:moveTo>
                  <a:pt x="6932" y="0"/>
                </a:moveTo>
                <a:lnTo>
                  <a:pt x="6350881" y="0"/>
                </a:lnTo>
                <a:lnTo>
                  <a:pt x="6350881" y="6858000"/>
                </a:lnTo>
                <a:lnTo>
                  <a:pt x="0" y="6858000"/>
                </a:lnTo>
                <a:cubicBezTo>
                  <a:pt x="94478" y="6815102"/>
                  <a:pt x="182596" y="6754408"/>
                  <a:pt x="260303" y="6676908"/>
                </a:cubicBezTo>
                <a:lnTo>
                  <a:pt x="2861394" y="4082772"/>
                </a:lnTo>
                <a:cubicBezTo>
                  <a:pt x="3220541" y="3724586"/>
                  <a:pt x="3221319" y="3143073"/>
                  <a:pt x="2863133" y="2783926"/>
                </a:cubicBezTo>
                <a:lnTo>
                  <a:pt x="268996" y="182835"/>
                </a:lnTo>
                <a:cubicBezTo>
                  <a:pt x="190879" y="104508"/>
                  <a:pt x="102139" y="43226"/>
                  <a:pt x="6932" y="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圆角矩形 8"/>
          <p:cNvSpPr/>
          <p:nvPr/>
        </p:nvSpPr>
        <p:spPr>
          <a:xfrm rot="2697600">
            <a:off x="720720" y="1595160"/>
            <a:ext cx="3666960" cy="366696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1122480" y="2921040"/>
            <a:ext cx="287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LOGO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10"/>
          <p:cNvSpPr/>
          <p:nvPr/>
        </p:nvSpPr>
        <p:spPr>
          <a:xfrm>
            <a:off x="4973760" y="981000"/>
            <a:ext cx="406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蓝与白的前世今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11"/>
          <p:cNvSpPr/>
          <p:nvPr/>
        </p:nvSpPr>
        <p:spPr>
          <a:xfrm>
            <a:off x="5908680" y="5877000"/>
            <a:ext cx="2960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蓝与白的前世今世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蓝与白的前世今世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将来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蓝与白的前世今世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现在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13"/>
          <p:cNvSpPr/>
          <p:nvPr/>
        </p:nvSpPr>
        <p:spPr>
          <a:xfrm>
            <a:off x="5918040" y="3498840"/>
            <a:ext cx="30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封面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微软雅黑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圆角矩形 2"/>
          <p:cNvSpPr/>
          <p:nvPr/>
        </p:nvSpPr>
        <p:spPr>
          <a:xfrm rot="19139400">
            <a:off x="-744120" y="4196880"/>
            <a:ext cx="1593720" cy="1706760"/>
          </a:xfrm>
          <a:custGeom>
            <a:avLst/>
            <a:gdLst>
              <a:gd name="textAreaLeft" fmla="*/ 0 w 1593720"/>
              <a:gd name="textAreaRight" fmla="*/ 1594080 w 1593720"/>
              <a:gd name="textAreaTop" fmla="*/ 0 h 1706760"/>
              <a:gd name="textAreaBottom" fmla="*/ 1707120 h 1706760"/>
            </a:gdLst>
            <a:ahLst/>
            <a:rect l="textAreaLeft" t="textAreaTop" r="textAreaRight" b="textAreaBottom"/>
            <a:pathLst>
              <a:path w="1597651" h="1706458">
                <a:moveTo>
                  <a:pt x="1512441" y="46160"/>
                </a:moveTo>
                <a:cubicBezTo>
                  <a:pt x="1565088" y="98806"/>
                  <a:pt x="1597651" y="171537"/>
                  <a:pt x="1597651" y="251874"/>
                </a:cubicBezTo>
                <a:lnTo>
                  <a:pt x="1597651" y="1415534"/>
                </a:lnTo>
                <a:cubicBezTo>
                  <a:pt x="1597651" y="1576207"/>
                  <a:pt x="1467400" y="1706458"/>
                  <a:pt x="1306727" y="1706458"/>
                </a:cubicBezTo>
                <a:lnTo>
                  <a:pt x="143066" y="1706458"/>
                </a:lnTo>
                <a:cubicBezTo>
                  <a:pt x="90797" y="1706458"/>
                  <a:pt x="41747" y="1692673"/>
                  <a:pt x="0" y="1667407"/>
                </a:cubicBezTo>
                <a:lnTo>
                  <a:pt x="1449792" y="0"/>
                </a:lnTo>
                <a:cubicBezTo>
                  <a:pt x="1473203" y="11824"/>
                  <a:pt x="1494048" y="27766"/>
                  <a:pt x="1512441" y="46160"/>
                </a:cubicBezTo>
                <a:close/>
              </a:path>
            </a:pathLst>
          </a:custGeom>
          <a:solidFill>
            <a:srgbClr val="f9a1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圆角矩形 3"/>
          <p:cNvSpPr/>
          <p:nvPr/>
        </p:nvSpPr>
        <p:spPr>
          <a:xfrm rot="19139400">
            <a:off x="625320" y="2894040"/>
            <a:ext cx="1744920" cy="174456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圆角矩形 4"/>
          <p:cNvSpPr/>
          <p:nvPr/>
        </p:nvSpPr>
        <p:spPr>
          <a:xfrm rot="19139400">
            <a:off x="2152440" y="1564920"/>
            <a:ext cx="1744560" cy="1746360"/>
          </a:xfrm>
          <a:custGeom>
            <a:avLst/>
            <a:gdLst>
              <a:gd name="textAreaLeft" fmla="*/ 84960 w 1744560"/>
              <a:gd name="textAreaRight" fmla="*/ 1659600 w 1744560"/>
              <a:gd name="textAreaTop" fmla="*/ 84960 h 1746360"/>
              <a:gd name="textAreaBottom" fmla="*/ 1661400 h 1746360"/>
            </a:gdLst>
            <a:ahLst/>
            <a:rect l="textAreaLeft" t="textAreaTop" r="textAreaRight" b="textAreaBottom"/>
            <a:pathLst>
              <a:path w="21600" h="21622">
                <a:moveTo>
                  <a:pt x="3600" y="0"/>
                </a:moveTo>
                <a:arcTo wR="3600" hR="3600" stAng="16200000" swAng="-5400000"/>
                <a:lnTo>
                  <a:pt x="0" y="18022"/>
                </a:lnTo>
                <a:arcTo wR="3600" hR="3600" stAng="10800000" swAng="-5400000"/>
                <a:lnTo>
                  <a:pt x="18000" y="216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圆角矩形 5"/>
          <p:cNvSpPr/>
          <p:nvPr/>
        </p:nvSpPr>
        <p:spPr>
          <a:xfrm rot="19139400">
            <a:off x="369720" y="5684400"/>
            <a:ext cx="1744920" cy="1744920"/>
          </a:xfrm>
          <a:custGeom>
            <a:avLst/>
            <a:gdLst>
              <a:gd name="textAreaLeft" fmla="*/ 0 w 1744920"/>
              <a:gd name="textAreaRight" fmla="*/ 1745280 w 1744920"/>
              <a:gd name="textAreaTop" fmla="*/ 0 h 1744920"/>
              <a:gd name="textAreaBottom" fmla="*/ 1745280 h 1744920"/>
            </a:gdLst>
            <a:ahLst/>
            <a:rect l="textAreaLeft" t="textAreaTop" r="textAreaRight" b="textAreaBottom"/>
            <a:pathLst>
              <a:path w="1745509" h="1745508">
                <a:moveTo>
                  <a:pt x="1660299" y="85209"/>
                </a:moveTo>
                <a:cubicBezTo>
                  <a:pt x="1712946" y="137856"/>
                  <a:pt x="1745509" y="210587"/>
                  <a:pt x="1745509" y="290924"/>
                </a:cubicBezTo>
                <a:lnTo>
                  <a:pt x="1745509" y="1454584"/>
                </a:lnTo>
                <a:cubicBezTo>
                  <a:pt x="1745509" y="1615257"/>
                  <a:pt x="1615258" y="1745508"/>
                  <a:pt x="1454585" y="1745508"/>
                </a:cubicBezTo>
                <a:lnTo>
                  <a:pt x="1417657" y="1745508"/>
                </a:lnTo>
                <a:lnTo>
                  <a:pt x="0" y="512870"/>
                </a:lnTo>
                <a:lnTo>
                  <a:pt x="0" y="290924"/>
                </a:lnTo>
                <a:cubicBezTo>
                  <a:pt x="0" y="130251"/>
                  <a:pt x="130251" y="0"/>
                  <a:pt x="290924" y="0"/>
                </a:cubicBezTo>
                <a:lnTo>
                  <a:pt x="1454585" y="0"/>
                </a:lnTo>
                <a:cubicBezTo>
                  <a:pt x="1534921" y="0"/>
                  <a:pt x="1607652" y="32563"/>
                  <a:pt x="1660299" y="85209"/>
                </a:cubicBezTo>
                <a:close/>
              </a:path>
            </a:pathLst>
          </a:cu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圆角矩形 6"/>
          <p:cNvSpPr/>
          <p:nvPr/>
        </p:nvSpPr>
        <p:spPr>
          <a:xfrm rot="19139400">
            <a:off x="1886040" y="4365360"/>
            <a:ext cx="1746000" cy="1746000"/>
          </a:xfrm>
          <a:prstGeom prst="roundRect">
            <a:avLst>
              <a:gd name="adj" fmla="val 16667"/>
            </a:avLst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圆角矩形 7"/>
          <p:cNvSpPr/>
          <p:nvPr/>
        </p:nvSpPr>
        <p:spPr>
          <a:xfrm rot="19139400">
            <a:off x="3412800" y="3038040"/>
            <a:ext cx="1746360" cy="1744560"/>
          </a:xfrm>
          <a:prstGeom prst="roundRect">
            <a:avLst>
              <a:gd name="adj" fmla="val 16667"/>
            </a:avLst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9"/>
          <p:cNvSpPr/>
          <p:nvPr/>
        </p:nvSpPr>
        <p:spPr>
          <a:xfrm>
            <a:off x="4440240" y="1557360"/>
            <a:ext cx="406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b0f0"/>
                </a:solidFill>
                <a:latin typeface="微软雅黑"/>
                <a:ea typeface="微软雅黑"/>
              </a:rPr>
              <a:t>历经多少轮回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矩形 11"/>
          <p:cNvSpPr/>
          <p:nvPr/>
        </p:nvSpPr>
        <p:spPr>
          <a:xfrm>
            <a:off x="8761320" y="0"/>
            <a:ext cx="203400" cy="6858000"/>
          </a:xfrm>
          <a:prstGeom prst="rect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矩形 12"/>
          <p:cNvSpPr/>
          <p:nvPr/>
        </p:nvSpPr>
        <p:spPr>
          <a:xfrm>
            <a:off x="8400960" y="0"/>
            <a:ext cx="203400" cy="6858000"/>
          </a:xfrm>
          <a:prstGeom prst="rect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13"/>
          <p:cNvSpPr/>
          <p:nvPr/>
        </p:nvSpPr>
        <p:spPr>
          <a:xfrm>
            <a:off x="5219640" y="4172040"/>
            <a:ext cx="309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b0f0"/>
                </a:solidFill>
                <a:latin typeface="微软雅黑"/>
                <a:ea typeface="微软雅黑"/>
              </a:rPr>
              <a:t>封面</a:t>
            </a:r>
            <a:r>
              <a:rPr b="0" lang="en-US" sz="4400" spc="-1" strike="noStrike">
                <a:solidFill>
                  <a:srgbClr val="00b0f0"/>
                </a:solidFill>
                <a:latin typeface="Calibri"/>
                <a:ea typeface="微软雅黑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14"/>
          <p:cNvSpPr/>
          <p:nvPr/>
        </p:nvSpPr>
        <p:spPr>
          <a:xfrm>
            <a:off x="5148360" y="5786280"/>
            <a:ext cx="2960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b0f0"/>
                </a:solidFill>
                <a:latin typeface="微软雅黑"/>
                <a:ea typeface="微软雅黑"/>
              </a:rPr>
              <a:t>蓝与白的前世今世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b0f0"/>
                </a:solidFill>
                <a:latin typeface="微软雅黑"/>
                <a:ea typeface="微软雅黑"/>
              </a:rPr>
              <a:t>蓝与白的前世今世</a:t>
            </a:r>
            <a:r>
              <a:rPr b="0" lang="en-US" sz="1400" spc="-1" strike="noStrike">
                <a:solidFill>
                  <a:srgbClr val="00b0f0"/>
                </a:solidFill>
                <a:latin typeface="微软雅黑"/>
                <a:ea typeface="微软雅黑"/>
              </a:rPr>
              <a:t>-</a:t>
            </a:r>
            <a:r>
              <a:rPr b="0" lang="zh-CN" sz="1400" spc="-1" strike="noStrike">
                <a:solidFill>
                  <a:srgbClr val="00b0f0"/>
                </a:solidFill>
                <a:latin typeface="微软雅黑"/>
                <a:ea typeface="微软雅黑"/>
              </a:rPr>
              <a:t>将来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b0f0"/>
                </a:solidFill>
                <a:latin typeface="微软雅黑"/>
                <a:ea typeface="微软雅黑"/>
              </a:rPr>
              <a:t>蓝与白的前世今世</a:t>
            </a:r>
            <a:r>
              <a:rPr b="0" lang="en-US" sz="1400" spc="-1" strike="noStrike">
                <a:solidFill>
                  <a:srgbClr val="00b0f0"/>
                </a:solidFill>
                <a:latin typeface="微软雅黑"/>
                <a:ea typeface="微软雅黑"/>
              </a:rPr>
              <a:t>-</a:t>
            </a:r>
            <a:r>
              <a:rPr b="0" lang="zh-CN" sz="1400" spc="-1" strike="noStrike">
                <a:solidFill>
                  <a:srgbClr val="00b0f0"/>
                </a:solidFill>
                <a:latin typeface="微软雅黑"/>
                <a:ea typeface="微软雅黑"/>
              </a:rPr>
              <a:t>现在</a:t>
            </a:r>
            <a:r>
              <a:rPr b="0" lang="en-US" sz="1400" spc="-1" strike="noStrike">
                <a:solidFill>
                  <a:srgbClr val="00b0f0"/>
                </a:solidFill>
                <a:latin typeface="微软雅黑"/>
                <a:ea typeface="微软雅黑"/>
              </a:rPr>
              <a:t>-</a:t>
            </a:r>
            <a:r>
              <a:rPr b="0" lang="zh-CN" sz="1400" spc="-1" strike="noStrike">
                <a:solidFill>
                  <a:srgbClr val="00b0f0"/>
                </a:solidFill>
                <a:latin typeface="微软雅黑"/>
                <a:ea typeface="微软雅黑"/>
              </a:rPr>
              <a:t>过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圆角矩形 4"/>
          <p:cNvSpPr/>
          <p:nvPr/>
        </p:nvSpPr>
        <p:spPr>
          <a:xfrm>
            <a:off x="3708360" y="189000"/>
            <a:ext cx="142920" cy="144360"/>
          </a:xfrm>
          <a:custGeom>
            <a:avLst/>
            <a:gdLst>
              <a:gd name="textAreaLeft" fmla="*/ 6840 w 142920"/>
              <a:gd name="textAreaRight" fmla="*/ 136080 w 142920"/>
              <a:gd name="textAreaTop" fmla="*/ 6840 h 144360"/>
              <a:gd name="textAreaBottom" fmla="*/ 137520 h 144360"/>
            </a:gdLst>
            <a:ahLst/>
            <a:rect l="textAreaLeft" t="textAreaTop" r="textAreaRight" b="textAreaBottom"/>
            <a:pathLst>
              <a:path w="21600" h="21817">
                <a:moveTo>
                  <a:pt x="3600" y="0"/>
                </a:moveTo>
                <a:arcTo wR="3600" hR="3600" stAng="16200000" swAng="-5400000"/>
                <a:lnTo>
                  <a:pt x="0" y="18217"/>
                </a:lnTo>
                <a:arcTo wR="3600" hR="3600" stAng="10800000" swAng="-5400000"/>
                <a:lnTo>
                  <a:pt x="18000" y="218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圆角矩形 6"/>
          <p:cNvSpPr/>
          <p:nvPr/>
        </p:nvSpPr>
        <p:spPr>
          <a:xfrm>
            <a:off x="3747960" y="0"/>
            <a:ext cx="289080" cy="287280"/>
          </a:xfrm>
          <a:prstGeom prst="roundRect">
            <a:avLst>
              <a:gd name="adj" fmla="val 16667"/>
            </a:avLst>
          </a:prstGeom>
          <a:solidFill>
            <a:srgbClr val="948a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圆角矩形 1"/>
          <p:cNvSpPr/>
          <p:nvPr/>
        </p:nvSpPr>
        <p:spPr>
          <a:xfrm>
            <a:off x="4211640" y="404640"/>
            <a:ext cx="216000" cy="21600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圆角矩形 3"/>
          <p:cNvSpPr/>
          <p:nvPr/>
        </p:nvSpPr>
        <p:spPr>
          <a:xfrm>
            <a:off x="4579920" y="141120"/>
            <a:ext cx="560520" cy="4795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圆角矩形 2"/>
          <p:cNvSpPr/>
          <p:nvPr/>
        </p:nvSpPr>
        <p:spPr>
          <a:xfrm>
            <a:off x="4363920" y="557280"/>
            <a:ext cx="216000" cy="216000"/>
          </a:xfrm>
          <a:prstGeom prst="roundRect">
            <a:avLst>
              <a:gd name="adj" fmla="val 16667"/>
            </a:avLst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圆角矩形 7"/>
          <p:cNvSpPr/>
          <p:nvPr/>
        </p:nvSpPr>
        <p:spPr>
          <a:xfrm>
            <a:off x="5651640" y="141120"/>
            <a:ext cx="614160" cy="614520"/>
          </a:xfrm>
          <a:custGeom>
            <a:avLst/>
            <a:gdLst>
              <a:gd name="textAreaLeft" fmla="*/ 29880 w 614160"/>
              <a:gd name="textAreaRight" fmla="*/ 584280 w 614160"/>
              <a:gd name="textAreaTop" fmla="*/ 29880 h 614520"/>
              <a:gd name="textAreaBottom" fmla="*/ 584640 h 614520"/>
            </a:gdLst>
            <a:ahLst/>
            <a:rect l="textAreaLeft" t="textAreaTop" r="textAreaRight" b="textAreaBottom"/>
            <a:pathLst>
              <a:path w="21600" h="21613">
                <a:moveTo>
                  <a:pt x="3600" y="0"/>
                </a:moveTo>
                <a:arcTo wR="3600" hR="3600" stAng="16200000" swAng="-5400000"/>
                <a:lnTo>
                  <a:pt x="0" y="18013"/>
                </a:lnTo>
                <a:arcTo wR="3600" hR="3600" stAng="10800000" swAng="-5400000"/>
                <a:lnTo>
                  <a:pt x="18000" y="216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圆角矩形 8"/>
          <p:cNvSpPr/>
          <p:nvPr/>
        </p:nvSpPr>
        <p:spPr>
          <a:xfrm>
            <a:off x="5189400" y="630360"/>
            <a:ext cx="462240" cy="461880"/>
          </a:xfrm>
          <a:prstGeom prst="roundRect">
            <a:avLst>
              <a:gd name="adj" fmla="val 16667"/>
            </a:avLst>
          </a:prstGeom>
          <a:solidFill>
            <a:srgbClr val="f9a1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圆角矩形 9"/>
          <p:cNvSpPr/>
          <p:nvPr/>
        </p:nvSpPr>
        <p:spPr>
          <a:xfrm>
            <a:off x="8748720" y="2693880"/>
            <a:ext cx="349200" cy="351000"/>
          </a:xfrm>
          <a:custGeom>
            <a:avLst/>
            <a:gdLst>
              <a:gd name="textAreaLeft" fmla="*/ 16920 w 349200"/>
              <a:gd name="textAreaRight" fmla="*/ 332280 w 349200"/>
              <a:gd name="textAreaTop" fmla="*/ 16920 h 351000"/>
              <a:gd name="textAreaBottom" fmla="*/ 334080 h 351000"/>
            </a:gdLst>
            <a:ahLst/>
            <a:rect l="textAreaLeft" t="textAreaTop" r="textAreaRight" b="textAreaBottom"/>
            <a:pathLst>
              <a:path w="21600" h="21711">
                <a:moveTo>
                  <a:pt x="3600" y="0"/>
                </a:moveTo>
                <a:arcTo wR="3600" hR="3600" stAng="16200000" swAng="-5400000"/>
                <a:lnTo>
                  <a:pt x="0" y="18111"/>
                </a:lnTo>
                <a:arcTo wR="3600" hR="3600" stAng="10800000" swAng="-5400000"/>
                <a:lnTo>
                  <a:pt x="18000" y="217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圆角矩形 10"/>
          <p:cNvSpPr/>
          <p:nvPr/>
        </p:nvSpPr>
        <p:spPr>
          <a:xfrm>
            <a:off x="8402760" y="1916280"/>
            <a:ext cx="614160" cy="615960"/>
          </a:xfrm>
          <a:custGeom>
            <a:avLst/>
            <a:gdLst>
              <a:gd name="textAreaLeft" fmla="*/ 29880 w 614160"/>
              <a:gd name="textAreaRight" fmla="*/ 584280 w 614160"/>
              <a:gd name="textAreaTop" fmla="*/ 29880 h 615960"/>
              <a:gd name="textAreaBottom" fmla="*/ 586080 h 615960"/>
            </a:gdLst>
            <a:ahLst/>
            <a:rect l="textAreaLeft" t="textAreaTop" r="textAreaRight" b="textAreaBottom"/>
            <a:pathLst>
              <a:path w="21600" h="21663">
                <a:moveTo>
                  <a:pt x="3600" y="0"/>
                </a:moveTo>
                <a:arcTo wR="3600" hR="3600" stAng="16200000" swAng="-5400000"/>
                <a:lnTo>
                  <a:pt x="0" y="18063"/>
                </a:lnTo>
                <a:arcTo wR="3600" hR="3600" stAng="10800000" swAng="-5400000"/>
                <a:lnTo>
                  <a:pt x="18000" y="216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圆角矩形 11"/>
          <p:cNvSpPr/>
          <p:nvPr/>
        </p:nvSpPr>
        <p:spPr>
          <a:xfrm>
            <a:off x="6551640" y="34920"/>
            <a:ext cx="614160" cy="614520"/>
          </a:xfrm>
          <a:custGeom>
            <a:avLst/>
            <a:gdLst>
              <a:gd name="textAreaLeft" fmla="*/ 29880 w 614160"/>
              <a:gd name="textAreaRight" fmla="*/ 584280 w 614160"/>
              <a:gd name="textAreaTop" fmla="*/ 29880 h 614520"/>
              <a:gd name="textAreaBottom" fmla="*/ 584640 h 614520"/>
            </a:gdLst>
            <a:ahLst/>
            <a:rect l="textAreaLeft" t="textAreaTop" r="textAreaRight" b="textAreaBottom"/>
            <a:pathLst>
              <a:path w="21600" h="21613">
                <a:moveTo>
                  <a:pt x="3600" y="0"/>
                </a:moveTo>
                <a:arcTo wR="3600" hR="3600" stAng="16200000" swAng="-5400000"/>
                <a:lnTo>
                  <a:pt x="0" y="18013"/>
                </a:lnTo>
                <a:arcTo wR="3600" hR="3600" stAng="10800000" swAng="-5400000"/>
                <a:lnTo>
                  <a:pt x="18000" y="216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圆角矩形 12"/>
          <p:cNvSpPr/>
          <p:nvPr/>
        </p:nvSpPr>
        <p:spPr>
          <a:xfrm>
            <a:off x="7297560" y="339840"/>
            <a:ext cx="309600" cy="309600"/>
          </a:xfrm>
          <a:prstGeom prst="roundRect">
            <a:avLst>
              <a:gd name="adj" fmla="val 16667"/>
            </a:avLst>
          </a:prstGeom>
          <a:solidFill>
            <a:srgbClr val="78db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圆角矩形 13"/>
          <p:cNvSpPr/>
          <p:nvPr/>
        </p:nvSpPr>
        <p:spPr>
          <a:xfrm>
            <a:off x="7451640" y="96840"/>
            <a:ext cx="614520" cy="614520"/>
          </a:xfrm>
          <a:prstGeom prst="roundRect">
            <a:avLst>
              <a:gd name="adj" fmla="val 16667"/>
            </a:avLst>
          </a:prstGeom>
          <a:solidFill>
            <a:srgbClr val="de6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圆角矩形 14"/>
          <p:cNvSpPr/>
          <p:nvPr/>
        </p:nvSpPr>
        <p:spPr>
          <a:xfrm>
            <a:off x="8691480" y="19080"/>
            <a:ext cx="385920" cy="38556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圆角矩形 15"/>
          <p:cNvSpPr/>
          <p:nvPr/>
        </p:nvSpPr>
        <p:spPr>
          <a:xfrm>
            <a:off x="8329680" y="404640"/>
            <a:ext cx="687240" cy="687600"/>
          </a:xfrm>
          <a:custGeom>
            <a:avLst/>
            <a:gdLst>
              <a:gd name="textAreaLeft" fmla="*/ 33480 w 687240"/>
              <a:gd name="textAreaRight" fmla="*/ 653760 w 687240"/>
              <a:gd name="textAreaTop" fmla="*/ 33480 h 687600"/>
              <a:gd name="textAreaBottom" fmla="*/ 654120 h 687600"/>
            </a:gdLst>
            <a:ahLst/>
            <a:rect l="textAreaLeft" t="textAreaTop" r="textAreaRight" b="textAreaBottom"/>
            <a:pathLst>
              <a:path w="21600" h="21611">
                <a:moveTo>
                  <a:pt x="3600" y="0"/>
                </a:moveTo>
                <a:arcTo wR="3600" hR="3600" stAng="16200000" swAng="-5400000"/>
                <a:lnTo>
                  <a:pt x="0" y="18011"/>
                </a:lnTo>
                <a:arcTo wR="3600" hR="3600" stAng="10800000" swAng="-5400000"/>
                <a:lnTo>
                  <a:pt x="18000" y="216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圆角矩形 17"/>
          <p:cNvSpPr/>
          <p:nvPr/>
        </p:nvSpPr>
        <p:spPr>
          <a:xfrm>
            <a:off x="8691480" y="1378080"/>
            <a:ext cx="289080" cy="2887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圆角矩形 5"/>
          <p:cNvSpPr/>
          <p:nvPr/>
        </p:nvSpPr>
        <p:spPr>
          <a:xfrm>
            <a:off x="3924360" y="44280"/>
            <a:ext cx="287280" cy="289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289080"/>
              <a:gd name="textAreaBottom" fmla="*/ 275040 h 289080"/>
            </a:gdLst>
            <a:ahLst/>
            <a:rect l="textAreaLeft" t="textAreaTop" r="textAreaRight" b="textAreaBottom"/>
            <a:pathLst>
              <a:path w="21600" h="21735">
                <a:moveTo>
                  <a:pt x="3600" y="0"/>
                </a:moveTo>
                <a:arcTo wR="3600" hR="3600" stAng="16200000" swAng="-5400000"/>
                <a:lnTo>
                  <a:pt x="0" y="18135"/>
                </a:lnTo>
                <a:arcTo wR="3600" hR="3600" stAng="10800000" swAng="-5400000"/>
                <a:lnTo>
                  <a:pt x="18000" y="217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圆角矩形 18"/>
          <p:cNvSpPr/>
          <p:nvPr/>
        </p:nvSpPr>
        <p:spPr>
          <a:xfrm>
            <a:off x="6245280" y="512640"/>
            <a:ext cx="614160" cy="54468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圆角矩形 19"/>
          <p:cNvSpPr/>
          <p:nvPr/>
        </p:nvSpPr>
        <p:spPr>
          <a:xfrm>
            <a:off x="7759800" y="1173240"/>
            <a:ext cx="728640" cy="728640"/>
          </a:xfrm>
          <a:prstGeom prst="roundRect">
            <a:avLst>
              <a:gd name="adj" fmla="val 16667"/>
            </a:avLst>
          </a:prstGeom>
          <a:solidFill>
            <a:srgbClr val="78db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圆角矩形 16"/>
          <p:cNvSpPr/>
          <p:nvPr/>
        </p:nvSpPr>
        <p:spPr>
          <a:xfrm>
            <a:off x="8370720" y="1057320"/>
            <a:ext cx="316080" cy="31572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圆角矩形 20"/>
          <p:cNvSpPr/>
          <p:nvPr/>
        </p:nvSpPr>
        <p:spPr>
          <a:xfrm>
            <a:off x="8848800" y="3121200"/>
            <a:ext cx="307800" cy="307800"/>
          </a:xfrm>
          <a:prstGeom prst="roundRect">
            <a:avLst>
              <a:gd name="adj" fmla="val 16667"/>
            </a:avLst>
          </a:prstGeom>
          <a:solidFill>
            <a:srgbClr val="948a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圆角矩形 21"/>
          <p:cNvSpPr/>
          <p:nvPr/>
        </p:nvSpPr>
        <p:spPr>
          <a:xfrm>
            <a:off x="8402760" y="3273480"/>
            <a:ext cx="461880" cy="461880"/>
          </a:xfrm>
          <a:prstGeom prst="roundRect">
            <a:avLst>
              <a:gd name="adj" fmla="val 16667"/>
            </a:avLst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圆角矩形 22"/>
          <p:cNvSpPr/>
          <p:nvPr/>
        </p:nvSpPr>
        <p:spPr>
          <a:xfrm>
            <a:off x="8802720" y="3754440"/>
            <a:ext cx="363600" cy="363600"/>
          </a:xfrm>
          <a:prstGeom prst="roundRect">
            <a:avLst>
              <a:gd name="adj" fmla="val 16667"/>
            </a:avLst>
          </a:prstGeom>
          <a:solidFill>
            <a:srgbClr val="78db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圆角矩形 24"/>
          <p:cNvSpPr/>
          <p:nvPr/>
        </p:nvSpPr>
        <p:spPr>
          <a:xfrm>
            <a:off x="8242200" y="6364440"/>
            <a:ext cx="287280" cy="285480"/>
          </a:xfrm>
          <a:prstGeom prst="roundRect">
            <a:avLst>
              <a:gd name="adj" fmla="val 16667"/>
            </a:avLst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圆角矩形 25"/>
          <p:cNvSpPr/>
          <p:nvPr/>
        </p:nvSpPr>
        <p:spPr>
          <a:xfrm>
            <a:off x="7997760" y="6561000"/>
            <a:ext cx="289080" cy="2890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圆角矩形 26"/>
          <p:cNvSpPr/>
          <p:nvPr/>
        </p:nvSpPr>
        <p:spPr>
          <a:xfrm>
            <a:off x="8402760" y="6716880"/>
            <a:ext cx="174600" cy="1746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圆角矩形 27"/>
          <p:cNvSpPr/>
          <p:nvPr/>
        </p:nvSpPr>
        <p:spPr>
          <a:xfrm>
            <a:off x="8744040" y="5877000"/>
            <a:ext cx="307800" cy="307800"/>
          </a:xfrm>
          <a:prstGeom prst="roundRect">
            <a:avLst>
              <a:gd name="adj" fmla="val 16667"/>
            </a:avLst>
          </a:prstGeom>
          <a:solidFill>
            <a:srgbClr val="948a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圆角矩形 28"/>
          <p:cNvSpPr/>
          <p:nvPr/>
        </p:nvSpPr>
        <p:spPr>
          <a:xfrm>
            <a:off x="8386920" y="6049800"/>
            <a:ext cx="306360" cy="308160"/>
          </a:xfrm>
          <a:custGeom>
            <a:avLst/>
            <a:gdLst>
              <a:gd name="textAreaLeft" fmla="*/ 14760 w 306360"/>
              <a:gd name="textAreaRight" fmla="*/ 291600 w 306360"/>
              <a:gd name="textAreaTop" fmla="*/ 14760 h 308160"/>
              <a:gd name="textAreaBottom" fmla="*/ 293400 h 308160"/>
            </a:gdLst>
            <a:ahLst/>
            <a:rect l="textAreaLeft" t="textAreaTop" r="textAreaRight" b="textAreaBottom"/>
            <a:pathLst>
              <a:path w="21600" h="21727">
                <a:moveTo>
                  <a:pt x="3600" y="0"/>
                </a:moveTo>
                <a:arcTo wR="3600" hR="3600" stAng="16200000" swAng="-5400000"/>
                <a:lnTo>
                  <a:pt x="0" y="18127"/>
                </a:lnTo>
                <a:arcTo wR="3600" hR="3600" stAng="10800000" swAng="-5400000"/>
                <a:lnTo>
                  <a:pt x="18000" y="217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2d4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圆角矩形 29"/>
          <p:cNvSpPr/>
          <p:nvPr/>
        </p:nvSpPr>
        <p:spPr>
          <a:xfrm>
            <a:off x="8558280" y="6203880"/>
            <a:ext cx="550800" cy="550800"/>
          </a:xfrm>
          <a:prstGeom prst="roundRect">
            <a:avLst>
              <a:gd name="adj" fmla="val 16667"/>
            </a:avLst>
          </a:prstGeom>
          <a:solidFill>
            <a:srgbClr val="50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圆角矩形 30"/>
          <p:cNvSpPr/>
          <p:nvPr/>
        </p:nvSpPr>
        <p:spPr>
          <a:xfrm>
            <a:off x="8520120" y="4087800"/>
            <a:ext cx="365040" cy="365040"/>
          </a:xfrm>
          <a:prstGeom prst="roundRect">
            <a:avLst>
              <a:gd name="adj" fmla="val 16667"/>
            </a:avLst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圆角矩形 23"/>
          <p:cNvSpPr/>
          <p:nvPr/>
        </p:nvSpPr>
        <p:spPr>
          <a:xfrm>
            <a:off x="8537400" y="4394160"/>
            <a:ext cx="581040" cy="581040"/>
          </a:xfrm>
          <a:prstGeom prst="roundRect">
            <a:avLst>
              <a:gd name="adj" fmla="val 16667"/>
            </a:avLst>
          </a:prstGeom>
          <a:solidFill>
            <a:srgbClr val="2f1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圆角矩形 31"/>
          <p:cNvSpPr/>
          <p:nvPr/>
        </p:nvSpPr>
        <p:spPr>
          <a:xfrm>
            <a:off x="8705880" y="5064120"/>
            <a:ext cx="384120" cy="38412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圆角矩形 32"/>
          <p:cNvSpPr/>
          <p:nvPr/>
        </p:nvSpPr>
        <p:spPr>
          <a:xfrm>
            <a:off x="8632800" y="5467320"/>
            <a:ext cx="461880" cy="40968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圆角矩形 33"/>
          <p:cNvSpPr/>
          <p:nvPr/>
        </p:nvSpPr>
        <p:spPr>
          <a:xfrm>
            <a:off x="8370720" y="5159520"/>
            <a:ext cx="289080" cy="2887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" name="Group 35"/>
          <p:cNvGrpSpPr/>
          <p:nvPr/>
        </p:nvGrpSpPr>
        <p:grpSpPr>
          <a:xfrm>
            <a:off x="1835280" y="1916280"/>
            <a:ext cx="4608360" cy="830160"/>
            <a:chOff x="1835280" y="1916280"/>
            <a:chExt cx="4608360" cy="830160"/>
          </a:xfrm>
        </p:grpSpPr>
        <p:grpSp>
          <p:nvGrpSpPr>
            <p:cNvPr id="101" name="Group 36"/>
            <p:cNvGrpSpPr/>
            <p:nvPr/>
          </p:nvGrpSpPr>
          <p:grpSpPr>
            <a:xfrm>
              <a:off x="1835280" y="1916280"/>
              <a:ext cx="800280" cy="830160"/>
              <a:chOff x="1835280" y="1916280"/>
              <a:chExt cx="800280" cy="830160"/>
            </a:xfrm>
          </p:grpSpPr>
          <p:sp>
            <p:nvSpPr>
              <p:cNvPr id="102" name="圆角矩形 37"/>
              <p:cNvSpPr/>
              <p:nvPr/>
            </p:nvSpPr>
            <p:spPr>
              <a:xfrm>
                <a:off x="1915560" y="2025360"/>
                <a:ext cx="720000" cy="721080"/>
              </a:xfrm>
              <a:custGeom>
                <a:avLst/>
                <a:gdLst>
                  <a:gd name="textAreaLeft" fmla="*/ 34920 w 720000"/>
                  <a:gd name="textAreaRight" fmla="*/ 685080 w 720000"/>
                  <a:gd name="textAreaTop" fmla="*/ 34920 h 721080"/>
                  <a:gd name="textAreaBottom" fmla="*/ 686160 h 721080"/>
                </a:gdLst>
                <a:ahLst/>
                <a:rect l="textAreaLeft" t="textAreaTop" r="textAreaRight" b="textAreaBottom"/>
                <a:pathLst>
                  <a:path w="21600" h="21632">
                    <a:moveTo>
                      <a:pt x="3600" y="0"/>
                    </a:moveTo>
                    <a:arcTo wR="3600" hR="3600" stAng="16200000" swAng="-5400000"/>
                    <a:lnTo>
                      <a:pt x="0" y="18032"/>
                    </a:lnTo>
                    <a:arcTo wR="3600" hR="3600" stAng="10800000" swAng="-5400000"/>
                    <a:lnTo>
                      <a:pt x="18000" y="2163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" name="圆角矩形 36"/>
              <p:cNvSpPr/>
              <p:nvPr/>
            </p:nvSpPr>
            <p:spPr>
              <a:xfrm>
                <a:off x="1835280" y="1916280"/>
                <a:ext cx="720000" cy="721080"/>
              </a:xfrm>
              <a:custGeom>
                <a:avLst/>
                <a:gdLst>
                  <a:gd name="textAreaLeft" fmla="*/ 34920 w 720000"/>
                  <a:gd name="textAreaRight" fmla="*/ 685080 w 720000"/>
                  <a:gd name="textAreaTop" fmla="*/ 34920 h 721080"/>
                  <a:gd name="textAreaBottom" fmla="*/ 686160 h 721080"/>
                </a:gdLst>
                <a:ahLst/>
                <a:rect l="textAreaLeft" t="textAreaTop" r="textAreaRight" b="textAreaBottom"/>
                <a:pathLst>
                  <a:path w="21600" h="21632">
                    <a:moveTo>
                      <a:pt x="3600" y="0"/>
                    </a:moveTo>
                    <a:arcTo wR="3600" hR="3600" stAng="16200000" swAng="-5400000"/>
                    <a:lnTo>
                      <a:pt x="0" y="18032"/>
                    </a:lnTo>
                    <a:arcTo wR="3600" hR="3600" stAng="10800000" swAng="-5400000"/>
                    <a:lnTo>
                      <a:pt x="18000" y="2163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" name="TextBox 38"/>
              <p:cNvSpPr/>
              <p:nvPr/>
            </p:nvSpPr>
            <p:spPr>
              <a:xfrm>
                <a:off x="1841400" y="1932120"/>
                <a:ext cx="7430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PART 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01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5" name="直接连接符 41"/>
            <p:cNvSpPr/>
            <p:nvPr/>
          </p:nvSpPr>
          <p:spPr>
            <a:xfrm>
              <a:off x="2771280" y="2736000"/>
              <a:ext cx="3672360" cy="10440"/>
            </a:xfrm>
            <a:prstGeom prst="line">
              <a:avLst/>
            </a:prstGeom>
            <a:ln w="28440">
              <a:solidFill>
                <a:srgbClr val="bfbfb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Group 41"/>
          <p:cNvGrpSpPr/>
          <p:nvPr/>
        </p:nvGrpSpPr>
        <p:grpSpPr>
          <a:xfrm>
            <a:off x="1827360" y="2997360"/>
            <a:ext cx="4646520" cy="828360"/>
            <a:chOff x="1827360" y="2997360"/>
            <a:chExt cx="4646520" cy="828360"/>
          </a:xfrm>
        </p:grpSpPr>
        <p:grpSp>
          <p:nvGrpSpPr>
            <p:cNvPr id="107" name="Group 42"/>
            <p:cNvGrpSpPr/>
            <p:nvPr/>
          </p:nvGrpSpPr>
          <p:grpSpPr>
            <a:xfrm>
              <a:off x="1827360" y="2997360"/>
              <a:ext cx="839160" cy="828360"/>
              <a:chOff x="1827360" y="2997360"/>
              <a:chExt cx="839160" cy="828360"/>
            </a:xfrm>
          </p:grpSpPr>
          <p:sp>
            <p:nvSpPr>
              <p:cNvPr id="108" name="圆角矩形 46"/>
              <p:cNvSpPr/>
              <p:nvPr/>
            </p:nvSpPr>
            <p:spPr>
              <a:xfrm>
                <a:off x="1946520" y="3106080"/>
                <a:ext cx="720000" cy="719640"/>
              </a:xfrm>
              <a:prstGeom prst="roundRect">
                <a:avLst>
                  <a:gd name="adj" fmla="val 16667"/>
                </a:avLst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" name="圆角矩形 47"/>
              <p:cNvSpPr/>
              <p:nvPr/>
            </p:nvSpPr>
            <p:spPr>
              <a:xfrm>
                <a:off x="1866240" y="2997360"/>
                <a:ext cx="720000" cy="719640"/>
              </a:xfrm>
              <a:prstGeom prst="roundRect">
                <a:avLst>
                  <a:gd name="adj" fmla="val 16667"/>
                </a:avLst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" name="TextBox 48"/>
              <p:cNvSpPr/>
              <p:nvPr/>
            </p:nvSpPr>
            <p:spPr>
              <a:xfrm>
                <a:off x="1827360" y="3013200"/>
                <a:ext cx="7858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PART 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02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1" name="直接连接符 45"/>
            <p:cNvSpPr/>
            <p:nvPr/>
          </p:nvSpPr>
          <p:spPr>
            <a:xfrm>
              <a:off x="2802240" y="3815280"/>
              <a:ext cx="3671640" cy="10440"/>
            </a:xfrm>
            <a:prstGeom prst="line">
              <a:avLst/>
            </a:prstGeom>
            <a:ln w="28440">
              <a:solidFill>
                <a:srgbClr val="bfbfb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Group 47"/>
          <p:cNvGrpSpPr/>
          <p:nvPr/>
        </p:nvGrpSpPr>
        <p:grpSpPr>
          <a:xfrm>
            <a:off x="1857240" y="4076640"/>
            <a:ext cx="4646880" cy="828720"/>
            <a:chOff x="1857240" y="4076640"/>
            <a:chExt cx="4646880" cy="828720"/>
          </a:xfrm>
        </p:grpSpPr>
        <p:grpSp>
          <p:nvGrpSpPr>
            <p:cNvPr id="113" name="Group 48"/>
            <p:cNvGrpSpPr/>
            <p:nvPr/>
          </p:nvGrpSpPr>
          <p:grpSpPr>
            <a:xfrm>
              <a:off x="1857240" y="4076640"/>
              <a:ext cx="839160" cy="828720"/>
              <a:chOff x="1857240" y="4076640"/>
              <a:chExt cx="839160" cy="828720"/>
            </a:xfrm>
          </p:grpSpPr>
          <p:sp>
            <p:nvSpPr>
              <p:cNvPr id="114" name="圆角矩形 52"/>
              <p:cNvSpPr/>
              <p:nvPr/>
            </p:nvSpPr>
            <p:spPr>
              <a:xfrm>
                <a:off x="1976400" y="4185360"/>
                <a:ext cx="720000" cy="720000"/>
              </a:xfrm>
              <a:prstGeom prst="roundRect">
                <a:avLst>
                  <a:gd name="adj" fmla="val 16667"/>
                </a:avLst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" name="圆角矩形 53"/>
              <p:cNvSpPr/>
              <p:nvPr/>
            </p:nvSpPr>
            <p:spPr>
              <a:xfrm>
                <a:off x="1896120" y="4076640"/>
                <a:ext cx="720000" cy="720000"/>
              </a:xfrm>
              <a:prstGeom prst="roundRect">
                <a:avLst>
                  <a:gd name="adj" fmla="val 16667"/>
                </a:avLst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" name="TextBox 54"/>
              <p:cNvSpPr/>
              <p:nvPr/>
            </p:nvSpPr>
            <p:spPr>
              <a:xfrm>
                <a:off x="1857240" y="4092480"/>
                <a:ext cx="7858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PART 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03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7" name="直接连接符 51"/>
            <p:cNvSpPr/>
            <p:nvPr/>
          </p:nvSpPr>
          <p:spPr>
            <a:xfrm>
              <a:off x="2832120" y="4894920"/>
              <a:ext cx="3672000" cy="10440"/>
            </a:xfrm>
            <a:prstGeom prst="line">
              <a:avLst/>
            </a:prstGeom>
            <a:ln w="28440">
              <a:solidFill>
                <a:srgbClr val="bfbfb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8" name="TextBox 55"/>
          <p:cNvSpPr/>
          <p:nvPr/>
        </p:nvSpPr>
        <p:spPr>
          <a:xfrm>
            <a:off x="3226680" y="2060640"/>
            <a:ext cx="22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da9eb"/>
                </a:solidFill>
                <a:latin typeface="微软雅黑"/>
                <a:ea typeface="微软雅黑"/>
              </a:rPr>
              <a:t>蓝与白</a:t>
            </a:r>
            <a:r>
              <a:rPr b="0" lang="en-US" sz="3200" spc="-1" strike="noStrike">
                <a:solidFill>
                  <a:srgbClr val="3da9eb"/>
                </a:solidFill>
                <a:latin typeface="微软雅黑"/>
                <a:ea typeface="微软雅黑"/>
              </a:rPr>
              <a:t>——</a:t>
            </a:r>
            <a:r>
              <a:rPr b="0" lang="zh-CN" sz="3200" spc="-1" strike="noStrike">
                <a:solidFill>
                  <a:srgbClr val="3da9eb"/>
                </a:solidFill>
                <a:latin typeface="微软雅黑"/>
                <a:ea typeface="微软雅黑"/>
              </a:rPr>
              <a:t>相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56"/>
          <p:cNvSpPr/>
          <p:nvPr/>
        </p:nvSpPr>
        <p:spPr>
          <a:xfrm>
            <a:off x="3271320" y="3049560"/>
            <a:ext cx="22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da9eb"/>
                </a:solidFill>
                <a:latin typeface="微软雅黑"/>
                <a:ea typeface="微软雅黑"/>
              </a:rPr>
              <a:t>蓝与白</a:t>
            </a:r>
            <a:r>
              <a:rPr b="0" lang="en-US" sz="3200" spc="-1" strike="noStrike">
                <a:solidFill>
                  <a:srgbClr val="3da9eb"/>
                </a:solidFill>
                <a:latin typeface="微软雅黑"/>
                <a:ea typeface="微软雅黑"/>
              </a:rPr>
              <a:t>——</a:t>
            </a:r>
            <a:r>
              <a:rPr b="0" lang="zh-CN" sz="3200" spc="-1" strike="noStrike">
                <a:solidFill>
                  <a:srgbClr val="3da9eb"/>
                </a:solidFill>
                <a:latin typeface="微软雅黑"/>
                <a:ea typeface="微软雅黑"/>
              </a:rPr>
              <a:t>相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57"/>
          <p:cNvSpPr/>
          <p:nvPr/>
        </p:nvSpPr>
        <p:spPr>
          <a:xfrm>
            <a:off x="3271320" y="4160880"/>
            <a:ext cx="22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da9eb"/>
                </a:solidFill>
                <a:latin typeface="微软雅黑"/>
                <a:ea typeface="微软雅黑"/>
              </a:rPr>
              <a:t>蓝与白</a:t>
            </a:r>
            <a:r>
              <a:rPr b="0" lang="en-US" sz="3200" spc="-1" strike="noStrike">
                <a:solidFill>
                  <a:srgbClr val="3da9eb"/>
                </a:solidFill>
                <a:latin typeface="微软雅黑"/>
                <a:ea typeface="微软雅黑"/>
              </a:rPr>
              <a:t>——</a:t>
            </a:r>
            <a:r>
              <a:rPr b="0" lang="zh-CN" sz="3200" spc="-1" strike="noStrike">
                <a:solidFill>
                  <a:srgbClr val="3da9eb"/>
                </a:solidFill>
                <a:latin typeface="微软雅黑"/>
                <a:ea typeface="微软雅黑"/>
              </a:rPr>
              <a:t>相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矩形 1"/>
          <p:cNvSpPr/>
          <p:nvPr/>
        </p:nvSpPr>
        <p:spPr>
          <a:xfrm rot="19387200">
            <a:off x="-1095120" y="-590400"/>
            <a:ext cx="4500720" cy="2158920"/>
          </a:xfrm>
          <a:custGeom>
            <a:avLst/>
            <a:gdLst>
              <a:gd name="textAreaLeft" fmla="*/ 0 w 4500720"/>
              <a:gd name="textAreaRight" fmla="*/ 4501080 w 4500720"/>
              <a:gd name="textAreaTop" fmla="*/ 0 h 2158920"/>
              <a:gd name="textAreaBottom" fmla="*/ 2159280 h 2158920"/>
            </a:gdLst>
            <a:ahLst/>
            <a:rect l="textAreaLeft" t="textAreaTop" r="textAreaRight" b="textAreaBottom"/>
            <a:pathLst>
              <a:path w="4505489" h="2162815">
                <a:moveTo>
                  <a:pt x="1622595" y="0"/>
                </a:moveTo>
                <a:lnTo>
                  <a:pt x="4505489" y="2162815"/>
                </a:lnTo>
                <a:lnTo>
                  <a:pt x="0" y="2162815"/>
                </a:lnTo>
                <a:lnTo>
                  <a:pt x="1622595" y="0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矩形 2"/>
          <p:cNvSpPr/>
          <p:nvPr/>
        </p:nvSpPr>
        <p:spPr>
          <a:xfrm rot="19387200">
            <a:off x="7658280" y="6256080"/>
            <a:ext cx="1830240" cy="534960"/>
          </a:xfrm>
          <a:custGeom>
            <a:avLst/>
            <a:gdLst>
              <a:gd name="textAreaLeft" fmla="*/ 0 w 1830240"/>
              <a:gd name="textAreaRight" fmla="*/ 1830600 w 1830240"/>
              <a:gd name="textAreaTop" fmla="*/ 0 h 534960"/>
              <a:gd name="textAreaBottom" fmla="*/ 535320 h 534960"/>
            </a:gdLst>
            <a:ahLst/>
            <a:rect l="textAreaLeft" t="textAreaTop" r="textAreaRight" b="textAreaBottom"/>
            <a:pathLst>
              <a:path w="1828892" h="535756">
                <a:moveTo>
                  <a:pt x="1828892" y="0"/>
                </a:moveTo>
                <a:lnTo>
                  <a:pt x="1426955" y="535756"/>
                </a:lnTo>
                <a:lnTo>
                  <a:pt x="714128" y="535756"/>
                </a:lnTo>
                <a:lnTo>
                  <a:pt x="0" y="0"/>
                </a:lnTo>
                <a:lnTo>
                  <a:pt x="1828892" y="0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直接连接符 4"/>
          <p:cNvSpPr/>
          <p:nvPr/>
        </p:nvSpPr>
        <p:spPr>
          <a:xfrm>
            <a:off x="4427640" y="1484280"/>
            <a:ext cx="4321080" cy="0"/>
          </a:xfrm>
          <a:prstGeom prst="line">
            <a:avLst/>
          </a:prstGeom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5243040" y="755640"/>
            <a:ext cx="22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0f0"/>
                </a:solidFill>
                <a:latin typeface="微软雅黑"/>
                <a:ea typeface="微软雅黑"/>
              </a:rPr>
              <a:t>蓝与白</a:t>
            </a:r>
            <a:r>
              <a:rPr b="0" lang="en-US" sz="3200" spc="-1" strike="noStrike">
                <a:solidFill>
                  <a:srgbClr val="00b0f0"/>
                </a:solidFill>
                <a:latin typeface="微软雅黑"/>
                <a:ea typeface="微软雅黑"/>
              </a:rPr>
              <a:t>——</a:t>
            </a:r>
            <a:r>
              <a:rPr b="0" lang="zh-CN" sz="3200" spc="-1" strike="noStrike">
                <a:solidFill>
                  <a:srgbClr val="00b0f0"/>
                </a:solidFill>
                <a:latin typeface="微软雅黑"/>
                <a:ea typeface="微软雅黑"/>
              </a:rPr>
              <a:t>分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" name="Group 6"/>
          <p:cNvGrpSpPr/>
          <p:nvPr/>
        </p:nvGrpSpPr>
        <p:grpSpPr>
          <a:xfrm>
            <a:off x="1469880" y="2467080"/>
            <a:ext cx="876600" cy="865080"/>
            <a:chOff x="1469880" y="2467080"/>
            <a:chExt cx="876600" cy="865080"/>
          </a:xfrm>
        </p:grpSpPr>
        <p:sp>
          <p:nvSpPr>
            <p:cNvPr id="126" name="同心圆 8"/>
            <p:cNvSpPr/>
            <p:nvPr/>
          </p:nvSpPr>
          <p:spPr>
            <a:xfrm>
              <a:off x="1469880" y="2467080"/>
              <a:ext cx="876600" cy="865080"/>
            </a:xfrm>
            <a:custGeom>
              <a:avLst/>
              <a:gdLst>
                <a:gd name="textAreaLeft" fmla="*/ 0 w 876600"/>
                <a:gd name="textAreaRight" fmla="*/ 876960 w 876600"/>
                <a:gd name="textAreaTop" fmla="*/ 0 h 865080"/>
                <a:gd name="textAreaBottom" fmla="*/ 865440 h 865080"/>
              </a:gdLst>
              <a:ahLst/>
              <a:rect l="textAreaLeft" t="textAreaTop" r="textAreaRight" b="textAreaBottom"/>
              <a:pathLst>
                <a:path w="1872208" h="1847798">
                  <a:moveTo>
                    <a:pt x="1080120" y="0"/>
                  </a:moveTo>
                  <a:cubicBezTo>
                    <a:pt x="1528835" y="68181"/>
                    <a:pt x="1872208" y="455941"/>
                    <a:pt x="1872208" y="923899"/>
                  </a:cubicBezTo>
                  <a:cubicBezTo>
                    <a:pt x="1872208" y="1391858"/>
                    <a:pt x="1528835" y="1779617"/>
                    <a:pt x="1080120" y="1847798"/>
                  </a:cubicBezTo>
                  <a:lnTo>
                    <a:pt x="1080120" y="1367018"/>
                  </a:lnTo>
                  <a:cubicBezTo>
                    <a:pt x="1268486" y="1308200"/>
                    <a:pt x="1404156" y="1131893"/>
                    <a:pt x="1404156" y="923899"/>
                  </a:cubicBezTo>
                  <a:cubicBezTo>
                    <a:pt x="1404156" y="715905"/>
                    <a:pt x="1268486" y="539598"/>
                    <a:pt x="1080120" y="480780"/>
                  </a:cubicBezTo>
                  <a:lnTo>
                    <a:pt x="1080120" y="0"/>
                  </a:lnTo>
                  <a:close/>
                  <a:moveTo>
                    <a:pt x="792088" y="0"/>
                  </a:moveTo>
                  <a:lnTo>
                    <a:pt x="792088" y="480780"/>
                  </a:lnTo>
                  <a:cubicBezTo>
                    <a:pt x="603722" y="539598"/>
                    <a:pt x="468052" y="715905"/>
                    <a:pt x="468052" y="923899"/>
                  </a:cubicBezTo>
                  <a:cubicBezTo>
                    <a:pt x="468052" y="1131893"/>
                    <a:pt x="603722" y="1308200"/>
                    <a:pt x="792088" y="1367018"/>
                  </a:cubicBezTo>
                  <a:lnTo>
                    <a:pt x="792088" y="1847798"/>
                  </a:lnTo>
                  <a:cubicBezTo>
                    <a:pt x="343373" y="1779617"/>
                    <a:pt x="0" y="1391858"/>
                    <a:pt x="0" y="923899"/>
                  </a:cubicBezTo>
                  <a:cubicBezTo>
                    <a:pt x="0" y="455941"/>
                    <a:pt x="343373" y="68181"/>
                    <a:pt x="792088" y="0"/>
                  </a:cubicBez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TextBox 10"/>
            <p:cNvSpPr/>
            <p:nvPr/>
          </p:nvSpPr>
          <p:spPr>
            <a:xfrm>
              <a:off x="1716480" y="26377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d9d9d9"/>
                  </a:solidFill>
                  <a:latin typeface="HelveticaNeueLT Std Blk Ext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8" name="Group 9"/>
          <p:cNvGrpSpPr/>
          <p:nvPr/>
        </p:nvGrpSpPr>
        <p:grpSpPr>
          <a:xfrm>
            <a:off x="1469880" y="3619440"/>
            <a:ext cx="876600" cy="865080"/>
            <a:chOff x="1469880" y="3619440"/>
            <a:chExt cx="876600" cy="865080"/>
          </a:xfrm>
        </p:grpSpPr>
        <p:sp>
          <p:nvSpPr>
            <p:cNvPr id="129" name="同心圆 8"/>
            <p:cNvSpPr/>
            <p:nvPr/>
          </p:nvSpPr>
          <p:spPr>
            <a:xfrm>
              <a:off x="1469880" y="3619440"/>
              <a:ext cx="876600" cy="865080"/>
            </a:xfrm>
            <a:custGeom>
              <a:avLst/>
              <a:gdLst>
                <a:gd name="textAreaLeft" fmla="*/ 0 w 876600"/>
                <a:gd name="textAreaRight" fmla="*/ 876960 w 876600"/>
                <a:gd name="textAreaTop" fmla="*/ 0 h 865080"/>
                <a:gd name="textAreaBottom" fmla="*/ 865440 h 865080"/>
              </a:gdLst>
              <a:ahLst/>
              <a:rect l="textAreaLeft" t="textAreaTop" r="textAreaRight" b="textAreaBottom"/>
              <a:pathLst>
                <a:path w="1872208" h="1847798">
                  <a:moveTo>
                    <a:pt x="1080120" y="0"/>
                  </a:moveTo>
                  <a:cubicBezTo>
                    <a:pt x="1528835" y="68181"/>
                    <a:pt x="1872208" y="455941"/>
                    <a:pt x="1872208" y="923899"/>
                  </a:cubicBezTo>
                  <a:cubicBezTo>
                    <a:pt x="1872208" y="1391858"/>
                    <a:pt x="1528835" y="1779617"/>
                    <a:pt x="1080120" y="1847798"/>
                  </a:cubicBezTo>
                  <a:lnTo>
                    <a:pt x="1080120" y="1367018"/>
                  </a:lnTo>
                  <a:cubicBezTo>
                    <a:pt x="1268486" y="1308200"/>
                    <a:pt x="1404156" y="1131893"/>
                    <a:pt x="1404156" y="923899"/>
                  </a:cubicBezTo>
                  <a:cubicBezTo>
                    <a:pt x="1404156" y="715905"/>
                    <a:pt x="1268486" y="539598"/>
                    <a:pt x="1080120" y="480780"/>
                  </a:cubicBezTo>
                  <a:lnTo>
                    <a:pt x="1080120" y="0"/>
                  </a:lnTo>
                  <a:close/>
                  <a:moveTo>
                    <a:pt x="792088" y="0"/>
                  </a:moveTo>
                  <a:lnTo>
                    <a:pt x="792088" y="480780"/>
                  </a:lnTo>
                  <a:cubicBezTo>
                    <a:pt x="603722" y="539598"/>
                    <a:pt x="468052" y="715905"/>
                    <a:pt x="468052" y="923899"/>
                  </a:cubicBezTo>
                  <a:cubicBezTo>
                    <a:pt x="468052" y="1131893"/>
                    <a:pt x="603722" y="1308200"/>
                    <a:pt x="792088" y="1367018"/>
                  </a:cubicBezTo>
                  <a:lnTo>
                    <a:pt x="792088" y="1847798"/>
                  </a:lnTo>
                  <a:cubicBezTo>
                    <a:pt x="343373" y="1779617"/>
                    <a:pt x="0" y="1391858"/>
                    <a:pt x="0" y="923899"/>
                  </a:cubicBezTo>
                  <a:cubicBezTo>
                    <a:pt x="0" y="455941"/>
                    <a:pt x="343373" y="68181"/>
                    <a:pt x="792088" y="0"/>
                  </a:cubicBez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TextBox 14"/>
            <p:cNvSpPr/>
            <p:nvPr/>
          </p:nvSpPr>
          <p:spPr>
            <a:xfrm>
              <a:off x="1721880" y="37688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d9d9d9"/>
                  </a:solidFill>
                  <a:latin typeface="HelveticaNeueLT Std Blk Ext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1" name="Group 12"/>
          <p:cNvGrpSpPr/>
          <p:nvPr/>
        </p:nvGrpSpPr>
        <p:grpSpPr>
          <a:xfrm>
            <a:off x="1490760" y="4724280"/>
            <a:ext cx="876240" cy="865440"/>
            <a:chOff x="1490760" y="4724280"/>
            <a:chExt cx="876240" cy="865440"/>
          </a:xfrm>
        </p:grpSpPr>
        <p:sp>
          <p:nvSpPr>
            <p:cNvPr id="132" name="同心圆 8"/>
            <p:cNvSpPr/>
            <p:nvPr/>
          </p:nvSpPr>
          <p:spPr>
            <a:xfrm>
              <a:off x="1490760" y="4724280"/>
              <a:ext cx="876240" cy="865440"/>
            </a:xfrm>
            <a:custGeom>
              <a:avLst/>
              <a:gdLst>
                <a:gd name="textAreaLeft" fmla="*/ 0 w 876240"/>
                <a:gd name="textAreaRight" fmla="*/ 876600 w 876240"/>
                <a:gd name="textAreaTop" fmla="*/ 0 h 865440"/>
                <a:gd name="textAreaBottom" fmla="*/ 865800 h 865440"/>
              </a:gdLst>
              <a:ahLst/>
              <a:rect l="textAreaLeft" t="textAreaTop" r="textAreaRight" b="textAreaBottom"/>
              <a:pathLst>
                <a:path w="1872208" h="1847798">
                  <a:moveTo>
                    <a:pt x="1080120" y="0"/>
                  </a:moveTo>
                  <a:cubicBezTo>
                    <a:pt x="1528835" y="68181"/>
                    <a:pt x="1872208" y="455941"/>
                    <a:pt x="1872208" y="923899"/>
                  </a:cubicBezTo>
                  <a:cubicBezTo>
                    <a:pt x="1872208" y="1391858"/>
                    <a:pt x="1528835" y="1779617"/>
                    <a:pt x="1080120" y="1847798"/>
                  </a:cubicBezTo>
                  <a:lnTo>
                    <a:pt x="1080120" y="1367018"/>
                  </a:lnTo>
                  <a:cubicBezTo>
                    <a:pt x="1268486" y="1308200"/>
                    <a:pt x="1404156" y="1131893"/>
                    <a:pt x="1404156" y="923899"/>
                  </a:cubicBezTo>
                  <a:cubicBezTo>
                    <a:pt x="1404156" y="715905"/>
                    <a:pt x="1268486" y="539598"/>
                    <a:pt x="1080120" y="480780"/>
                  </a:cubicBezTo>
                  <a:lnTo>
                    <a:pt x="1080120" y="0"/>
                  </a:lnTo>
                  <a:close/>
                  <a:moveTo>
                    <a:pt x="792088" y="0"/>
                  </a:moveTo>
                  <a:lnTo>
                    <a:pt x="792088" y="480780"/>
                  </a:lnTo>
                  <a:cubicBezTo>
                    <a:pt x="603722" y="539598"/>
                    <a:pt x="468052" y="715905"/>
                    <a:pt x="468052" y="923899"/>
                  </a:cubicBezTo>
                  <a:cubicBezTo>
                    <a:pt x="468052" y="1131893"/>
                    <a:pt x="603722" y="1308200"/>
                    <a:pt x="792088" y="1367018"/>
                  </a:cubicBezTo>
                  <a:lnTo>
                    <a:pt x="792088" y="1847798"/>
                  </a:lnTo>
                  <a:cubicBezTo>
                    <a:pt x="343373" y="1779617"/>
                    <a:pt x="0" y="1391858"/>
                    <a:pt x="0" y="923899"/>
                  </a:cubicBezTo>
                  <a:cubicBezTo>
                    <a:pt x="0" y="455941"/>
                    <a:pt x="343373" y="68181"/>
                    <a:pt x="792088" y="0"/>
                  </a:cubicBez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TextBox 17"/>
            <p:cNvSpPr/>
            <p:nvPr/>
          </p:nvSpPr>
          <p:spPr>
            <a:xfrm>
              <a:off x="1739160" y="48830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d9d9d9"/>
                  </a:solidFill>
                  <a:latin typeface="HelveticaNeueLT Std Blk Ext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4" name="矩形 18"/>
          <p:cNvSpPr/>
          <p:nvPr/>
        </p:nvSpPr>
        <p:spPr>
          <a:xfrm>
            <a:off x="2373480" y="3125880"/>
            <a:ext cx="4711680" cy="123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矩形 19"/>
          <p:cNvSpPr/>
          <p:nvPr/>
        </p:nvSpPr>
        <p:spPr>
          <a:xfrm>
            <a:off x="2367000" y="3295800"/>
            <a:ext cx="4710240" cy="45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矩形 20"/>
          <p:cNvSpPr/>
          <p:nvPr/>
        </p:nvSpPr>
        <p:spPr>
          <a:xfrm>
            <a:off x="2376360" y="4270320"/>
            <a:ext cx="4710240" cy="123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矩形 21"/>
          <p:cNvSpPr/>
          <p:nvPr/>
        </p:nvSpPr>
        <p:spPr>
          <a:xfrm>
            <a:off x="2368440" y="4441680"/>
            <a:ext cx="4711680" cy="446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矩形 22"/>
          <p:cNvSpPr/>
          <p:nvPr/>
        </p:nvSpPr>
        <p:spPr>
          <a:xfrm>
            <a:off x="2381400" y="5345280"/>
            <a:ext cx="4711680" cy="1234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矩形 23"/>
          <p:cNvSpPr/>
          <p:nvPr/>
        </p:nvSpPr>
        <p:spPr>
          <a:xfrm>
            <a:off x="2374920" y="5514840"/>
            <a:ext cx="4710240" cy="46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矩形 24"/>
          <p:cNvSpPr/>
          <p:nvPr/>
        </p:nvSpPr>
        <p:spPr>
          <a:xfrm rot="19387200">
            <a:off x="5744880" y="5616360"/>
            <a:ext cx="3956040" cy="536400"/>
          </a:xfrm>
          <a:custGeom>
            <a:avLst/>
            <a:gdLst>
              <a:gd name="textAreaLeft" fmla="*/ 0 w 3956040"/>
              <a:gd name="textAreaRight" fmla="*/ 3956400 w 3956040"/>
              <a:gd name="textAreaTop" fmla="*/ 0 h 536400"/>
              <a:gd name="textAreaBottom" fmla="*/ 536760 h 536400"/>
            </a:gdLst>
            <a:ahLst/>
            <a:rect l="textAreaLeft" t="textAreaTop" r="textAreaRight" b="textAreaBottom"/>
            <a:pathLst>
              <a:path w="3956149" h="535757">
                <a:moveTo>
                  <a:pt x="3956149" y="1"/>
                </a:moveTo>
                <a:lnTo>
                  <a:pt x="3554213" y="535756"/>
                </a:lnTo>
                <a:lnTo>
                  <a:pt x="714130" y="535757"/>
                </a:lnTo>
                <a:lnTo>
                  <a:pt x="0" y="0"/>
                </a:lnTo>
                <a:lnTo>
                  <a:pt x="3956149" y="1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直角三角形 9"/>
          <p:cNvSpPr/>
          <p:nvPr/>
        </p:nvSpPr>
        <p:spPr>
          <a:xfrm rot="16200000">
            <a:off x="6605640" y="4319640"/>
            <a:ext cx="2736720" cy="2340000"/>
          </a:xfrm>
          <a:prstGeom prst="rtTriangl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直角三角形 8"/>
          <p:cNvSpPr/>
          <p:nvPr/>
        </p:nvSpPr>
        <p:spPr>
          <a:xfrm rot="16200000">
            <a:off x="6899040" y="4612680"/>
            <a:ext cx="2421000" cy="2068560"/>
          </a:xfrm>
          <a:prstGeom prst="rtTriangl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矩形 4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6d9f1"/>
          </a:solidFill>
          <a:ln w="255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147600" y="108360"/>
            <a:ext cx="747720" cy="693000"/>
            <a:chOff x="147600" y="108360"/>
            <a:chExt cx="747720" cy="693000"/>
          </a:xfrm>
        </p:grpSpPr>
        <p:sp>
          <p:nvSpPr>
            <p:cNvPr id="145" name="圆角矩形 15"/>
            <p:cNvSpPr/>
            <p:nvPr/>
          </p:nvSpPr>
          <p:spPr>
            <a:xfrm rot="2748000">
              <a:off x="301680" y="211320"/>
              <a:ext cx="493560" cy="48672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1378064" h="1359908">
                  <a:moveTo>
                    <a:pt x="8208" y="70304"/>
                  </a:moveTo>
                  <a:cubicBezTo>
                    <a:pt x="51645" y="26867"/>
                    <a:pt x="111653" y="0"/>
                    <a:pt x="177935" y="0"/>
                  </a:cubicBezTo>
                  <a:lnTo>
                    <a:pt x="1138033" y="0"/>
                  </a:lnTo>
                  <a:cubicBezTo>
                    <a:pt x="1270598" y="0"/>
                    <a:pt x="1378064" y="107466"/>
                    <a:pt x="1378064" y="240031"/>
                  </a:cubicBezTo>
                  <a:lnTo>
                    <a:pt x="1378064" y="1200129"/>
                  </a:lnTo>
                  <a:cubicBezTo>
                    <a:pt x="1378064" y="1261775"/>
                    <a:pt x="1354825" y="1317994"/>
                    <a:pt x="1315969" y="1359908"/>
                  </a:cubicBezTo>
                  <a:lnTo>
                    <a:pt x="1079065" y="1129541"/>
                  </a:lnTo>
                  <a:lnTo>
                    <a:pt x="1086335" y="1091030"/>
                  </a:lnTo>
                  <a:lnTo>
                    <a:pt x="1086335" y="450590"/>
                  </a:lnTo>
                  <a:cubicBezTo>
                    <a:pt x="1086335" y="362162"/>
                    <a:pt x="1014649" y="290476"/>
                    <a:pt x="926220" y="290476"/>
                  </a:cubicBezTo>
                  <a:lnTo>
                    <a:pt x="285780" y="290476"/>
                  </a:lnTo>
                  <a:cubicBezTo>
                    <a:pt x="265344" y="290476"/>
                    <a:pt x="245802" y="294304"/>
                    <a:pt x="228154" y="302110"/>
                  </a:cubicBezTo>
                  <a:lnTo>
                    <a:pt x="0" y="80252"/>
                  </a:lnTo>
                  <a:cubicBezTo>
                    <a:pt x="2212" y="76462"/>
                    <a:pt x="5169" y="73342"/>
                    <a:pt x="8208" y="70304"/>
                  </a:cubicBez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圆角矩形 15"/>
            <p:cNvSpPr/>
            <p:nvPr/>
          </p:nvSpPr>
          <p:spPr>
            <a:xfrm flipH="1" rot="18852000">
              <a:off x="246960" y="211320"/>
              <a:ext cx="493560" cy="486360"/>
            </a:xfrm>
            <a:custGeom>
              <a:avLst/>
              <a:gdLst>
                <a:gd name="textAreaLeft" fmla="*/ -360 w 493560"/>
                <a:gd name="textAreaRight" fmla="*/ 493560 w 493560"/>
                <a:gd name="textAreaTop" fmla="*/ 0 h 486360"/>
                <a:gd name="textAreaBottom" fmla="*/ 486360 h 486360"/>
              </a:gdLst>
              <a:ahLst/>
              <a:rect l="textAreaLeft" t="textAreaTop" r="textAreaRight" b="textAreaBottom"/>
              <a:pathLst>
                <a:path w="1378064" h="1359908">
                  <a:moveTo>
                    <a:pt x="8208" y="70304"/>
                  </a:moveTo>
                  <a:cubicBezTo>
                    <a:pt x="51645" y="26867"/>
                    <a:pt x="111653" y="0"/>
                    <a:pt x="177935" y="0"/>
                  </a:cubicBezTo>
                  <a:lnTo>
                    <a:pt x="1138033" y="0"/>
                  </a:lnTo>
                  <a:cubicBezTo>
                    <a:pt x="1270598" y="0"/>
                    <a:pt x="1378064" y="107466"/>
                    <a:pt x="1378064" y="240031"/>
                  </a:cubicBezTo>
                  <a:lnTo>
                    <a:pt x="1378064" y="1200129"/>
                  </a:lnTo>
                  <a:cubicBezTo>
                    <a:pt x="1378064" y="1261775"/>
                    <a:pt x="1354825" y="1317994"/>
                    <a:pt x="1315969" y="1359908"/>
                  </a:cubicBezTo>
                  <a:lnTo>
                    <a:pt x="1079065" y="1129541"/>
                  </a:lnTo>
                  <a:lnTo>
                    <a:pt x="1086335" y="1091030"/>
                  </a:lnTo>
                  <a:lnTo>
                    <a:pt x="1086335" y="450590"/>
                  </a:lnTo>
                  <a:cubicBezTo>
                    <a:pt x="1086335" y="362162"/>
                    <a:pt x="1014649" y="290476"/>
                    <a:pt x="926220" y="290476"/>
                  </a:cubicBezTo>
                  <a:lnTo>
                    <a:pt x="285780" y="290476"/>
                  </a:lnTo>
                  <a:cubicBezTo>
                    <a:pt x="265344" y="290476"/>
                    <a:pt x="245802" y="294304"/>
                    <a:pt x="228154" y="302110"/>
                  </a:cubicBezTo>
                  <a:lnTo>
                    <a:pt x="0" y="80252"/>
                  </a:lnTo>
                  <a:cubicBezTo>
                    <a:pt x="2212" y="76462"/>
                    <a:pt x="5169" y="73342"/>
                    <a:pt x="8208" y="70304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7" name="TextBox 6"/>
          <p:cNvSpPr/>
          <p:nvPr/>
        </p:nvSpPr>
        <p:spPr>
          <a:xfrm>
            <a:off x="1258920" y="131760"/>
            <a:ext cx="51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今生无缘，来生再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直角三角形 5"/>
          <p:cNvSpPr/>
          <p:nvPr/>
        </p:nvSpPr>
        <p:spPr>
          <a:xfrm rot="16200000">
            <a:off x="7308000" y="5021640"/>
            <a:ext cx="1979640" cy="1692360"/>
          </a:xfrm>
          <a:prstGeom prst="rtTriangl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9" name="Group 10"/>
          <p:cNvGrpSpPr/>
          <p:nvPr/>
        </p:nvGrpSpPr>
        <p:grpSpPr>
          <a:xfrm>
            <a:off x="1116000" y="1773360"/>
            <a:ext cx="5959440" cy="3875040"/>
            <a:chOff x="1116000" y="1773360"/>
            <a:chExt cx="5959440" cy="3875040"/>
          </a:xfrm>
        </p:grpSpPr>
        <p:sp>
          <p:nvSpPr>
            <p:cNvPr id="150" name="矩形 10"/>
            <p:cNvSpPr/>
            <p:nvPr/>
          </p:nvSpPr>
          <p:spPr>
            <a:xfrm>
              <a:off x="1116000" y="1773360"/>
              <a:ext cx="5959440" cy="3875040"/>
            </a:xfrm>
            <a:prstGeom prst="rect">
              <a:avLst/>
            </a:prstGeom>
            <a:noFill/>
            <a:ln w="38160">
              <a:solidFill>
                <a:srgbClr val="00b0f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TextBox 11"/>
            <p:cNvSpPr/>
            <p:nvPr/>
          </p:nvSpPr>
          <p:spPr>
            <a:xfrm>
              <a:off x="1653840" y="2156040"/>
              <a:ext cx="2441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故事章节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TextBox 12"/>
            <p:cNvSpPr/>
            <p:nvPr/>
          </p:nvSpPr>
          <p:spPr>
            <a:xfrm>
              <a:off x="3024000" y="4053240"/>
              <a:ext cx="3096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b0f0"/>
                  </a:solidFill>
                  <a:latin typeface="Calibri"/>
                  <a:ea typeface="微软雅黑"/>
                </a:rPr>
                <a:t>过渡页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3" name="TextBox 14"/>
          <p:cNvSpPr/>
          <p:nvPr/>
        </p:nvSpPr>
        <p:spPr>
          <a:xfrm>
            <a:off x="8210520" y="6093000"/>
            <a:ext cx="89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LT Std Blk Ext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 Box 9"/>
          <p:cNvSpPr/>
          <p:nvPr/>
        </p:nvSpPr>
        <p:spPr>
          <a:xfrm>
            <a:off x="528480" y="621828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矩形 1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燕尾形 2"/>
          <p:cNvSpPr/>
          <p:nvPr/>
        </p:nvSpPr>
        <p:spPr>
          <a:xfrm>
            <a:off x="216000" y="6524640"/>
            <a:ext cx="377640" cy="333360"/>
          </a:xfrm>
          <a:custGeom>
            <a:avLst/>
            <a:gdLst>
              <a:gd name="textAreaLeft" fmla="*/ 0 w 377640"/>
              <a:gd name="textAreaRight" fmla="*/ 378000 w 37764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090" y="0"/>
                </a:lnTo>
                <a:lnTo>
                  <a:pt x="21600" y="10800"/>
                </a:lnTo>
                <a:lnTo>
                  <a:pt x="12090" y="21600"/>
                </a:lnTo>
                <a:lnTo>
                  <a:pt x="0" y="21600"/>
                </a:lnTo>
                <a:lnTo>
                  <a:pt x="951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燕尾形 3"/>
          <p:cNvSpPr/>
          <p:nvPr/>
        </p:nvSpPr>
        <p:spPr>
          <a:xfrm>
            <a:off x="522360" y="6524640"/>
            <a:ext cx="377640" cy="333360"/>
          </a:xfrm>
          <a:custGeom>
            <a:avLst/>
            <a:gdLst>
              <a:gd name="textAreaLeft" fmla="*/ 0 w 377640"/>
              <a:gd name="textAreaRight" fmla="*/ 378000 w 37764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090" y="0"/>
                </a:lnTo>
                <a:lnTo>
                  <a:pt x="21600" y="10800"/>
                </a:lnTo>
                <a:lnTo>
                  <a:pt x="12090" y="21600"/>
                </a:lnTo>
                <a:lnTo>
                  <a:pt x="0" y="21600"/>
                </a:lnTo>
                <a:lnTo>
                  <a:pt x="951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燕尾形 4"/>
          <p:cNvSpPr/>
          <p:nvPr/>
        </p:nvSpPr>
        <p:spPr>
          <a:xfrm>
            <a:off x="1314360" y="6524640"/>
            <a:ext cx="378000" cy="333360"/>
          </a:xfrm>
          <a:custGeom>
            <a:avLst/>
            <a:gdLst>
              <a:gd name="textAreaLeft" fmla="*/ 0 w 378000"/>
              <a:gd name="textAreaRight" fmla="*/ 378360 w 37800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090" y="0"/>
                </a:lnTo>
                <a:lnTo>
                  <a:pt x="21600" y="10800"/>
                </a:lnTo>
                <a:lnTo>
                  <a:pt x="12090" y="21600"/>
                </a:lnTo>
                <a:lnTo>
                  <a:pt x="0" y="21600"/>
                </a:lnTo>
                <a:lnTo>
                  <a:pt x="951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燕尾形 5"/>
          <p:cNvSpPr/>
          <p:nvPr/>
        </p:nvSpPr>
        <p:spPr>
          <a:xfrm>
            <a:off x="1601640" y="6524640"/>
            <a:ext cx="378000" cy="333360"/>
          </a:xfrm>
          <a:custGeom>
            <a:avLst/>
            <a:gdLst>
              <a:gd name="textAreaLeft" fmla="*/ 0 w 378000"/>
              <a:gd name="textAreaRight" fmla="*/ 378360 w 37800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090" y="0"/>
                </a:lnTo>
                <a:lnTo>
                  <a:pt x="21600" y="10800"/>
                </a:lnTo>
                <a:lnTo>
                  <a:pt x="12090" y="21600"/>
                </a:lnTo>
                <a:lnTo>
                  <a:pt x="0" y="21600"/>
                </a:lnTo>
                <a:lnTo>
                  <a:pt x="951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燕尾形 6"/>
          <p:cNvSpPr/>
          <p:nvPr/>
        </p:nvSpPr>
        <p:spPr>
          <a:xfrm>
            <a:off x="2448000" y="6524640"/>
            <a:ext cx="377640" cy="333360"/>
          </a:xfrm>
          <a:custGeom>
            <a:avLst/>
            <a:gdLst>
              <a:gd name="textAreaLeft" fmla="*/ 0 w 377640"/>
              <a:gd name="textAreaRight" fmla="*/ 378000 w 37764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090" y="0"/>
                </a:lnTo>
                <a:lnTo>
                  <a:pt x="21600" y="10800"/>
                </a:lnTo>
                <a:lnTo>
                  <a:pt x="12090" y="21600"/>
                </a:lnTo>
                <a:lnTo>
                  <a:pt x="0" y="21600"/>
                </a:lnTo>
                <a:lnTo>
                  <a:pt x="951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燕尾形 7"/>
          <p:cNvSpPr/>
          <p:nvPr/>
        </p:nvSpPr>
        <p:spPr>
          <a:xfrm>
            <a:off x="2736720" y="6524640"/>
            <a:ext cx="378000" cy="333360"/>
          </a:xfrm>
          <a:custGeom>
            <a:avLst/>
            <a:gdLst>
              <a:gd name="textAreaLeft" fmla="*/ 0 w 378000"/>
              <a:gd name="textAreaRight" fmla="*/ 378360 w 37800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090" y="0"/>
                </a:lnTo>
                <a:lnTo>
                  <a:pt x="21600" y="10800"/>
                </a:lnTo>
                <a:lnTo>
                  <a:pt x="12090" y="21600"/>
                </a:lnTo>
                <a:lnTo>
                  <a:pt x="0" y="21600"/>
                </a:lnTo>
                <a:lnTo>
                  <a:pt x="951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燕尾形 8"/>
          <p:cNvSpPr/>
          <p:nvPr/>
        </p:nvSpPr>
        <p:spPr>
          <a:xfrm>
            <a:off x="3529080" y="6505560"/>
            <a:ext cx="377640" cy="331920"/>
          </a:xfrm>
          <a:custGeom>
            <a:avLst/>
            <a:gdLst>
              <a:gd name="textAreaLeft" fmla="*/ 0 w 377640"/>
              <a:gd name="textAreaRight" fmla="*/ 378000 w 377640"/>
              <a:gd name="textAreaTop" fmla="*/ 0 h 331920"/>
              <a:gd name="textAreaBottom" fmla="*/ 332280 h 33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090" y="0"/>
                </a:lnTo>
                <a:lnTo>
                  <a:pt x="21600" y="10800"/>
                </a:lnTo>
                <a:lnTo>
                  <a:pt x="12090" y="21600"/>
                </a:lnTo>
                <a:lnTo>
                  <a:pt x="0" y="21600"/>
                </a:lnTo>
                <a:lnTo>
                  <a:pt x="951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燕尾形 9"/>
          <p:cNvSpPr/>
          <p:nvPr/>
        </p:nvSpPr>
        <p:spPr>
          <a:xfrm>
            <a:off x="3833640" y="6505560"/>
            <a:ext cx="378000" cy="331920"/>
          </a:xfrm>
          <a:custGeom>
            <a:avLst/>
            <a:gdLst>
              <a:gd name="textAreaLeft" fmla="*/ 0 w 378000"/>
              <a:gd name="textAreaRight" fmla="*/ 378360 w 378000"/>
              <a:gd name="textAreaTop" fmla="*/ 0 h 331920"/>
              <a:gd name="textAreaBottom" fmla="*/ 332280 h 33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090" y="0"/>
                </a:lnTo>
                <a:lnTo>
                  <a:pt x="21600" y="10800"/>
                </a:lnTo>
                <a:lnTo>
                  <a:pt x="12090" y="21600"/>
                </a:lnTo>
                <a:lnTo>
                  <a:pt x="0" y="21600"/>
                </a:lnTo>
                <a:lnTo>
                  <a:pt x="951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燕尾形 10"/>
          <p:cNvSpPr/>
          <p:nvPr/>
        </p:nvSpPr>
        <p:spPr>
          <a:xfrm>
            <a:off x="4626000" y="6505560"/>
            <a:ext cx="377640" cy="331920"/>
          </a:xfrm>
          <a:custGeom>
            <a:avLst/>
            <a:gdLst>
              <a:gd name="textAreaLeft" fmla="*/ 0 w 377640"/>
              <a:gd name="textAreaRight" fmla="*/ 378000 w 377640"/>
              <a:gd name="textAreaTop" fmla="*/ 0 h 331920"/>
              <a:gd name="textAreaBottom" fmla="*/ 332280 h 33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090" y="0"/>
                </a:lnTo>
                <a:lnTo>
                  <a:pt x="21600" y="10800"/>
                </a:lnTo>
                <a:lnTo>
                  <a:pt x="12090" y="21600"/>
                </a:lnTo>
                <a:lnTo>
                  <a:pt x="0" y="21600"/>
                </a:lnTo>
                <a:lnTo>
                  <a:pt x="951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燕尾形 11"/>
          <p:cNvSpPr/>
          <p:nvPr/>
        </p:nvSpPr>
        <p:spPr>
          <a:xfrm>
            <a:off x="4915080" y="6505560"/>
            <a:ext cx="377640" cy="331920"/>
          </a:xfrm>
          <a:custGeom>
            <a:avLst/>
            <a:gdLst>
              <a:gd name="textAreaLeft" fmla="*/ 0 w 377640"/>
              <a:gd name="textAreaRight" fmla="*/ 378000 w 377640"/>
              <a:gd name="textAreaTop" fmla="*/ 0 h 331920"/>
              <a:gd name="textAreaBottom" fmla="*/ 332280 h 33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090" y="0"/>
                </a:lnTo>
                <a:lnTo>
                  <a:pt x="21600" y="10800"/>
                </a:lnTo>
                <a:lnTo>
                  <a:pt x="12090" y="21600"/>
                </a:lnTo>
                <a:lnTo>
                  <a:pt x="0" y="21600"/>
                </a:lnTo>
                <a:lnTo>
                  <a:pt x="951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燕尾形 12"/>
          <p:cNvSpPr/>
          <p:nvPr/>
        </p:nvSpPr>
        <p:spPr>
          <a:xfrm>
            <a:off x="5761080" y="6505560"/>
            <a:ext cx="377640" cy="331920"/>
          </a:xfrm>
          <a:custGeom>
            <a:avLst/>
            <a:gdLst>
              <a:gd name="textAreaLeft" fmla="*/ 0 w 377640"/>
              <a:gd name="textAreaRight" fmla="*/ 378000 w 377640"/>
              <a:gd name="textAreaTop" fmla="*/ 0 h 331920"/>
              <a:gd name="textAreaBottom" fmla="*/ 332280 h 33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090" y="0"/>
                </a:lnTo>
                <a:lnTo>
                  <a:pt x="21600" y="10800"/>
                </a:lnTo>
                <a:lnTo>
                  <a:pt x="12090" y="21600"/>
                </a:lnTo>
                <a:lnTo>
                  <a:pt x="0" y="21600"/>
                </a:lnTo>
                <a:lnTo>
                  <a:pt x="951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燕尾形 13"/>
          <p:cNvSpPr/>
          <p:nvPr/>
        </p:nvSpPr>
        <p:spPr>
          <a:xfrm>
            <a:off x="6048360" y="6505560"/>
            <a:ext cx="378000" cy="331920"/>
          </a:xfrm>
          <a:custGeom>
            <a:avLst/>
            <a:gdLst>
              <a:gd name="textAreaLeft" fmla="*/ 0 w 378000"/>
              <a:gd name="textAreaRight" fmla="*/ 378360 w 378000"/>
              <a:gd name="textAreaTop" fmla="*/ 0 h 331920"/>
              <a:gd name="textAreaBottom" fmla="*/ 332280 h 33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090" y="0"/>
                </a:lnTo>
                <a:lnTo>
                  <a:pt x="21600" y="10800"/>
                </a:lnTo>
                <a:lnTo>
                  <a:pt x="12090" y="21600"/>
                </a:lnTo>
                <a:lnTo>
                  <a:pt x="0" y="21600"/>
                </a:lnTo>
                <a:lnTo>
                  <a:pt x="951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燕尾形 14"/>
          <p:cNvSpPr/>
          <p:nvPr/>
        </p:nvSpPr>
        <p:spPr>
          <a:xfrm>
            <a:off x="6840360" y="6524640"/>
            <a:ext cx="378000" cy="333360"/>
          </a:xfrm>
          <a:custGeom>
            <a:avLst/>
            <a:gdLst>
              <a:gd name="textAreaLeft" fmla="*/ 0 w 378000"/>
              <a:gd name="textAreaRight" fmla="*/ 378360 w 37800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090" y="0"/>
                </a:lnTo>
                <a:lnTo>
                  <a:pt x="21600" y="10800"/>
                </a:lnTo>
                <a:lnTo>
                  <a:pt x="12090" y="21600"/>
                </a:lnTo>
                <a:lnTo>
                  <a:pt x="0" y="21600"/>
                </a:lnTo>
                <a:lnTo>
                  <a:pt x="951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燕尾形 15"/>
          <p:cNvSpPr/>
          <p:nvPr/>
        </p:nvSpPr>
        <p:spPr>
          <a:xfrm>
            <a:off x="7147080" y="6524640"/>
            <a:ext cx="377640" cy="333360"/>
          </a:xfrm>
          <a:custGeom>
            <a:avLst/>
            <a:gdLst>
              <a:gd name="textAreaLeft" fmla="*/ 0 w 377640"/>
              <a:gd name="textAreaRight" fmla="*/ 378000 w 37764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090" y="0"/>
                </a:lnTo>
                <a:lnTo>
                  <a:pt x="21600" y="10800"/>
                </a:lnTo>
                <a:lnTo>
                  <a:pt x="12090" y="21600"/>
                </a:lnTo>
                <a:lnTo>
                  <a:pt x="0" y="21600"/>
                </a:lnTo>
                <a:lnTo>
                  <a:pt x="951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燕尾形 16"/>
          <p:cNvSpPr/>
          <p:nvPr/>
        </p:nvSpPr>
        <p:spPr>
          <a:xfrm>
            <a:off x="7939080" y="6524640"/>
            <a:ext cx="378000" cy="333360"/>
          </a:xfrm>
          <a:custGeom>
            <a:avLst/>
            <a:gdLst>
              <a:gd name="textAreaLeft" fmla="*/ 0 w 378000"/>
              <a:gd name="textAreaRight" fmla="*/ 378360 w 37800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090" y="0"/>
                </a:lnTo>
                <a:lnTo>
                  <a:pt x="21600" y="10800"/>
                </a:lnTo>
                <a:lnTo>
                  <a:pt x="12090" y="21600"/>
                </a:lnTo>
                <a:lnTo>
                  <a:pt x="0" y="21600"/>
                </a:lnTo>
                <a:lnTo>
                  <a:pt x="951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燕尾形 17"/>
          <p:cNvSpPr/>
          <p:nvPr/>
        </p:nvSpPr>
        <p:spPr>
          <a:xfrm>
            <a:off x="8226360" y="6524640"/>
            <a:ext cx="378000" cy="333360"/>
          </a:xfrm>
          <a:custGeom>
            <a:avLst/>
            <a:gdLst>
              <a:gd name="textAreaLeft" fmla="*/ 0 w 378000"/>
              <a:gd name="textAreaRight" fmla="*/ 378360 w 37800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090" y="0"/>
                </a:lnTo>
                <a:lnTo>
                  <a:pt x="21600" y="10800"/>
                </a:lnTo>
                <a:lnTo>
                  <a:pt x="12090" y="21600"/>
                </a:lnTo>
                <a:lnTo>
                  <a:pt x="0" y="21600"/>
                </a:lnTo>
                <a:lnTo>
                  <a:pt x="951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矩形 20"/>
          <p:cNvSpPr/>
          <p:nvPr/>
        </p:nvSpPr>
        <p:spPr>
          <a:xfrm>
            <a:off x="0" y="0"/>
            <a:ext cx="9144000" cy="1890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矩形 21"/>
          <p:cNvSpPr/>
          <p:nvPr/>
        </p:nvSpPr>
        <p:spPr>
          <a:xfrm>
            <a:off x="0" y="333360"/>
            <a:ext cx="9144000" cy="93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4" name="Group 21"/>
          <p:cNvGrpSpPr/>
          <p:nvPr/>
        </p:nvGrpSpPr>
        <p:grpSpPr>
          <a:xfrm>
            <a:off x="1601640" y="1512720"/>
            <a:ext cx="5959800" cy="3875400"/>
            <a:chOff x="1601640" y="1512720"/>
            <a:chExt cx="5959800" cy="3875400"/>
          </a:xfrm>
        </p:grpSpPr>
        <p:sp>
          <p:nvSpPr>
            <p:cNvPr id="175" name="矩形 36"/>
            <p:cNvSpPr/>
            <p:nvPr/>
          </p:nvSpPr>
          <p:spPr>
            <a:xfrm>
              <a:off x="1601640" y="1512720"/>
              <a:ext cx="5959800" cy="3875400"/>
            </a:xfrm>
            <a:prstGeom prst="rect">
              <a:avLst/>
            </a:prstGeom>
            <a:noFill/>
            <a:ln w="38160">
              <a:solidFill>
                <a:srgbClr val="00b0f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TextBox 37"/>
            <p:cNvSpPr/>
            <p:nvPr/>
          </p:nvSpPr>
          <p:spPr>
            <a:xfrm>
              <a:off x="1690560" y="2039400"/>
              <a:ext cx="2441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故事章节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TextBox 38"/>
            <p:cNvSpPr/>
            <p:nvPr/>
          </p:nvSpPr>
          <p:spPr>
            <a:xfrm>
              <a:off x="3060720" y="3936600"/>
              <a:ext cx="3096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b0f0"/>
                  </a:solidFill>
                  <a:latin typeface="Calibri"/>
                  <a:ea typeface="微软雅黑"/>
                </a:rPr>
                <a:t>过渡页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8" name="TextBox 24"/>
          <p:cNvSpPr/>
          <p:nvPr/>
        </p:nvSpPr>
        <p:spPr>
          <a:xfrm>
            <a:off x="1314360" y="5991120"/>
            <a:ext cx="76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感谢您，曾经出现在我的生命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2"/>
          <p:cNvGrpSpPr/>
          <p:nvPr/>
        </p:nvGrpSpPr>
        <p:grpSpPr>
          <a:xfrm>
            <a:off x="2783520" y="660600"/>
            <a:ext cx="3576960" cy="3317400"/>
            <a:chOff x="2783520" y="660600"/>
            <a:chExt cx="3576960" cy="3317400"/>
          </a:xfrm>
        </p:grpSpPr>
        <p:sp>
          <p:nvSpPr>
            <p:cNvPr id="180" name="圆角矩形 15"/>
            <p:cNvSpPr/>
            <p:nvPr/>
          </p:nvSpPr>
          <p:spPr>
            <a:xfrm rot="2748000">
              <a:off x="3521880" y="1154160"/>
              <a:ext cx="2360880" cy="2329200"/>
            </a:xfrm>
            <a:custGeom>
              <a:avLst/>
              <a:gdLst>
                <a:gd name="textAreaLeft" fmla="*/ 0 w 2360880"/>
                <a:gd name="textAreaRight" fmla="*/ 2361240 w 2360880"/>
                <a:gd name="textAreaTop" fmla="*/ 0 h 2329200"/>
                <a:gd name="textAreaBottom" fmla="*/ 2329560 h 2329200"/>
              </a:gdLst>
              <a:ahLst/>
              <a:rect l="textAreaLeft" t="textAreaTop" r="textAreaRight" b="textAreaBottom"/>
              <a:pathLst>
                <a:path w="1378064" h="1359908">
                  <a:moveTo>
                    <a:pt x="8208" y="70304"/>
                  </a:moveTo>
                  <a:cubicBezTo>
                    <a:pt x="51645" y="26867"/>
                    <a:pt x="111653" y="0"/>
                    <a:pt x="177935" y="0"/>
                  </a:cubicBezTo>
                  <a:lnTo>
                    <a:pt x="1138033" y="0"/>
                  </a:lnTo>
                  <a:cubicBezTo>
                    <a:pt x="1270598" y="0"/>
                    <a:pt x="1378064" y="107466"/>
                    <a:pt x="1378064" y="240031"/>
                  </a:cubicBezTo>
                  <a:lnTo>
                    <a:pt x="1378064" y="1200129"/>
                  </a:lnTo>
                  <a:cubicBezTo>
                    <a:pt x="1378064" y="1261775"/>
                    <a:pt x="1354825" y="1317994"/>
                    <a:pt x="1315969" y="1359908"/>
                  </a:cubicBezTo>
                  <a:lnTo>
                    <a:pt x="1079065" y="1129541"/>
                  </a:lnTo>
                  <a:lnTo>
                    <a:pt x="1086335" y="1091030"/>
                  </a:lnTo>
                  <a:lnTo>
                    <a:pt x="1086335" y="450590"/>
                  </a:lnTo>
                  <a:cubicBezTo>
                    <a:pt x="1086335" y="362162"/>
                    <a:pt x="1014649" y="290476"/>
                    <a:pt x="926220" y="290476"/>
                  </a:cubicBezTo>
                  <a:lnTo>
                    <a:pt x="285780" y="290476"/>
                  </a:lnTo>
                  <a:cubicBezTo>
                    <a:pt x="265344" y="290476"/>
                    <a:pt x="245802" y="294304"/>
                    <a:pt x="228154" y="302110"/>
                  </a:cubicBezTo>
                  <a:lnTo>
                    <a:pt x="0" y="80252"/>
                  </a:lnTo>
                  <a:cubicBezTo>
                    <a:pt x="2212" y="76462"/>
                    <a:pt x="5169" y="73342"/>
                    <a:pt x="8208" y="70304"/>
                  </a:cubicBez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b0f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圆角矩形 15"/>
            <p:cNvSpPr/>
            <p:nvPr/>
          </p:nvSpPr>
          <p:spPr>
            <a:xfrm flipH="1" rot="18852000">
              <a:off x="3260520" y="1155240"/>
              <a:ext cx="2360880" cy="2329200"/>
            </a:xfrm>
            <a:custGeom>
              <a:avLst/>
              <a:gdLst>
                <a:gd name="textAreaLeft" fmla="*/ 360 w 2360880"/>
                <a:gd name="textAreaRight" fmla="*/ 2361600 w 2360880"/>
                <a:gd name="textAreaTop" fmla="*/ 0 h 2329200"/>
                <a:gd name="textAreaBottom" fmla="*/ 2329560 h 2329200"/>
              </a:gdLst>
              <a:ahLst/>
              <a:rect l="textAreaLeft" t="textAreaTop" r="textAreaRight" b="textAreaBottom"/>
              <a:pathLst>
                <a:path w="1378064" h="1359908">
                  <a:moveTo>
                    <a:pt x="8208" y="70304"/>
                  </a:moveTo>
                  <a:cubicBezTo>
                    <a:pt x="51645" y="26867"/>
                    <a:pt x="111653" y="0"/>
                    <a:pt x="177935" y="0"/>
                  </a:cubicBezTo>
                  <a:lnTo>
                    <a:pt x="1138033" y="0"/>
                  </a:lnTo>
                  <a:cubicBezTo>
                    <a:pt x="1270598" y="0"/>
                    <a:pt x="1378064" y="107466"/>
                    <a:pt x="1378064" y="240031"/>
                  </a:cubicBezTo>
                  <a:lnTo>
                    <a:pt x="1378064" y="1200129"/>
                  </a:lnTo>
                  <a:cubicBezTo>
                    <a:pt x="1378064" y="1261775"/>
                    <a:pt x="1354825" y="1317994"/>
                    <a:pt x="1315969" y="1359908"/>
                  </a:cubicBezTo>
                  <a:lnTo>
                    <a:pt x="1079065" y="1129541"/>
                  </a:lnTo>
                  <a:lnTo>
                    <a:pt x="1086335" y="1091030"/>
                  </a:lnTo>
                  <a:lnTo>
                    <a:pt x="1086335" y="450590"/>
                  </a:lnTo>
                  <a:cubicBezTo>
                    <a:pt x="1086335" y="362162"/>
                    <a:pt x="1014649" y="290476"/>
                    <a:pt x="926220" y="290476"/>
                  </a:cubicBezTo>
                  <a:lnTo>
                    <a:pt x="285780" y="290476"/>
                  </a:lnTo>
                  <a:cubicBezTo>
                    <a:pt x="265344" y="290476"/>
                    <a:pt x="245802" y="294304"/>
                    <a:pt x="228154" y="302110"/>
                  </a:cubicBezTo>
                  <a:lnTo>
                    <a:pt x="0" y="80252"/>
                  </a:lnTo>
                  <a:cubicBezTo>
                    <a:pt x="2212" y="76462"/>
                    <a:pt x="5169" y="73342"/>
                    <a:pt x="8208" y="70304"/>
                  </a:cubicBezTo>
                  <a:close/>
                </a:path>
              </a:pathLst>
            </a:custGeom>
            <a:solidFill>
              <a:srgbClr val="00b0f0"/>
            </a:solidFill>
            <a:ln w="3240">
              <a:solidFill>
                <a:srgbClr val="00b0f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2" name="TextBox 4"/>
          <p:cNvSpPr/>
          <p:nvPr/>
        </p:nvSpPr>
        <p:spPr>
          <a:xfrm>
            <a:off x="3862440" y="2016000"/>
            <a:ext cx="136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Calibri"/>
              </a:rPr>
              <a:t>LOG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Box 5"/>
          <p:cNvSpPr/>
          <p:nvPr/>
        </p:nvSpPr>
        <p:spPr>
          <a:xfrm>
            <a:off x="2995560" y="4508640"/>
            <a:ext cx="30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b0f0"/>
                </a:solidFill>
                <a:latin typeface="Calibri"/>
                <a:ea typeface="微软雅黑"/>
              </a:rPr>
              <a:t>大结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Box 6"/>
          <p:cNvSpPr/>
          <p:nvPr/>
        </p:nvSpPr>
        <p:spPr>
          <a:xfrm>
            <a:off x="3024360" y="5238720"/>
            <a:ext cx="30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alibri"/>
                <a:ea typeface="微软雅黑"/>
              </a:rPr>
              <a:t>THE E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矩形 7"/>
          <p:cNvSpPr/>
          <p:nvPr/>
        </p:nvSpPr>
        <p:spPr>
          <a:xfrm>
            <a:off x="2195640" y="4270320"/>
            <a:ext cx="4711680" cy="1238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Box 8"/>
          <p:cNvSpPr/>
          <p:nvPr/>
        </p:nvSpPr>
        <p:spPr>
          <a:xfrm>
            <a:off x="2484360" y="3892680"/>
            <a:ext cx="413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b0f0"/>
                </a:solidFill>
                <a:latin typeface="Calibri"/>
                <a:ea typeface="微软雅黑"/>
              </a:rPr>
              <a:t>人生只若如初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8T06:56:12Z</dcterms:created>
  <dc:creator>www.pptbz.com</dc:creator>
  <dc:description/>
  <cp:keywords/>
  <dc:language>en-US</dc:language>
  <cp:lastModifiedBy>a</cp:lastModifiedBy>
  <dcterms:modified xsi:type="dcterms:W3CDTF">2015-07-25T02:30:10Z</dcterms:modified>
  <cp:revision>2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