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B29-3F2D-4D5C-BA24-01C526D6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67D-3F67-4094-96AD-B2BE80E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DDDA4-40AD-493A-BDA8-CF3BB792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9C50A-4758-45AB-AA79-67CE8B2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06144-3DE8-47F0-94CE-6779915F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B5FC2-4797-49E8-9241-F57D407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D621F-C7BA-4F18-B6B4-B201F7D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4537-AE22-4AB3-BB89-03F67A0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D0D2-787A-4BAF-A9E4-AE060298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12D8D-1AED-427F-B40C-9535E05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4CF4-395A-4FAA-9E4F-312AAEB4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32B5-D7C3-48D3-9DD8-27229312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B82-5C2C-42A0-851F-288074D3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66D95-FF4A-4CB8-9ED0-CB19182B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0FDF0-AC15-49E3-99C7-0053ED83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DEFC-2EC2-4BFB-A56C-C8AD59BE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CA9A1-C812-4406-BE7D-186AEAB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1BC86-130C-471D-989A-9E64CB46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375C6-CBF6-445C-97E8-7750F70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B2935-A7D3-4FAD-BF40-7AD69CAB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E0106-022D-4D3E-B64D-D7B458C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15B84-6181-4E54-81B3-C2A2CCE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77D46-8E52-42C0-A1B0-3245D2E9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802-E205-4AB7-A7CB-B3F6B6E2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B5EC3-531E-4B9A-A3A5-323EA51D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3ED0F-065A-4BA0-9FD5-696DDE55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6243F-FB11-4047-B54E-94A4F40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A9028-0B8A-47CC-8870-145D0B4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779BD-449C-40F8-ABF7-2128F4F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DF2F9-93E8-4C8B-AB50-06C80B7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B24E-05AE-415E-8B51-74395F72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135A-F6B9-4030-A0B6-C11B7D6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05B8-C274-4CC7-B50B-BE83D13B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7A751-CD50-4C9A-9978-01ED37C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1979-A0D0-4532-A062-05E5256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645FE-8EA7-4770-9C56-E840C1E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BDF0-AEB7-4892-9D11-7E84C8BE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C0DA8-CB24-4E86-81D1-EFB68F94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B1E93-4650-4995-85B2-A9B06592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CE276-AB27-4884-B215-03ADA97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2AC94-1E13-42EE-8EFA-3526044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E703F-AB07-4A6B-A11B-6359B50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93EAF-1CEF-457A-BC46-8AF3AA71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316B7-EDD1-41AF-ACB7-277214C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2146B-11E1-4AED-B71E-4823D21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1D4A-FBA1-42A5-9453-E06EB608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2671-8CBE-4588-A282-EE1CCD8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C7888-F19B-4D57-89B4-33250D7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33961-A080-4CBE-8332-A4C5BFE9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15F24-6908-4C06-A36C-AAE28A90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6B35C-8F46-43D3-A621-6756DCDB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97EF4-0531-4929-AD6C-180DF5A0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27306-1944-4273-894E-9219685B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D46DA-251D-4601-A938-DC175EC8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74852-6656-4396-9E7E-E4DA47C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B96E2-C0E6-4897-A0F8-3840F75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6831-65D9-470E-97EB-21BD4068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D6217-D41A-4E99-B078-D0DDE90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B5C30-98DA-43C2-94C0-45AC834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3B4F8-66A3-45E3-91E7-6A718EE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FFD42-2670-4D9F-BC0D-C9E6F02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9D650-7ED6-41F8-81CF-52569490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61971-95BD-45D2-A37B-5624E497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ADFCC-0838-4F06-A222-82358174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19BB-5D92-42C2-AB94-D155646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F13-80CB-4E2F-91F9-C1835FD0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C14-EF21-4AF7-9A11-3C9B0302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B51D-31ED-4D97-8279-2E92010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BEB-8BCF-4CD1-BDF7-42D3363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1E0-1B82-4A4B-B620-250DB1B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99A-27F9-41A2-85E7-E5F93ED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017E-D274-40A3-A663-4697F7B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A4A4-D2AC-4FE5-BDA9-EE37FCB9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B2C6-B335-4695-A2F2-AC5053C7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9252-9846-455D-8296-0F53868A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73E2-D11D-4528-9B38-E019B9D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3867-BF10-40FB-9AFB-C442096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3B49-E209-4032-890C-5EDEADC7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AE62-EAF2-41D8-9FC6-8620905F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6EF-5391-4D0D-A0B2-F85AE80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9F36-57DC-4AC1-ACEF-7F4F4874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C05B-52BB-427E-B992-58AB97D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D1C4-2CE5-4288-B2A1-524F165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6E3F-41D5-49EF-9945-F5C97209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4962-E82A-4CE3-84AB-BF3E5A0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E275-D722-4BD7-BD56-3C75058E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43A7-C16A-4406-AB73-B7E7672F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344B-EE60-4E61-B3CC-F020207E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0394-1C90-4CC1-8F01-E86FF2E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E3A9-FE63-4B22-933F-7F9BBE2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2E3-87A0-4F03-B941-E77439E3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0208-5F41-42B7-9F7D-DF3029E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AB67-B0AF-4F49-B008-77E6C5A9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FF1B-EEED-4A8C-8E7A-D7073EF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7006-2E15-41CC-A83D-BE4BEAF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76EE-3EBE-4E19-9FCA-02C5C81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07DE-56B7-4765-9E5A-7C688146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B97F-8FC5-4FF9-9C5B-D91396C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1444-9A10-407D-9699-1D9064CC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AD67-48B1-457F-933B-8424C8C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9327-E38D-4027-96D1-5C9F6270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E7C-3EF2-4648-89E4-8C80EFDF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1472-3C9C-4B66-BC5E-D0CBD79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B608-1D73-462E-88BC-0125EE7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9F5F8-C334-4E51-84C4-4908CF1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51EF-0EFF-473E-AE40-00ADCC5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E7390-20C9-4B2C-855D-DD37853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3AAB-A636-4543-8F71-8D2FF1DE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7BE8-D81D-45A5-AA09-7215741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5C8C-7D51-4E29-864B-F9ED63B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2896-9A31-49CB-B063-83CCA70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4B37-42C7-4DF2-995C-CEDE882D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032-2E3B-4692-9CE7-E1B543B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FC99-A8D9-4EEA-9B49-013042C6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708D2-937F-4660-B268-2BDD87AD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CA8E-762F-4E01-8F49-6CF0C75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B05E-A402-49D9-B50C-D40EC3F0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12FD-D448-445A-96FF-67CBC251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1814-7425-4F3C-9727-9195D110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5130-C10F-4F72-828D-876FA263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0304-164A-469A-ABFD-2014D91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ACE9-5BA5-406E-9668-4DE5A42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11C2-0D24-4AB3-B7F7-CBF6E07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D12-516F-40EA-8CA2-054D244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F635-1A11-423C-8CCB-D96B3CC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660F-1067-44C3-B816-C694F67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D09D-920F-417F-A000-59B1B338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F3E2-4B24-403A-B5D9-B276314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C888-B125-4BA8-A4DD-593ED01E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963B-706A-4120-856A-4006865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1B30-0F0C-44B3-B636-CB42EE7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D4B5-7E00-4EDB-B2E3-D06B61B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5633-2910-4A51-853E-83DA2340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7DF6-74CF-42D5-A6F9-7695BFF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DF1-D583-4608-AF52-1CCC365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FF47-8EE0-4DE9-980E-FF257FB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8ED8-1B1B-493E-AA24-AC856C5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AC78B-848C-4AE8-922D-F56302F6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3CEC-F61C-4E26-85C4-E2DD73C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D39C-64FA-4E7F-AC6B-E597181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7C57-575B-4CDD-974E-B8A3475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67AA-1403-4849-B6D1-B70ABD4C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2798-00E9-4889-BCBA-F7B75FE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912C-EE12-4345-8708-9C3F3B5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15CF-E0F1-4478-9298-0E76A8F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504-2D2C-4009-A4EE-9DB0DD9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B24F3-3589-48DA-A77F-8CA08F0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6F33-DD46-4410-A81C-5888BA3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9C21-8247-406B-B520-D806F4F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C93A-24D1-4F62-9316-248B7AA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80F8-F5F0-4DF6-BDF7-0CB1C2D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10E3-3DBA-4E5F-90CD-C7F1007B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EF82D-F8D2-4DB2-9BBF-2FEB34C0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15953-5D48-4DEA-B9E9-577D3268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8FBE1-1B5A-4FC0-A05B-DC15D8C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D3AC-E035-4E3B-B3A6-805EA9E5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104-E5CF-4864-B363-485E26D62B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E0B-827B-4B13-B8BD-F4F2C1ED1A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52C-B2D2-4A22-A3E6-A7191266F6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25C-E1C7-4A81-9AD9-7458B97130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30F-9ADA-434B-BC9F-C956D8EB29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C010-EB7B-44E4-ADBD-2EF2E9AD81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63FD-0EC6-4E63-95C7-DF6D31B2A6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517-4007-4B0E-BDB7-4CCCD1F2AF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94A5-FE68-421C-9B60-DA2E087D96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279-10C1-462A-9F3A-B419FF303C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7F9C-CD97-4428-9C57-B6D0D4AB7C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D7C-A31D-43FC-8D62-441C744892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F4A-772F-4A62-8B43-2450B08915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843-7BA6-44EC-9C73-75463BC70C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A22-3918-4B56-9DB0-E3DB5C43F1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205C-9D3E-490F-AA7F-64D1931772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208-3959-4650-A272-9ECB56B9C6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24A-D18C-42FD-A9A9-7E24C423BD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2A8-DDDF-41C3-BC80-34B39C4E83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4EE-3FD2-4817-9364-5524A93E6C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BA87-AF8A-4B39-B6D3-ABC4AC654E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D290-A2B7-4E58-9D6A-3206E6E464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BCD1-AA46-41E6-9B9A-6D3AE4D38D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84FE-5BD0-4558-8940-F6E8261B5B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4A7E-7AA6-467C-965B-194EC292C9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D31-71CB-4576-91AB-460327C723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20"/>
          <p:cNvSpPr/>
          <p:nvPr/>
        </p:nvSpPr>
        <p:spPr>
          <a:xfrm>
            <a:off x="2719440" y="3241800"/>
            <a:ext cx="87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眼镜与笔动态</a:t>
            </a:r>
            <a:r>
              <a:rPr b="1" lang="en-US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3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4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5BE-58E0-4FDE-AC84-04FE0BE18B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742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745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748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751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754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757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760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763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766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769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7B31-06B9-4068-9AE5-C5D11DE21E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778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893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896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899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87AF-1209-46CB-864C-238186C32A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8652-C439-4937-89A2-D6644C0A37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3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94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ECD4-EAFC-4FFE-A148-29233F9050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966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969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5D6-2030-4F45-AD9A-C3906A4620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9F2-520C-4148-BF50-603EF1963C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997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1007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3621-3777-49B9-AD33-62E47118CC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28"/>
          <p:cNvSpPr/>
          <p:nvPr/>
        </p:nvSpPr>
        <p:spPr>
          <a:xfrm>
            <a:off x="2261880" y="290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158-4DCD-4FCC-9030-15465C86AF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581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584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084-BCA8-4020-9E02-3C77A87494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594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E9E-2797-4CE5-A42A-E4250BFC10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6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614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617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方正兰亭特黑_GBK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方正兰亭特黑_GBK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362-300C-4B90-B273-2A85492303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63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64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3108-B3A4-4D39-BDCA-597B5DE16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656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665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1DF-92FE-4D4C-8170-B474260ABB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682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8" name="AutoShape 10"/>
            <p:cNvCxnSpPr>
              <a:stCxn id="682" idx="0"/>
              <a:endCxn id="689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0" name="AutoShape 11"/>
            <p:cNvCxnSpPr>
              <a:stCxn id="682" idx="7"/>
              <a:endCxn id="686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1" name="AutoShape 12"/>
            <p:cNvCxnSpPr>
              <a:stCxn id="682" idx="5"/>
              <a:endCxn id="684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2" name="AutoShape 13"/>
            <p:cNvCxnSpPr>
              <a:stCxn id="686" idx="6"/>
              <a:endCxn id="693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4" name="AutoShape 14"/>
            <p:cNvCxnSpPr>
              <a:stCxn id="684" idx="6"/>
              <a:endCxn id="693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5" name="AutoShape 15"/>
            <p:cNvCxnSpPr>
              <a:stCxn id="684" idx="1"/>
              <a:endCxn id="689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6" name="AutoShape 16"/>
            <p:cNvCxnSpPr>
              <a:stCxn id="686" idx="1"/>
              <a:endCxn id="689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7" name="AutoShape 17"/>
            <p:cNvCxnSpPr>
              <a:stCxn id="698" idx="1"/>
              <a:endCxn id="689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grpSp>
          <p:nvGrpSpPr>
            <p:cNvPr id="699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700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3297-EF7F-450B-AF24-FA60215F41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71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72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王玉清</cp:lastModifiedBy>
  <dcterms:modified xsi:type="dcterms:W3CDTF">2016-02-19T03:13:44Z</dcterms:modified>
  <cp:revision>61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