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1BC4CE-D98C-489D-9F95-AF9EDF8EF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D337FA-EDF0-4F6E-A095-C665D2046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2A926D-1C6D-44B7-9968-D4EE2DBF7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1D4F89-AB99-434F-AF79-8F5F5D2F3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1341360"/>
            <a:ext cx="73148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220968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518000"/>
            <a:ext cx="235512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90720" y="1341360"/>
            <a:ext cx="7314840" cy="33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040" y="451800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040" y="2209680"/>
            <a:ext cx="356940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518000"/>
            <a:ext cx="7314840" cy="210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040" cy="70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Microsoft Sans Serif"/>
              </a:rPr>
              <a:t>单击此处编辑母版标题样式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4d4d4d"/>
                </a:solidFill>
                <a:latin typeface="Microsoft Sans Serif"/>
              </a:rPr>
              <a:t>单击此处编辑母版标题样式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990720" y="2209680"/>
            <a:ext cx="7314840" cy="4419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d4d4d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</a:rPr>
              <a:t>单击此处编辑母版文本样式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4d4d4d"/>
                </a:solidFill>
                <a:latin typeface="Microsoft Sans Serif"/>
              </a:rPr>
              <a:t>第二级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d4d4d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4d4d4d"/>
                </a:solidFill>
                <a:latin typeface="Microsoft Sans Serif"/>
              </a:rPr>
              <a:t>第三级</a:t>
            </a:r>
            <a:endParaRPr b="0" lang="en-US" sz="24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4d4d4d"/>
                </a:solidFill>
                <a:latin typeface="Microsoft Sans Serif"/>
              </a:rPr>
              <a:t>第四级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d4d4d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4d4d4d"/>
                </a:solidFill>
                <a:latin typeface="Microsoft Sans Serif"/>
              </a:rPr>
              <a:t>第五级</a:t>
            </a:r>
            <a:endParaRPr b="0" lang="en-US" sz="20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7772040" cy="704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chemeClr val="accent5">
                    <a:lumMod val="25000"/>
                  </a:schemeClr>
                </a:solidFill>
                <a:latin typeface="华文隶书"/>
                <a:ea typeface="华文隶书"/>
              </a:rPr>
              <a:t>鸳鸯玫瑰通用</a:t>
            </a:r>
            <a:r>
              <a:rPr b="0" lang="en-US" sz="4000" spc="-1" strike="noStrike">
                <a:solidFill>
                  <a:schemeClr val="accent5">
                    <a:lumMod val="25000"/>
                  </a:schemeClr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chemeClr val="accent5">
                    <a:lumMod val="25000"/>
                  </a:schemeClr>
                </a:solidFill>
                <a:latin typeface="华文隶书"/>
                <a:ea typeface="华文隶书"/>
              </a:rPr>
              <a:t>模板在线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914400"/>
            <a:ext cx="7772040" cy="685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d4d4d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1341360"/>
            <a:ext cx="7314840" cy="715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1763640" y="6840"/>
            <a:ext cx="661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鸳鸯 玫瑰婚庆主题PPT模板">
  <a:themeElements>
    <a:clrScheme name="powerpoint-template-24 12">
      <a:dk1>
        <a:srgbClr val="4d4d4d"/>
      </a:dk1>
      <a:lt1>
        <a:srgbClr val="ffffff"/>
      </a:lt1>
      <a:dk2>
        <a:srgbClr val="4d4d4d"/>
      </a:dk2>
      <a:lt2>
        <a:srgbClr val="fb2414"/>
      </a:lt2>
      <a:accent1>
        <a:srgbClr val="ff5537"/>
      </a:accent1>
      <a:accent2>
        <a:srgbClr val="ff972f"/>
      </a:accent2>
      <a:accent3>
        <a:srgbClr val="ffffff"/>
      </a:accent3>
      <a:accent4>
        <a:srgbClr val="404040"/>
      </a:accent4>
      <a:accent5>
        <a:srgbClr val="ffb4ae"/>
      </a:accent5>
      <a:accent6>
        <a:srgbClr val="e7882a"/>
      </a:accent6>
      <a:hlink>
        <a:srgbClr val="ffc032"/>
      </a:hlink>
      <a:folHlink>
        <a:srgbClr val="ddddd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鸳鸯 玫瑰婚庆主题PPT模板">
  <a:themeElements>
    <a:clrScheme name="powerpoint-template-24 12">
      <a:dk1>
        <a:srgbClr val="4d4d4d"/>
      </a:dk1>
      <a:lt1>
        <a:srgbClr val="ffffff"/>
      </a:lt1>
      <a:dk2>
        <a:srgbClr val="4d4d4d"/>
      </a:dk2>
      <a:lt2>
        <a:srgbClr val="fb2414"/>
      </a:lt2>
      <a:accent1>
        <a:srgbClr val="ff5537"/>
      </a:accent1>
      <a:accent2>
        <a:srgbClr val="ff972f"/>
      </a:accent2>
      <a:accent3>
        <a:srgbClr val="ffffff"/>
      </a:accent3>
      <a:accent4>
        <a:srgbClr val="404040"/>
      </a:accent4>
      <a:accent5>
        <a:srgbClr val="ffb4ae"/>
      </a:accent5>
      <a:accent6>
        <a:srgbClr val="e7882a"/>
      </a:accent6>
      <a:hlink>
        <a:srgbClr val="ffc032"/>
      </a:hlink>
      <a:folHlink>
        <a:srgbClr val="ddddd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d4d4d"/>
      </a:dk2>
      <a:lt2>
        <a:srgbClr val="fb2414"/>
      </a:lt2>
      <a:accent1>
        <a:srgbClr val="ff5537"/>
      </a:accent1>
      <a:accent2>
        <a:srgbClr val="ff972f"/>
      </a:accent2>
      <a:accent3>
        <a:srgbClr val="ffffff"/>
      </a:accent3>
      <a:accent4>
        <a:srgbClr val="404040"/>
      </a:accent4>
      <a:accent5>
        <a:srgbClr val="ffb4ae"/>
      </a:accent5>
      <a:accent6>
        <a:srgbClr val="e7882a"/>
      </a:accent6>
      <a:hlink>
        <a:srgbClr val="ffc032"/>
      </a:hlink>
      <a:folHlink>
        <a:srgbClr val="dddddd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鸳鸯 玫瑰婚庆主题PPT模板</Template>
  <TotalTime>9</TotalTime>
  <Application>LibreOffice/7.4.7.2$Linux_X86_64 LibreOffice_project/40$Build-2</Application>
  <AppVersion>15.0000</AppVersion>
  <Words>100</Words>
  <Paragraphs>14</Paragraphs>
  <Company>微软中国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4T14:29:08Z</dcterms:created>
  <dc:creator>微软用户</dc:creator>
  <dc:description/>
  <dc:language>en-US</dc:language>
  <cp:lastModifiedBy>王玉清</cp:lastModifiedBy>
  <dcterms:modified xsi:type="dcterms:W3CDTF">2016-02-20T03:15:29Z</dcterms:modified>
  <cp:revision>5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3</vt:r8>
  </property>
</Properties>
</file>