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png" ContentType="image/png"/>
  <Override PartName="/ppt/media/image1.gif" ContentType="image/gif"/>
  <Override PartName="/ppt/media/image26.png" ContentType="image/png"/>
  <Override PartName="/ppt/media/image3.gif" ContentType="image/gif"/>
  <Override PartName="/ppt/media/image23.gif" ContentType="image/gif"/>
  <Override PartName="/ppt/media/image22.png" ContentType="image/png"/>
  <Override PartName="/ppt/media/image11.gif" ContentType="image/gif"/>
  <Override PartName="/ppt/media/image14.png" ContentType="image/png"/>
  <Override PartName="/ppt/media/image7.gif" ContentType="image/gif"/>
  <Override PartName="/ppt/media/image35.png" ContentType="image/png"/>
  <Override PartName="/ppt/media/image8.gif" ContentType="image/gif"/>
  <Override PartName="/ppt/media/image36.png" ContentType="image/png"/>
  <Override PartName="/ppt/media/image13.gif" ContentType="image/gif"/>
  <Override PartName="/ppt/media/image9.gif" ContentType="image/gif"/>
  <Override PartName="/ppt/media/image37.png" ContentType="image/png"/>
  <Override PartName="/ppt/media/image30.png" ContentType="image/png"/>
  <Override PartName="/ppt/media/image31.png" ContentType="image/png"/>
  <Override PartName="/ppt/media/image32.png" ContentType="image/png"/>
  <Override PartName="/ppt/media/image33.png" ContentType="image/png"/>
  <Override PartName="/ppt/media/image28.png" ContentType="image/png"/>
  <Override PartName="/ppt/media/image5.gif" ContentType="image/gif"/>
  <Override PartName="/ppt/media/image34.png" ContentType="image/png"/>
  <Override PartName="/ppt/media/image29.png" ContentType="image/png"/>
  <Override PartName="/ppt/media/image6.gif" ContentType="image/gif"/>
  <Override PartName="/ppt/media/image10.gif" ContentType="image/gif"/>
  <Override PartName="/ppt/media/image12.png" ContentType="image/png"/>
  <Override PartName="/ppt/media/image4.gif" ContentType="image/gif"/>
  <Override PartName="/ppt/media/image27.png" ContentType="image/png"/>
  <Override PartName="/ppt/media/image15.gif" ContentType="image/gif"/>
  <Override PartName="/ppt/media/image16.gif" ContentType="image/gif"/>
  <Override PartName="/ppt/media/image19.png" ContentType="image/png"/>
  <Override PartName="/ppt/media/image21.png" ContentType="image/png"/>
  <Override PartName="/ppt/media/image17.png" ContentType="image/png"/>
  <Override PartName="/ppt/media/image18.gif" ContentType="image/gif"/>
  <Override PartName="/ppt/media/image20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886-D8FF-4797-9E7A-8A333577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4BA-8764-47C9-8415-6F4603A9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31728-FF70-47E5-A328-FE2F56BC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B792E-8EB2-480C-B230-38DDB2D3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FF3D4-6F7A-48EF-9A58-F0EAC8EA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29213-0BD8-4990-9634-EBE407BC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AA6EB-6E64-4346-B7CF-0AD77F74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5811F-629F-476F-8B5A-EF81521C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89065-4145-4626-8AA8-3F2080AA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14EC0-D3E2-4242-8867-46E3A1D0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8BB65-6928-4405-90CC-69600C85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7E029-35AA-4902-ACFD-4C824B86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C2E-E213-4E1B-9962-1CB1FA10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CD15B-98EB-4241-A3B6-0C76647A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1D119-2C70-4352-94AD-6B1198F1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EBE20-EC31-4AD1-A2F6-E9497CA4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04E6F-F70B-458A-9CC3-CC56232E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E273A-DE94-4A8C-BBA6-917E899D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9DBB5-692E-41CF-A059-3830DC8A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65F3C-9107-48A4-91B6-AA52C14E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9340E-F855-4A73-86F3-7E3DD0DC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BAA13-D772-4D17-B2AF-F8B8FCF5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CD5EA-C763-4642-9661-73037D64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5B4-5B7D-444C-A308-50E31373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66E7E-26B2-4F0C-9D2E-7F0F7FEF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062A4-4735-4524-9362-4206F731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838DE-7E39-4119-A8F7-2DC4F7F7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A77DD-E2AD-4290-9716-E92FAA67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C0B1F-FFF6-49F6-A7BF-E6475069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6DBCE-44FD-447F-A127-2446AE3A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1CB57-1E0C-466B-8BDB-E8B3BECD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617A7-3DDE-49E5-850D-948D9020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199F0-98C0-4B0D-B5F2-F9670CD0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39E6E-168A-4633-9E46-98E2CE82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800F-CC32-47D1-A28F-51911C78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3D3F8-6AE3-4A0A-97A2-65E362F4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85D54-3B35-4740-AF15-C4C918EA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40D21-34EE-4B1B-B103-BAE855C9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DF7C3-D827-46B3-A563-364071CC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5FB9E-E39E-4F90-9A57-6E21338F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7A6A8-EDF2-415E-A76F-7C15B0DF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AE92C-A2AE-4CC2-BC3C-6DD9760D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ED511-2028-4D60-A156-98336EA4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F45EC-5C86-4CC5-AD6F-33AAD1D2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0427D-01B0-4244-A619-AB39F7A1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AB18-EAC3-4312-8B07-0D913797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776C1-1E48-4A1B-84E8-EDD2F440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F56E5-4005-4ACF-9166-B6BB432A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D7D02-2171-4461-89E5-632A244D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6A0DD-2EAF-4FAB-8572-136E3FF0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E7AB8-B9E6-4523-89B6-EA9BCBF9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AEA4-F881-4D9B-8CA5-26C8F8EC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BD2E-7EC3-4147-9347-4942C499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200D-715B-4059-B3D7-5979A068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3EB5-C937-4259-A4C0-A3A6EE3C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781F-8E2E-4B7D-B635-2B9661CE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176-C9A0-43A5-9D90-46CB0125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4E9B-912B-474D-AD9D-7F825592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9D25-F739-46BC-8D1E-2269C504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48F7-6E16-45D5-A5EB-89B1BA05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D70B-199F-4B4F-A4F6-188EF7CD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8815-96F8-4C25-8F13-DC65202D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E899B-FB08-47F7-AEBD-19180073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4D30C-3FAE-4D8D-831E-AA796190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B303-5E1A-4F62-A274-DD87E452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54442-252E-4363-BEF4-18ADC471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B552-644E-4D4C-BF9A-915ABE14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C0C-6ADA-4EEC-82A0-AEE623B4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EF1AA-9D40-4BA5-875F-14BC260F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F12AB-117C-4238-BBD4-E1BCDFC6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47418-024F-46A6-8263-9005DB51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28E80-2FA6-4F4A-BA48-6DF27A3F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21BDE-2BF1-4790-8514-E17E9266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C34D2-D41C-4085-8C34-43AA8991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8F472-60BC-462C-9611-6943B605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F176C-5B09-486D-8C29-4640E090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6FE52-D359-4303-94C9-4706DF9A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D19FC-58CE-44CC-A8D6-F47E4080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713-A1DD-4495-A1CD-A0B6F1D1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9CE3C-3205-4E27-9088-55C3FEA6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76A62-98D9-4692-834E-2F9B5B8E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A87A1-0368-40DC-B1C0-10B342C1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2034D-A271-4070-AFB2-DDE39EBE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5F291-DC13-4392-B6D6-42EB5AD9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95AC0-196C-41B0-A43F-237D2D22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DE67A-DA0F-48C0-A93F-095C0065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390A7-4224-4AD4-B431-87275548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48F30-7AA1-452F-9E2F-F76E3F43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2DF5F-91A0-4DB7-9317-40551497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F27-78C3-4C67-A25E-59BC6739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5C7C4-E79C-478C-8768-04CC9463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7C143-8BC5-4F00-8E7A-A31B1214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FA3B7-5F4D-49DE-91F0-74F93A0E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D16C4-17E7-4E8B-9D9E-2F5A38B9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822D2-298E-45EA-BC46-BBC9E8DE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77EFD-6107-4441-B521-9DBC1F2C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0FA47-6D6F-4B8D-B542-D08E9620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A2A8D-E5A5-4C10-87B8-9972438F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5AF8F-0FA4-4A39-BFB8-B84C0507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8DEB0-E3DF-4CCD-B3F6-C80F0B70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9262-BC6E-4FB0-86A7-AE7D38E7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CBB28-D722-4930-85C7-62C57FA8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7244C-1F12-4A8B-B0A3-73C75632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EC06F-6466-4A35-93F5-F39DEBEB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0D2A2-139E-48B1-AC84-D140DA7D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AD0C2-A29A-45CA-919D-4A13D9D8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0B354-8190-4800-85B1-A34E4E36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998B2-4428-437C-ACAB-5B022D4C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C41CA-3A16-4B1C-916D-C3FB3815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82D43-CCC2-4E7D-8D68-3CA763BE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5D51A-C333-4CDF-9881-E499B772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1E6-3AAE-47A7-A522-D221E8C7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D7149-E31D-400F-9FC7-310BB866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07170-C1F5-4AD7-B487-99FEDE6B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71B6E-3CA2-4944-AE03-0EE8D961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49B73-090B-4960-900F-13682E68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2AB93-4F3D-4509-BDCE-93F7C457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610EF-DBFF-4850-89C4-26AF0BA9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DEC13-8C15-476B-94B6-64E7132B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4B317-3990-48DF-91AF-79755416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53E95-35D9-4233-AABE-A1CDFD43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CE480-93D9-403D-9837-5E28E988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E14-03B6-493F-8167-9DC9F7B8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3E889-8065-4453-90C9-8C7D4FC0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2CA15-2EF6-4E43-A7CA-FD521D19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820AE-682D-45A8-BDD6-34E3F9B0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17D2B-5E1D-4BB7-AC24-80067636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9A5DC-76D9-4B29-8FB2-8B293E55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C93B1-4BC3-44EA-876B-10C41080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F889D-E49F-45CD-BD8F-5897D9E3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54985-2201-49EC-8481-466CDA28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F98BB-318B-4A23-A043-93D49BA8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B776F-CCC3-4D74-978D-1B09F1F8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513-53BD-4A46-9A13-10C078B7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578F6-2D2D-4EA2-9307-2B689038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77A17-F125-4D0A-96C5-8FC219A3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EA694-F149-4866-9437-A103DD1E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19FAE-FBB7-4521-98E2-74F9850E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4EBAE-D3CE-4D48-A539-6C1537E5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DA996-BFF7-495E-9F8A-6222AF83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C55C2-FC1F-41FF-BA18-A1DCE990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73CE3-8662-4349-B75C-E19891AD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9B28E-05B8-4EE8-A386-A53603E0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A42F4-ED66-4B0A-8A6C-7E310F2A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5246-CF0C-4124-8FA6-C53E3BA04C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2144-1F91-49A9-8461-A880D27894D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82C3-5AF2-430B-B4C1-D2553A1A2B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2DA4-4827-4328-A95B-1AE0FAC487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9378-5A4D-4B97-AEC9-75611237BC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BA47-76B1-440A-A49B-8168B0192C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B0FF-6FFC-4F80-A0FB-0982CA8C76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A8A8-4494-4E2C-9C86-8F501562707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C327-9022-47B6-857A-82B5C3D42B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2640-B583-4408-BDEB-E9303CBC7C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6C37-0844-4B74-B22B-7CDE62BC71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3594-7D6D-4905-ADA8-5603E34630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C5AD-0E8A-417D-B774-2AF91D0C03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4551-8AA6-4E47-B188-B7E82D601D6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6065-ADC0-4960-846B-F5D6463C10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F837-4684-4C0A-9234-35BEDFA3792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5DF0-A1A6-4A82-A86F-3963BD967B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22A5-4BAF-475E-9CEB-BC5133F0AD7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B901-D466-475F-90BE-A305A71768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0F94-B6A8-433C-8C40-B821B7F5E9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7DB6-B457-47A2-929B-CC6371E12D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F1E6-7373-45C5-BAB0-CD86F00A63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37EE-62C6-4EAE-A76E-5868D7511A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8.png"/><Relationship Id="rId3" Type="http://schemas.openxmlformats.org/officeDocument/2006/relationships/image" Target="../media/image10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30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31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gif"/><Relationship Id="rId3" Type="http://schemas.openxmlformats.org/officeDocument/2006/relationships/image" Target="../media/image12.png"/><Relationship Id="rId4" Type="http://schemas.openxmlformats.org/officeDocument/2006/relationships/image" Target="../media/image10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0.gi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10.gif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gif"/><Relationship Id="rId3" Type="http://schemas.openxmlformats.org/officeDocument/2006/relationships/image" Target="../media/image25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祝我最亲爱的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h"/>
          <p:cNvPicPr/>
          <p:nvPr/>
        </p:nvPicPr>
        <p:blipFill>
          <a:blip r:embed="rId1"/>
          <a:stretch/>
        </p:blipFill>
        <p:spPr>
          <a:xfrm>
            <a:off x="2557440" y="3090960"/>
            <a:ext cx="4029120" cy="6760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i"/>
          <p:cNvPicPr/>
          <p:nvPr/>
        </p:nvPicPr>
        <p:blipFill>
          <a:blip r:embed="rId2"/>
          <a:stretch/>
        </p:blipFill>
        <p:spPr>
          <a:xfrm>
            <a:off x="3132000" y="4005360"/>
            <a:ext cx="2857680" cy="14284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g"/>
          <p:cNvPicPr/>
          <p:nvPr/>
        </p:nvPicPr>
        <p:blipFill>
          <a:blip r:embed="rId3"/>
          <a:stretch/>
        </p:blipFill>
        <p:spPr>
          <a:xfrm>
            <a:off x="6877080" y="335772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" descr="g"/>
          <p:cNvPicPr/>
          <p:nvPr/>
        </p:nvPicPr>
        <p:blipFill>
          <a:blip r:embed="rId4"/>
          <a:stretch/>
        </p:blipFill>
        <p:spPr>
          <a:xfrm>
            <a:off x="7093080" y="3357720"/>
            <a:ext cx="180720" cy="1807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8" descr="g"/>
          <p:cNvPicPr/>
          <p:nvPr/>
        </p:nvPicPr>
        <p:blipFill>
          <a:blip r:embed="rId5"/>
          <a:stretch/>
        </p:blipFill>
        <p:spPr>
          <a:xfrm>
            <a:off x="7308720" y="335772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9" descr="g"/>
          <p:cNvPicPr/>
          <p:nvPr/>
        </p:nvPicPr>
        <p:blipFill>
          <a:blip r:embed="rId6"/>
          <a:stretch/>
        </p:blipFill>
        <p:spPr>
          <a:xfrm>
            <a:off x="1692360" y="3319560"/>
            <a:ext cx="180720" cy="1807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0" descr="g"/>
          <p:cNvPicPr/>
          <p:nvPr/>
        </p:nvPicPr>
        <p:blipFill>
          <a:blip r:embed="rId7"/>
          <a:stretch/>
        </p:blipFill>
        <p:spPr>
          <a:xfrm>
            <a:off x="1908000" y="331956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1" descr="g"/>
          <p:cNvPicPr/>
          <p:nvPr/>
        </p:nvPicPr>
        <p:blipFill>
          <a:blip r:embed="rId8"/>
          <a:stretch/>
        </p:blipFill>
        <p:spPr>
          <a:xfrm>
            <a:off x="2124000" y="3319560"/>
            <a:ext cx="181080" cy="18072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2"/>
          <p:cNvSpPr/>
          <p:nvPr/>
        </p:nvSpPr>
        <p:spPr>
          <a:xfrm>
            <a:off x="2700360" y="5388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"/>
          <p:cNvSpPr/>
          <p:nvPr/>
        </p:nvSpPr>
        <p:spPr>
          <a:xfrm>
            <a:off x="2429640" y="295200"/>
            <a:ext cx="409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秋节动态</a:t>
            </a:r>
            <a:r>
              <a:rPr b="1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-13680" y="504720"/>
            <a:ext cx="87760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黑体"/>
              </a:rPr>
              <a:t>或者现在关系如何的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黑体"/>
              </a:rPr>
              <a:t>亲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120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                                         </a:t>
            </a:r>
            <a:br>
              <a:rPr sz="1800"/>
            </a:br>
            <a:br>
              <a:rPr sz="1800"/>
            </a:b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你也可以把它回复给寄给你的人  </a:t>
            </a:r>
            <a:r>
              <a:rPr b="1" lang="zh-CN" sz="2400" spc="-1" strike="noStrike">
                <a:solidFill>
                  <a:srgbClr val="ffff00"/>
                </a:solidFill>
                <a:latin typeface="Impact"/>
                <a:ea typeface="黑体"/>
              </a:rPr>
              <a:t>  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</a:t>
            </a:r>
            <a:br>
              <a:rPr sz="1800"/>
            </a:br>
            <a:r>
              <a:rPr b="0" lang="zh-CN" sz="11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zh-CN" sz="120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lang="zh-CN" sz="1100" spc="-1" strike="noStrike">
                <a:solidFill>
                  <a:srgbClr val="ffff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2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5" descr="60"/>
          <p:cNvPicPr/>
          <p:nvPr/>
        </p:nvPicPr>
        <p:blipFill>
          <a:blip r:embed="rId1"/>
          <a:stretch/>
        </p:blipFill>
        <p:spPr>
          <a:xfrm>
            <a:off x="3132000" y="907920"/>
            <a:ext cx="2492640" cy="21654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3401"/>
          <p:cNvPicPr/>
          <p:nvPr/>
        </p:nvPicPr>
        <p:blipFill>
          <a:blip r:embed="rId2"/>
          <a:stretch/>
        </p:blipFill>
        <p:spPr>
          <a:xfrm>
            <a:off x="2268360" y="3068640"/>
            <a:ext cx="452520" cy="3459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3401"/>
          <p:cNvPicPr/>
          <p:nvPr/>
        </p:nvPicPr>
        <p:blipFill>
          <a:blip r:embed="rId3"/>
          <a:stretch/>
        </p:blipFill>
        <p:spPr>
          <a:xfrm>
            <a:off x="6181560" y="2997360"/>
            <a:ext cx="452520" cy="3459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8" descr="61"/>
          <p:cNvPicPr/>
          <p:nvPr/>
        </p:nvPicPr>
        <p:blipFill>
          <a:blip r:embed="rId4"/>
          <a:stretch/>
        </p:blipFill>
        <p:spPr>
          <a:xfrm>
            <a:off x="2916360" y="3500280"/>
            <a:ext cx="308592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261000" y="578520"/>
            <a:ext cx="86238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让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黑体"/>
              </a:rPr>
              <a:t>老朋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知道你没有忘记他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20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                    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并且告诉</a:t>
            </a:r>
            <a:r>
              <a:rPr b="1" lang="zh-CN" sz="2400" spc="-1" strike="noStrike">
                <a:solidFill>
                  <a:srgbClr val="ff99ff"/>
                </a:solidFill>
                <a:latin typeface="Arial"/>
                <a:ea typeface="黑体"/>
              </a:rPr>
              <a:t>新朋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你永远也不会忘掉朋友  </a:t>
            </a:r>
            <a:r>
              <a:rPr b="1" lang="zh-CN" sz="2400" spc="-1" strike="noStrike">
                <a:solidFill>
                  <a:srgbClr val="ffff00"/>
                </a:solidFill>
                <a:latin typeface="Impact"/>
                <a:ea typeface="黑体"/>
              </a:rPr>
              <a:t>      </a:t>
            </a:r>
            <a:br>
              <a:rPr sz="2400"/>
            </a:br>
            <a:br>
              <a:rPr sz="2400"/>
            </a:b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20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                       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3401"/>
          <p:cNvPicPr/>
          <p:nvPr/>
        </p:nvPicPr>
        <p:blipFill>
          <a:blip r:embed="rId1"/>
          <a:stretch/>
        </p:blipFill>
        <p:spPr>
          <a:xfrm>
            <a:off x="2411280" y="69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6" descr="62"/>
          <p:cNvPicPr/>
          <p:nvPr/>
        </p:nvPicPr>
        <p:blipFill>
          <a:blip r:embed="rId2"/>
          <a:stretch/>
        </p:blipFill>
        <p:spPr>
          <a:xfrm>
            <a:off x="3995640" y="1197000"/>
            <a:ext cx="1552680" cy="19051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3401"/>
          <p:cNvPicPr/>
          <p:nvPr/>
        </p:nvPicPr>
        <p:blipFill>
          <a:blip r:embed="rId3"/>
          <a:stretch/>
        </p:blipFill>
        <p:spPr>
          <a:xfrm>
            <a:off x="6361200" y="33447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8" descr="63"/>
          <p:cNvPicPr/>
          <p:nvPr/>
        </p:nvPicPr>
        <p:blipFill>
          <a:blip r:embed="rId4"/>
          <a:stretch/>
        </p:blipFill>
        <p:spPr>
          <a:xfrm>
            <a:off x="3780000" y="3860640"/>
            <a:ext cx="1647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-396720" y="1382760"/>
            <a:ext cx="97135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记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每个人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都需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朋友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62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                       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br>
              <a:rPr sz="1100"/>
            </a:br>
            <a:br>
              <a:rPr sz="11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当有一天你感到自己根本就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  <a:ea typeface="黑体"/>
              </a:rPr>
              <a:t>没有朋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zh-CN" sz="120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Tahoma"/>
              </a:rPr>
              <a:t>                                                                                   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br>
              <a:rPr sz="11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5" descr="3401"/>
          <p:cNvPicPr/>
          <p:nvPr/>
        </p:nvPicPr>
        <p:blipFill>
          <a:blip r:embed="rId1"/>
          <a:stretch/>
        </p:blipFill>
        <p:spPr>
          <a:xfrm>
            <a:off x="2649600" y="13478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6" descr="3401"/>
          <p:cNvPicPr/>
          <p:nvPr/>
        </p:nvPicPr>
        <p:blipFill>
          <a:blip r:embed="rId2"/>
          <a:stretch/>
        </p:blipFill>
        <p:spPr>
          <a:xfrm>
            <a:off x="6159600" y="13478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7" descr="123"/>
          <p:cNvPicPr/>
          <p:nvPr/>
        </p:nvPicPr>
        <p:blipFill>
          <a:blip r:embed="rId3"/>
          <a:stretch/>
        </p:blipFill>
        <p:spPr>
          <a:xfrm>
            <a:off x="2700360" y="1897200"/>
            <a:ext cx="2808360" cy="9903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8" descr="3401"/>
          <p:cNvPicPr/>
          <p:nvPr/>
        </p:nvPicPr>
        <p:blipFill>
          <a:blip r:embed="rId4"/>
          <a:stretch/>
        </p:blipFill>
        <p:spPr>
          <a:xfrm>
            <a:off x="5622840" y="18972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9" descr="3401"/>
          <p:cNvPicPr/>
          <p:nvPr/>
        </p:nvPicPr>
        <p:blipFill>
          <a:blip r:embed="rId5"/>
          <a:stretch/>
        </p:blipFill>
        <p:spPr>
          <a:xfrm>
            <a:off x="2313000" y="3284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0" descr="64"/>
          <p:cNvPicPr/>
          <p:nvPr/>
        </p:nvPicPr>
        <p:blipFill>
          <a:blip r:embed="rId6"/>
          <a:stretch/>
        </p:blipFill>
        <p:spPr>
          <a:xfrm>
            <a:off x="3203640" y="3429000"/>
            <a:ext cx="2662200" cy="3168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1" descr="3401"/>
          <p:cNvPicPr/>
          <p:nvPr/>
        </p:nvPicPr>
        <p:blipFill>
          <a:blip r:embed="rId7"/>
          <a:stretch/>
        </p:blipFill>
        <p:spPr>
          <a:xfrm>
            <a:off x="64962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-1256040" y="709560"/>
            <a:ext cx="11656440" cy="54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  <a:ea typeface="黑体"/>
              </a:rPr>
              <a:t>你才会明白这句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120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                                                            </a:t>
            </a:r>
            <a:br>
              <a:rPr sz="1800"/>
            </a:br>
            <a:br>
              <a:rPr sz="1800"/>
            </a:b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  <a:ea typeface="黑体"/>
              </a:rPr>
              <a:t> 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  <a:ea typeface="黑体"/>
              </a:rPr>
              <a:t>同时你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很高兴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的知道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02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                                       </a:t>
            </a:r>
            <a:br>
              <a:rPr sz="2600"/>
            </a:br>
            <a:br>
              <a:rPr sz="26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我在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黑体"/>
              </a:rPr>
              <a:t>关注着你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并且在你需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帮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时会出现在你身旁</a:t>
            </a: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黑体"/>
              </a:rPr>
              <a:t>……</a:t>
            </a:r>
            <a:br>
              <a:rPr sz="11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5" descr="65"/>
          <p:cNvPicPr/>
          <p:nvPr/>
        </p:nvPicPr>
        <p:blipFill>
          <a:blip r:embed="rId1"/>
          <a:stretch/>
        </p:blipFill>
        <p:spPr>
          <a:xfrm>
            <a:off x="2041560" y="1004760"/>
            <a:ext cx="2371680" cy="19051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6" descr="3401"/>
          <p:cNvPicPr/>
          <p:nvPr/>
        </p:nvPicPr>
        <p:blipFill>
          <a:blip r:embed="rId2"/>
          <a:stretch/>
        </p:blipFill>
        <p:spPr>
          <a:xfrm>
            <a:off x="2992320" y="3108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3401"/>
          <p:cNvPicPr/>
          <p:nvPr/>
        </p:nvPicPr>
        <p:blipFill>
          <a:blip r:embed="rId3"/>
          <a:stretch/>
        </p:blipFill>
        <p:spPr>
          <a:xfrm>
            <a:off x="5815080" y="31082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66"/>
          <p:cNvPicPr/>
          <p:nvPr/>
        </p:nvPicPr>
        <p:blipFill>
          <a:blip r:embed="rId4"/>
          <a:stretch/>
        </p:blipFill>
        <p:spPr>
          <a:xfrm>
            <a:off x="2930400" y="3505320"/>
            <a:ext cx="2448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00"/>
                </a:solidFill>
                <a:latin typeface="Arial"/>
              </a:rPr>
              <a:t>在这里祝你工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gongzuo1"/>
          <p:cNvPicPr/>
          <p:nvPr/>
        </p:nvPicPr>
        <p:blipFill>
          <a:blip r:embed="rId1"/>
          <a:stretch/>
        </p:blipFill>
        <p:spPr>
          <a:xfrm>
            <a:off x="1906560" y="2133720"/>
            <a:ext cx="5286240" cy="8524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gongzuo2"/>
          <p:cNvPicPr/>
          <p:nvPr/>
        </p:nvPicPr>
        <p:blipFill>
          <a:blip r:embed="rId2"/>
          <a:stretch/>
        </p:blipFill>
        <p:spPr>
          <a:xfrm>
            <a:off x="1979640" y="3141720"/>
            <a:ext cx="5151240" cy="8287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6" descr="gongzuo3"/>
          <p:cNvPicPr/>
          <p:nvPr/>
        </p:nvPicPr>
        <p:blipFill>
          <a:blip r:embed="rId3"/>
          <a:stretch/>
        </p:blipFill>
        <p:spPr>
          <a:xfrm>
            <a:off x="1979640" y="4013280"/>
            <a:ext cx="518472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最后祝你中秋快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482040" y="2696400"/>
            <a:ext cx="818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后在这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祝你中秋快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5" descr="011"/>
          <p:cNvPicPr/>
          <p:nvPr/>
        </p:nvPicPr>
        <p:blipFill>
          <a:blip r:embed="rId1"/>
          <a:stretch/>
        </p:blipFill>
        <p:spPr>
          <a:xfrm>
            <a:off x="1476360" y="2637000"/>
            <a:ext cx="6365880" cy="19094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6"/>
          <p:cNvSpPr/>
          <p:nvPr/>
        </p:nvSpPr>
        <p:spPr>
          <a:xfrm>
            <a:off x="511200" y="63151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132000" y="242064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cc"/>
                </a:solidFill>
                <a:latin typeface="Arial"/>
              </a:rPr>
              <a:t>转给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0-4</a:t>
            </a:r>
            <a:r>
              <a:rPr b="0" lang="zh-CN" sz="2000" spc="-1" strike="noStrike">
                <a:solidFill>
                  <a:srgbClr val="cccccc"/>
                </a:solidFill>
                <a:latin typeface="Arial"/>
              </a:rPr>
              <a:t>人：生活不会有变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cccccc"/>
                </a:solidFill>
                <a:latin typeface="Arial"/>
              </a:rPr>
              <a:t>转给</a:t>
            </a:r>
            <a:r>
              <a:rPr b="0" lang="zh-CN" sz="2000" spc="-1" strike="noStrike">
                <a:solidFill>
                  <a:srgbClr val="ffccff"/>
                </a:solidFill>
                <a:latin typeface="Arial"/>
              </a:rPr>
              <a:t>5-9</a:t>
            </a:r>
            <a:r>
              <a:rPr b="0" lang="zh-CN" sz="2000" spc="-1" strike="noStrike">
                <a:solidFill>
                  <a:srgbClr val="cccccc"/>
                </a:solidFill>
                <a:latin typeface="Arial"/>
              </a:rPr>
              <a:t>人：你期待的恋情将会出现</a:t>
            </a:r>
            <a:br>
              <a:rPr sz="2000"/>
            </a:br>
            <a:r>
              <a:rPr b="0" lang="zh-CN" sz="2000" spc="-1" strike="noStrike">
                <a:solidFill>
                  <a:srgbClr val="cccccc"/>
                </a:solidFill>
                <a:latin typeface="Arial"/>
              </a:rPr>
              <a:t>转给</a:t>
            </a:r>
            <a:r>
              <a:rPr b="0" lang="zh-CN" sz="2000" spc="-1" strike="noStrike">
                <a:solidFill>
                  <a:srgbClr val="ff99cc"/>
                </a:solidFill>
                <a:latin typeface="Arial"/>
              </a:rPr>
              <a:t>9-14</a:t>
            </a:r>
            <a:r>
              <a:rPr b="0" lang="zh-CN" sz="2000" spc="-1" strike="noStrike">
                <a:solidFill>
                  <a:srgbClr val="cccccc"/>
                </a:solidFill>
                <a:latin typeface="Arial"/>
              </a:rPr>
              <a:t>人：接下来的三个星期你会有惊喜的发现</a:t>
            </a:r>
            <a:br>
              <a:rPr sz="2000"/>
            </a:br>
            <a:r>
              <a:rPr b="0" lang="zh-CN" sz="2000" spc="-1" strike="noStrike">
                <a:solidFill>
                  <a:srgbClr val="cccccc"/>
                </a:solidFill>
                <a:latin typeface="Arial"/>
              </a:rPr>
              <a:t>转给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CN" sz="2000" spc="-1" strike="noStrike">
                <a:solidFill>
                  <a:srgbClr val="cccccc"/>
                </a:solidFill>
                <a:latin typeface="Arial"/>
              </a:rPr>
              <a:t>以上：你将和你爱的人天长地久 亲人和睦　　　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如果你不转发：你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......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嗬嗬 ：）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851360" y="816120"/>
            <a:ext cx="5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请祝福带给你的朋友！有了朋友，你将会快乐一生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" descr="pic_001"/>
          <p:cNvPicPr/>
          <p:nvPr/>
        </p:nvPicPr>
        <p:blipFill>
          <a:blip r:embed="rId1"/>
          <a:stretch/>
        </p:blipFill>
        <p:spPr>
          <a:xfrm>
            <a:off x="1488960" y="1890720"/>
            <a:ext cx="16113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明月几时有   把酒問青天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不知天上宮闕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今夕是何年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我欲乘風歸去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唯恐瓊樓玉宇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高處不勝寒    起舞弄清影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何似在人間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轉朱閣 低綺戶 照無眠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不應有恨何事長向別時圓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人有悲歡離合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月有陰晴圓缺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此事古難全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但願人長久      千里共嬋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f"/>
          <p:cNvPicPr/>
          <p:nvPr/>
        </p:nvPicPr>
        <p:blipFill>
          <a:blip r:embed="rId1"/>
          <a:stretch/>
        </p:blipFill>
        <p:spPr>
          <a:xfrm>
            <a:off x="2195640" y="4797360"/>
            <a:ext cx="46083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920" y="-97200"/>
            <a:ext cx="8642160" cy="237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送上一支红玫瑰，祝您中秋节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e"/>
          <p:cNvPicPr/>
          <p:nvPr/>
        </p:nvPicPr>
        <p:blipFill>
          <a:blip r:embed="rId1"/>
          <a:stretch/>
        </p:blipFill>
        <p:spPr>
          <a:xfrm>
            <a:off x="3076560" y="1576440"/>
            <a:ext cx="2990880" cy="37051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4"/>
          <p:cNvSpPr/>
          <p:nvPr/>
        </p:nvSpPr>
        <p:spPr>
          <a:xfrm>
            <a:off x="2596680" y="5281560"/>
            <a:ext cx="392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但願人長久 千里共嬋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愿愛你的人更愛你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; 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你愛的人更懂你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送上三个小月饼，祝您中秋节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d"/>
          <p:cNvPicPr/>
          <p:nvPr/>
        </p:nvPicPr>
        <p:blipFill>
          <a:blip r:embed="rId1"/>
          <a:stretch/>
        </p:blipFill>
        <p:spPr>
          <a:xfrm>
            <a:off x="2050920" y="692280"/>
            <a:ext cx="4953240" cy="5713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011"/>
          <p:cNvPicPr/>
          <p:nvPr/>
        </p:nvPicPr>
        <p:blipFill>
          <a:blip r:embed="rId2"/>
          <a:stretch/>
        </p:blipFill>
        <p:spPr>
          <a:xfrm>
            <a:off x="1835280" y="2852640"/>
            <a:ext cx="5545080" cy="1440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2302"/>
          <p:cNvPicPr/>
          <p:nvPr/>
        </p:nvPicPr>
        <p:blipFill>
          <a:blip r:embed="rId3"/>
          <a:stretch/>
        </p:blipFill>
        <p:spPr>
          <a:xfrm>
            <a:off x="1258920" y="4508640"/>
            <a:ext cx="7058160" cy="2379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2302"/>
          <p:cNvPicPr/>
          <p:nvPr/>
        </p:nvPicPr>
        <p:blipFill>
          <a:blip r:embed="rId4"/>
          <a:stretch/>
        </p:blipFill>
        <p:spPr>
          <a:xfrm>
            <a:off x="1258920" y="6093000"/>
            <a:ext cx="7058160" cy="23796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8"/>
          <p:cNvSpPr/>
          <p:nvPr/>
        </p:nvSpPr>
        <p:spPr>
          <a:xfrm>
            <a:off x="1908000" y="4920840"/>
            <a:ext cx="60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预祝我最亲爱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 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- -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   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的朋友中秋节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9" descr="3401"/>
          <p:cNvPicPr/>
          <p:nvPr/>
        </p:nvPicPr>
        <p:blipFill>
          <a:blip r:embed="rId5"/>
          <a:stretch/>
        </p:blipFill>
        <p:spPr>
          <a:xfrm>
            <a:off x="2556000" y="5661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0" descr="3401"/>
          <p:cNvPicPr/>
          <p:nvPr/>
        </p:nvPicPr>
        <p:blipFill>
          <a:blip r:embed="rId6"/>
          <a:stretch/>
        </p:blipFill>
        <p:spPr>
          <a:xfrm>
            <a:off x="33210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1" descr="3401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2" descr="3401"/>
          <p:cNvPicPr/>
          <p:nvPr/>
        </p:nvPicPr>
        <p:blipFill>
          <a:blip r:embed="rId8"/>
          <a:stretch/>
        </p:blipFill>
        <p:spPr>
          <a:xfrm>
            <a:off x="716436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也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许一年中你是一个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最好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   朋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2413"/>
          <p:cNvPicPr/>
          <p:nvPr/>
        </p:nvPicPr>
        <p:blipFill>
          <a:blip r:embed="rId1"/>
          <a:stretch/>
        </p:blipFill>
        <p:spPr>
          <a:xfrm>
            <a:off x="5796000" y="83664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3401"/>
          <p:cNvPicPr/>
          <p:nvPr/>
        </p:nvPicPr>
        <p:blipFill>
          <a:blip r:embed="rId2"/>
          <a:stretch/>
        </p:blipFill>
        <p:spPr>
          <a:xfrm>
            <a:off x="8028000" y="98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51"/>
          <p:cNvPicPr/>
          <p:nvPr/>
        </p:nvPicPr>
        <p:blipFill>
          <a:blip r:embed="rId3"/>
          <a:stretch/>
        </p:blipFill>
        <p:spPr>
          <a:xfrm>
            <a:off x="2987640" y="2085840"/>
            <a:ext cx="2584440" cy="219096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6"/>
          <p:cNvSpPr/>
          <p:nvPr/>
        </p:nvSpPr>
        <p:spPr>
          <a:xfrm>
            <a:off x="741960" y="4796640"/>
            <a:ext cx="72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Impact"/>
                <a:ea typeface="黑体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下一年仍是一个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很不错的  </a:t>
            </a:r>
            <a:r>
              <a:rPr b="1" lang="zh-CN" sz="3200" spc="-1" strike="noStrike">
                <a:solidFill>
                  <a:srgbClr val="ff6600"/>
                </a:solidFill>
                <a:latin typeface="Impact"/>
                <a:ea typeface="黑体"/>
              </a:rPr>
              <a:t>           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朋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7" descr="3401"/>
          <p:cNvPicPr/>
          <p:nvPr/>
        </p:nvPicPr>
        <p:blipFill>
          <a:blip r:embed="rId4"/>
          <a:stretch/>
        </p:blipFill>
        <p:spPr>
          <a:xfrm>
            <a:off x="1011240" y="4883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8" descr="2433"/>
          <p:cNvPicPr/>
          <p:nvPr/>
        </p:nvPicPr>
        <p:blipFill>
          <a:blip r:embed="rId5"/>
          <a:stretch/>
        </p:blipFill>
        <p:spPr>
          <a:xfrm>
            <a:off x="6084720" y="4869000"/>
            <a:ext cx="76212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56"/>
          <p:cNvPicPr/>
          <p:nvPr/>
        </p:nvPicPr>
        <p:blipFill>
          <a:blip r:embed="rId1"/>
          <a:stretch/>
        </p:blipFill>
        <p:spPr>
          <a:xfrm>
            <a:off x="3059280" y="549360"/>
            <a:ext cx="2971800" cy="24350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5"/>
          <p:cNvSpPr/>
          <p:nvPr/>
        </p:nvSpPr>
        <p:spPr>
          <a:xfrm>
            <a:off x="747720" y="3355920"/>
            <a:ext cx="828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再下一年就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ffff"/>
                </a:solidFill>
                <a:latin typeface="Impact"/>
                <a:ea typeface="黑体"/>
              </a:rPr>
              <a:t>             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黑体"/>
              </a:rPr>
              <a:t>不一定经常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记起了  </a:t>
            </a:r>
            <a:r>
              <a:rPr b="1" lang="zh-CN" sz="2400" spc="-1" strike="noStrike">
                <a:solidFill>
                  <a:srgbClr val="ffff00"/>
                </a:solidFill>
                <a:latin typeface="Impact"/>
                <a:ea typeface="黑体"/>
              </a:rPr>
              <a:t>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                                      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6" descr="2414"/>
          <p:cNvPicPr/>
          <p:nvPr/>
        </p:nvPicPr>
        <p:blipFill>
          <a:blip r:embed="rId2"/>
          <a:stretch/>
        </p:blipFill>
        <p:spPr>
          <a:xfrm>
            <a:off x="3603600" y="337968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7" descr="2415"/>
          <p:cNvPicPr/>
          <p:nvPr/>
        </p:nvPicPr>
        <p:blipFill>
          <a:blip r:embed="rId3"/>
          <a:stretch/>
        </p:blipFill>
        <p:spPr>
          <a:xfrm>
            <a:off x="5908680" y="34513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3401"/>
          <p:cNvPicPr/>
          <p:nvPr/>
        </p:nvPicPr>
        <p:blipFill>
          <a:blip r:embed="rId4"/>
          <a:stretch/>
        </p:blipFill>
        <p:spPr>
          <a:xfrm>
            <a:off x="6915240" y="304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9" descr="54"/>
          <p:cNvPicPr/>
          <p:nvPr/>
        </p:nvPicPr>
        <p:blipFill>
          <a:blip r:embed="rId5"/>
          <a:stretch/>
        </p:blipFill>
        <p:spPr>
          <a:xfrm>
            <a:off x="2987640" y="4221000"/>
            <a:ext cx="3024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539640" y="393840"/>
            <a:ext cx="79200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并且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从那以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  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整年也许都不一定记得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20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18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即使我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一生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中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永远也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再提起你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对我来说你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永远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是一个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特别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黑体"/>
              </a:rPr>
              <a:t> </a:t>
            </a:r>
            <a:r>
              <a:rPr b="1" lang="zh-CN" sz="2400" spc="-1" strike="noStrike">
                <a:solidFill>
                  <a:srgbClr val="99cc00"/>
                </a:solidFill>
                <a:latin typeface="Impact"/>
                <a:ea typeface="黑体"/>
              </a:rPr>
              <a:t>                  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黑体"/>
              </a:rPr>
              <a:t>人，在我的生命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黑体"/>
              </a:rPr>
              <a:t>你</a:t>
            </a:r>
            <a:r>
              <a:rPr b="1" lang="zh-CN" sz="2400" spc="-1" strike="noStrike" u="sng">
                <a:solidFill>
                  <a:srgbClr val="99cc00"/>
                </a:solidFill>
                <a:uFillTx/>
                <a:latin typeface="Arial"/>
                <a:ea typeface="黑体"/>
              </a:rPr>
              <a:t>永远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黑体"/>
              </a:rPr>
              <a:t>是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与众不同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                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Impact"/>
                <a:ea typeface="黑体"/>
              </a:rPr>
              <a:t>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" descr="2443"/>
          <p:cNvPicPr/>
          <p:nvPr/>
        </p:nvPicPr>
        <p:blipFill>
          <a:blip r:embed="rId1"/>
          <a:stretch/>
        </p:blipFill>
        <p:spPr>
          <a:xfrm>
            <a:off x="3203640" y="549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53"/>
          <p:cNvPicPr/>
          <p:nvPr/>
        </p:nvPicPr>
        <p:blipFill>
          <a:blip r:embed="rId2"/>
          <a:stretch/>
        </p:blipFill>
        <p:spPr>
          <a:xfrm>
            <a:off x="3132000" y="170028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" descr="3401"/>
          <p:cNvPicPr/>
          <p:nvPr/>
        </p:nvPicPr>
        <p:blipFill>
          <a:blip r:embed="rId3"/>
          <a:stretch/>
        </p:blipFill>
        <p:spPr>
          <a:xfrm>
            <a:off x="2793960" y="4091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8" descr="2442"/>
          <p:cNvPicPr/>
          <p:nvPr/>
        </p:nvPicPr>
        <p:blipFill>
          <a:blip r:embed="rId4"/>
          <a:stretch/>
        </p:blipFill>
        <p:spPr>
          <a:xfrm>
            <a:off x="4932360" y="5013360"/>
            <a:ext cx="609480" cy="3906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9" descr="23"/>
          <p:cNvPicPr/>
          <p:nvPr/>
        </p:nvPicPr>
        <p:blipFill>
          <a:blip r:embed="rId5"/>
          <a:stretch/>
        </p:blipFill>
        <p:spPr>
          <a:xfrm>
            <a:off x="5219640" y="5589720"/>
            <a:ext cx="304920" cy="2854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0" descr="3401"/>
          <p:cNvPicPr/>
          <p:nvPr/>
        </p:nvPicPr>
        <p:blipFill>
          <a:blip r:embed="rId6"/>
          <a:stretch/>
        </p:blipFill>
        <p:spPr>
          <a:xfrm>
            <a:off x="8659800" y="46562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55"/>
          <p:cNvPicPr/>
          <p:nvPr/>
        </p:nvPicPr>
        <p:blipFill>
          <a:blip r:embed="rId1"/>
          <a:stretch/>
        </p:blipFill>
        <p:spPr>
          <a:xfrm>
            <a:off x="3348000" y="620640"/>
            <a:ext cx="2824200" cy="262728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5"/>
          <p:cNvSpPr/>
          <p:nvPr/>
        </p:nvSpPr>
        <p:spPr>
          <a:xfrm>
            <a:off x="1403280" y="29959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我</a:t>
            </a:r>
            <a:r>
              <a:rPr b="1" lang="zh-CN" sz="2400" spc="-1" strike="noStrike">
                <a:solidFill>
                  <a:srgbClr val="cc66ff"/>
                </a:solidFill>
                <a:latin typeface="Arial"/>
                <a:ea typeface="黑体"/>
              </a:rPr>
              <a:t>尊重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你，</a:t>
            </a:r>
            <a:r>
              <a:rPr b="1" lang="zh-CN" sz="2400" spc="-1" strike="noStrike">
                <a:solidFill>
                  <a:srgbClr val="ff99ff"/>
                </a:solidFill>
                <a:latin typeface="Arial"/>
                <a:ea typeface="黑体"/>
              </a:rPr>
              <a:t>尊敬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你，并且实实在在的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黑体"/>
              </a:rPr>
              <a:t>珍爱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着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2695680" y="4498200"/>
            <a:ext cx="3942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99cc00"/>
                </a:solidFill>
                <a:latin typeface="Arial"/>
              </a:rPr>
              <a:t> 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              </a:t>
            </a:r>
            <a:br>
              <a:rPr sz="1800"/>
            </a:br>
            <a:br>
              <a:rPr sz="1800"/>
            </a:br>
            <a:r>
              <a:rPr b="1" lang="zh-CN" sz="2600" spc="-1" strike="noStrike">
                <a:solidFill>
                  <a:srgbClr val="99cc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99cc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99cc00"/>
                </a:solidFill>
                <a:latin typeface="Impact"/>
                <a:ea typeface="黑体"/>
              </a:rPr>
              <a:t> </a:t>
            </a:r>
            <a:r>
              <a:rPr b="1" lang="zh-CN" sz="2400" spc="-1" strike="noStrike">
                <a:solidFill>
                  <a:srgbClr val="99cc00"/>
                </a:solidFill>
                <a:latin typeface="Impact"/>
                <a:ea typeface="黑体"/>
              </a:rPr>
              <a:t> 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黑体"/>
              </a:rPr>
              <a:t>请把这发给你的朋友们</a:t>
            </a:r>
            <a:r>
              <a:rPr b="1" lang="zh-CN" sz="2600" spc="-1" strike="noStrike">
                <a:solidFill>
                  <a:srgbClr val="99cc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99cc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99cc00"/>
                </a:solidFill>
                <a:latin typeface="Impact"/>
                <a:ea typeface="黑体"/>
              </a:rPr>
              <a:t>  </a:t>
            </a:r>
            <a:br>
              <a:rPr sz="18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7" descr="ld1"/>
          <p:cNvPicPr/>
          <p:nvPr/>
        </p:nvPicPr>
        <p:blipFill>
          <a:blip r:embed="rId2"/>
          <a:stretch/>
        </p:blipFill>
        <p:spPr>
          <a:xfrm>
            <a:off x="3851280" y="4076640"/>
            <a:ext cx="1800360" cy="14256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8" descr="3401"/>
          <p:cNvPicPr/>
          <p:nvPr/>
        </p:nvPicPr>
        <p:blipFill>
          <a:blip r:embed="rId3"/>
          <a:stretch/>
        </p:blipFill>
        <p:spPr>
          <a:xfrm>
            <a:off x="2627280" y="558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3401"/>
          <p:cNvPicPr/>
          <p:nvPr/>
        </p:nvPicPr>
        <p:blipFill>
          <a:blip r:embed="rId4"/>
          <a:stretch/>
        </p:blipFill>
        <p:spPr>
          <a:xfrm>
            <a:off x="6443640" y="558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344520" y="65739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2987640" y="1166400"/>
            <a:ext cx="54720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</a:t>
            </a:r>
            <a:br>
              <a:rPr sz="1800"/>
            </a:b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无论是你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黑体"/>
              </a:rPr>
              <a:t>偶尔才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记起他</a:t>
            </a:r>
            <a:br>
              <a:rPr sz="2400"/>
            </a:b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</a:t>
            </a:r>
            <a:br>
              <a:rPr sz="1100"/>
            </a:br>
            <a:br>
              <a:rPr sz="11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5" descr="57"/>
          <p:cNvPicPr/>
          <p:nvPr/>
        </p:nvPicPr>
        <p:blipFill>
          <a:blip r:embed="rId1"/>
          <a:stretch/>
        </p:blipFill>
        <p:spPr>
          <a:xfrm>
            <a:off x="2165400" y="363600"/>
            <a:ext cx="3873600" cy="28479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3401"/>
          <p:cNvPicPr/>
          <p:nvPr/>
        </p:nvPicPr>
        <p:blipFill>
          <a:blip r:embed="rId2"/>
          <a:stretch/>
        </p:blipFill>
        <p:spPr>
          <a:xfrm>
            <a:off x="2340000" y="3284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58"/>
          <p:cNvPicPr/>
          <p:nvPr/>
        </p:nvPicPr>
        <p:blipFill>
          <a:blip r:embed="rId3"/>
          <a:stretch/>
        </p:blipFill>
        <p:spPr>
          <a:xfrm>
            <a:off x="3059280" y="4010040"/>
            <a:ext cx="2946240" cy="28479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3401"/>
          <p:cNvPicPr/>
          <p:nvPr/>
        </p:nvPicPr>
        <p:blipFill>
          <a:blip r:embed="rId4"/>
          <a:stretch/>
        </p:blipFill>
        <p:spPr>
          <a:xfrm>
            <a:off x="6443640" y="328464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8:27:52Z</dcterms:created>
  <dc:creator>Administrator</dc:creator>
  <dc:description/>
  <cp:keywords/>
  <dc:language>en-US</dc:language>
  <cp:lastModifiedBy>王玉清</cp:lastModifiedBy>
  <dcterms:modified xsi:type="dcterms:W3CDTF">2016-02-19T07:24:48Z</dcterms:modified>
  <cp:revision>2</cp:revision>
  <dc:subject/>
  <dc:title>祝我最亲爱的朋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