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move the slide</a:t>
            </a:r>
            <a:endParaRPr b="1" lang="en-US" sz="3200" spc="-1" strike="noStrike">
              <a:solidFill>
                <a:srgbClr val="000000"/>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5D2AA-0DB0-4662-BDE6-C501829CBDD8}"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187A0-9DAB-4198-81EF-AA3310AB447D}" type="slidenum">
              <a:rPr b="0" lang="en-US"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3B532-117D-463D-9318-F8329C192BDA}" type="slidenum">
              <a:rPr b="0" lang="en-US"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1FCA2-F698-44F9-80CF-2DF1616D1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7" name="PlaceHolder 2"/>
          <p:cNvSpPr>
            <a:spLocks noGrp="1"/>
          </p:cNvSpPr>
          <p:nvPr>
            <p:ph/>
          </p:nvPr>
        </p:nvSpPr>
        <p:spPr>
          <a:xfrm>
            <a:off x="380520" y="99036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6F252-DB25-45C9-94FD-08BBF0238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0"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2D109-C5FA-4259-87C8-11FDF88A72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5" name="PlaceHolder 2"/>
          <p:cNvSpPr>
            <a:spLocks noGrp="1"/>
          </p:cNvSpPr>
          <p:nvPr>
            <p:ph/>
          </p:nvPr>
        </p:nvSpPr>
        <p:spPr>
          <a:xfrm>
            <a:off x="38052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6733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9665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8052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6733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9665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6D7A4-3DC2-42B6-A4D1-05641CB7D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9A09DA-EF5B-4320-9AFC-D1ADBD9F09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7" name="PlaceHolder 2"/>
          <p:cNvSpPr>
            <a:spLocks noGrp="1"/>
          </p:cNvSpPr>
          <p:nvPr>
            <p:ph type="subTitle"/>
          </p:nvPr>
        </p:nvSpPr>
        <p:spPr>
          <a:xfrm>
            <a:off x="380520" y="990360"/>
            <a:ext cx="6782040" cy="5135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CE980-2403-4BDE-A85A-677AC17527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p:nvPr>
        </p:nvSpPr>
        <p:spPr>
          <a:xfrm>
            <a:off x="380520" y="990360"/>
            <a:ext cx="67820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425DB5-F279-4F3E-8E70-BA1FAAFA93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84E004-29C1-43DC-88EE-62C7CDD29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824DB3-8C3F-4A66-976C-DA7D8E5B1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520" y="147240"/>
            <a:ext cx="6782040" cy="3357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BDA7A5-3919-4141-9116-1CEE1F1CB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6"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FACD3-C160-491C-9B6E-DA1E3C090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2"/>
          <p:cNvSpPr>
            <a:spLocks noGrp="1"/>
          </p:cNvSpPr>
          <p:nvPr>
            <p:ph type="subTitle"/>
          </p:nvPr>
        </p:nvSpPr>
        <p:spPr>
          <a:xfrm>
            <a:off x="380520" y="990360"/>
            <a:ext cx="6782040" cy="5135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4588A-77B1-4D1F-98A3-D522E4C09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0"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FBFD3-EAAC-4734-946B-F5B839C0AB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4"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9049B-64FF-49A4-89B4-913B36851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8" name="PlaceHolder 2"/>
          <p:cNvSpPr>
            <a:spLocks noGrp="1"/>
          </p:cNvSpPr>
          <p:nvPr>
            <p:ph/>
          </p:nvPr>
        </p:nvSpPr>
        <p:spPr>
          <a:xfrm>
            <a:off x="380520" y="99036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A517B9-C25A-4806-8ABD-AE1217D072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1"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CC610E-0ACD-44C5-9B2C-F12746FAFF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6" name="PlaceHolder 2"/>
          <p:cNvSpPr>
            <a:spLocks noGrp="1"/>
          </p:cNvSpPr>
          <p:nvPr>
            <p:ph/>
          </p:nvPr>
        </p:nvSpPr>
        <p:spPr>
          <a:xfrm>
            <a:off x="38052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26733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9665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38052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26733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49665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E4667B-BEC4-496D-B706-2CEB5D3FB5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 name="PlaceHolder 2"/>
          <p:cNvSpPr>
            <a:spLocks noGrp="1"/>
          </p:cNvSpPr>
          <p:nvPr>
            <p:ph/>
          </p:nvPr>
        </p:nvSpPr>
        <p:spPr>
          <a:xfrm>
            <a:off x="380520" y="990360"/>
            <a:ext cx="67820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9156C-A3F3-4B68-BBAE-E342ECBEF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1C409-14F0-4887-83B8-0C712214D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50982-39E9-4490-A9FA-536D168F2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147240"/>
            <a:ext cx="6782040" cy="3357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C48C5-6DD5-4E6E-B014-0207A833E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5"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F9C3C-8F27-4F84-B12B-B7A6D22E2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9"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B74B6-216B-46DE-9BEF-CA99420CF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3"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978C5-6EF8-4925-A2AE-222F09A8B5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1" name="PlaceHolder 2"/>
          <p:cNvSpPr>
            <a:spLocks noGrp="1"/>
          </p:cNvSpPr>
          <p:nvPr>
            <p:ph type="body"/>
          </p:nvPr>
        </p:nvSpPr>
        <p:spPr>
          <a:xfrm>
            <a:off x="380520" y="990360"/>
            <a:ext cx="678204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D4363-048C-4C2B-8B12-D9C2AFBFB61D}" type="slidenum">
              <a:rPr b="0" lang="en-US"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42" name="PlaceHolder 2"/>
          <p:cNvSpPr>
            <a:spLocks noGrp="1"/>
          </p:cNvSpPr>
          <p:nvPr>
            <p:ph type="body"/>
          </p:nvPr>
        </p:nvSpPr>
        <p:spPr>
          <a:xfrm>
            <a:off x="380520" y="990360"/>
            <a:ext cx="678204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13F45-1170-4FBC-814D-078C2E688E9E}" type="slidenum">
              <a:rPr b="0" lang="en-US"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235080" y="1066680"/>
            <a:ext cx="5029200" cy="60984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esentation Subtitle</a:t>
            </a:r>
            <a:endParaRPr b="0" lang="en-US" sz="2400" spc="-1" strike="noStrike">
              <a:solidFill>
                <a:srgbClr val="000000"/>
              </a:solidFill>
              <a:latin typeface="Calibri"/>
            </a:endParaRPr>
          </a:p>
        </p:txBody>
      </p:sp>
      <p:sp>
        <p:nvSpPr>
          <p:cNvPr id="90" name="PlaceHolder 2"/>
          <p:cNvSpPr>
            <a:spLocks noGrp="1"/>
          </p:cNvSpPr>
          <p:nvPr>
            <p:ph type="title"/>
          </p:nvPr>
        </p:nvSpPr>
        <p:spPr>
          <a:xfrm>
            <a:off x="6120" y="380520"/>
            <a:ext cx="7918200" cy="6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3d</a:t>
            </a:r>
            <a:r>
              <a:rPr b="1" lang="zh-CN" sz="4000" spc="-1" strike="noStrike">
                <a:solidFill>
                  <a:srgbClr val="000000"/>
                </a:solidFill>
                <a:latin typeface="Tahoma"/>
              </a:rPr>
              <a:t>小人商务会议</a:t>
            </a:r>
            <a:r>
              <a:rPr b="1" lang="en-US" sz="4000" spc="-1" strike="noStrike">
                <a:solidFill>
                  <a:srgbClr val="000000"/>
                </a:solidFill>
                <a:latin typeface="Tahoma"/>
              </a:rPr>
              <a:t>PPT</a:t>
            </a:r>
            <a:r>
              <a:rPr b="1" lang="zh-CN" sz="4000" spc="-1" strike="noStrike">
                <a:solidFill>
                  <a:srgbClr val="000000"/>
                </a:solidFill>
                <a:latin typeface="Tahoma"/>
              </a:rPr>
              <a:t>模板免费下载</a:t>
            </a:r>
            <a:endParaRPr b="1" lang="en-US" sz="4000" spc="-1" strike="noStrike">
              <a:solidFill>
                <a:srgbClr val="000000"/>
              </a:solidFill>
              <a:latin typeface="Tahoma"/>
            </a:endParaRPr>
          </a:p>
        </p:txBody>
      </p:sp>
      <p:sp>
        <p:nvSpPr>
          <p:cNvPr id="91"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80520" y="990360"/>
            <a:ext cx="6782040" cy="5135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Your Text he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2514240" y="1523880"/>
            <a:ext cx="6248520" cy="50292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Your Text he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4T05:26:56Z</dcterms:created>
  <dc:creator>ppt宝藏</dc:creator>
  <dc:description/>
  <dc:language>en-US</dc:language>
  <cp:lastModifiedBy>a</cp:lastModifiedBy>
  <dcterms:modified xsi:type="dcterms:W3CDTF">2015-07-22T12:49:48Z</dcterms:modified>
  <cp:revision>38</cp:revision>
  <dc:subject/>
  <dc:title>www.pptbz.com</dc:title>
</cp:coreProperties>
</file>