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D30-BED3-479C-AC96-AB458414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8F5-2AAA-4D59-9485-FBDD3385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1D8-9C90-423A-9E63-94C87237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86A-8B80-40FE-86FD-EC786891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551C-EEF2-4483-934D-8CB9D0E8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0CCD-5530-4234-BBEE-AE5437C9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5470-8DE7-4F4E-925D-1C751176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1ACF-CA92-44C3-A959-7C449BC0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5418-5B1D-40AF-9474-DD81E327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43F8-BE20-485B-9ACD-00DED48D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23EA-2087-4091-A4C0-F6568FAD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B7B-7D5E-49F9-9FC8-AFCEDE9E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8E71-E8F7-4A72-BA2B-B911EF61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D0A8-D7F0-4B52-95ED-869669C2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6B09-D35C-4669-961A-417F2FE9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7BF0-8589-4410-B2B7-0B55EBCF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88BA-7009-42F5-A64D-46F36FB4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2E4-AED1-4F35-93D0-B6523BF0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277-259A-4258-BCF3-920EB78F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24C-5DDE-4E33-83AA-C4362DD6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C07-DA50-4060-8D48-579E8222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8DC-5628-4BF8-B583-041D4405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87E-C028-4DDE-86BC-8DBCAD28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DD9-E6FA-4C73-A441-631FC138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9591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C7BC09-EC58-4211-900C-D4EC50BB5A8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" name="直接连接符 7"/>
          <p:cNvCxnSpPr/>
          <p:nvPr/>
        </p:nvCxnSpPr>
        <p:spPr>
          <a:xfrm>
            <a:off x="0" y="3573000"/>
            <a:ext cx="9144360" cy="36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A8FA62-C50F-4DFE-91AB-565A73F3F98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591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拜客通用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  <Words>13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1-10-05T06:12:40Z</dcterms:created>
  <dc:creator>果因PPT工作室</dc:creator>
  <dc:description/>
  <cp:keywords>XS-普屏 4：3 SC-深蓝色 BG-浅色 DH-静态</cp:keywords>
  <dc:language>en-US</dc:language>
  <cp:lastModifiedBy>王玉清</cp:lastModifiedBy>
  <dcterms:modified xsi:type="dcterms:W3CDTF">2016-02-24T04:03:44Z</dcterms:modified>
  <cp:revision>4</cp:revision>
  <dc:subject>TP-体育竞技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