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87B-8E4E-4BA4-BC27-C4A83862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53D-8976-4045-B8A9-C634A1D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41E-6CD0-463E-B888-EE11B872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21B-A651-4C25-8E42-B8BB8CE3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F5F-0021-485B-88E5-68883BD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20A-5D5D-46BD-AD9F-07676C4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155-6ED7-4670-BD43-508F207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6C2-60A0-4DB4-BE88-79957F9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163-9FD3-4480-835D-8D2F7746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86F-3CDD-4C28-9672-A7BC8DB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EA4-246A-429F-B7D5-3AB0630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AA9-A74E-47DE-A0C2-6219A33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C5345DFD-78A1-44D2-8A29-3CEC28C880E8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78FB390D-B0EA-4023-B2C1-6D379A02C5B0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3" descr=""/>
          <p:cNvPicPr/>
          <p:nvPr/>
        </p:nvPicPr>
        <p:blipFill>
          <a:blip r:embed="rId2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" descr=""/>
          <p:cNvPicPr/>
          <p:nvPr/>
        </p:nvPicPr>
        <p:blipFill>
          <a:blip r:embed="rId3"/>
          <a:stretch/>
        </p:blipFill>
        <p:spPr>
          <a:xfrm>
            <a:off x="108000" y="1604880"/>
            <a:ext cx="2066760" cy="3648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959200" y="2978280"/>
            <a:ext cx="5052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部门工作会议通用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1638360" y="4754520"/>
            <a:ext cx="5870520" cy="617760"/>
            <a:chOff x="1638360" y="4754520"/>
            <a:chExt cx="5870520" cy="617760"/>
          </a:xfrm>
        </p:grpSpPr>
        <p:grpSp>
          <p:nvGrpSpPr>
            <p:cNvPr id="280" name="Group 3"/>
            <p:cNvGrpSpPr/>
            <p:nvPr/>
          </p:nvGrpSpPr>
          <p:grpSpPr>
            <a:xfrm>
              <a:off x="1638360" y="4754520"/>
              <a:ext cx="5870520" cy="617760"/>
              <a:chOff x="1638360" y="4754520"/>
              <a:chExt cx="5870520" cy="617760"/>
            </a:xfrm>
          </p:grpSpPr>
          <p:sp>
            <p:nvSpPr>
              <p:cNvPr id="281" name="Rectangle 33"/>
              <p:cNvSpPr/>
              <p:nvPr/>
            </p:nvSpPr>
            <p:spPr>
              <a:xfrm>
                <a:off x="1638360" y="5186520"/>
                <a:ext cx="58705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2"/>
              <p:cNvSpPr/>
              <p:nvPr/>
            </p:nvSpPr>
            <p:spPr>
              <a:xfrm>
                <a:off x="1675080" y="4754520"/>
                <a:ext cx="5833800" cy="53388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AutoShape 28"/>
            <p:cNvSpPr/>
            <p:nvPr/>
          </p:nvSpPr>
          <p:spPr>
            <a:xfrm>
              <a:off x="1675080" y="4754520"/>
              <a:ext cx="5833800" cy="5338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右箭头 26"/>
          <p:cNvSpPr/>
          <p:nvPr/>
        </p:nvSpPr>
        <p:spPr>
          <a:xfrm>
            <a:off x="1951200" y="4854600"/>
            <a:ext cx="431640" cy="272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问题反馈及工作思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08000" y="6505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5" descr=""/>
          <p:cNvPicPr/>
          <p:nvPr/>
        </p:nvPicPr>
        <p:blipFill>
          <a:blip r:embed="rId1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3081600" y="2997360"/>
            <a:ext cx="29394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汇报完毕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4854600" y="5097240"/>
            <a:ext cx="4068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T  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26"/>
          <p:cNvSpPr/>
          <p:nvPr/>
        </p:nvSpPr>
        <p:spPr>
          <a:xfrm>
            <a:off x="1946160" y="1685880"/>
            <a:ext cx="432000" cy="2732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3"/>
          <p:cNvSpPr/>
          <p:nvPr/>
        </p:nvSpPr>
        <p:spPr>
          <a:xfrm>
            <a:off x="191772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79040" y="1988640"/>
            <a:ext cx="5556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9040" y="3429000"/>
            <a:ext cx="5556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73280" y="486900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1964160" y="162864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2837160" y="436572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3307320" y="692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190760" y="69228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11280" y="616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1619280" y="1533600"/>
            <a:ext cx="5870520" cy="606240"/>
            <a:chOff x="1619280" y="1533600"/>
            <a:chExt cx="5870520" cy="606240"/>
          </a:xfrm>
        </p:grpSpPr>
        <p:sp>
          <p:nvSpPr>
            <p:cNvPr id="201" name="Rectangle 31"/>
            <p:cNvSpPr/>
            <p:nvPr/>
          </p:nvSpPr>
          <p:spPr>
            <a:xfrm>
              <a:off x="1619280" y="195408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5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片区（部门）概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"/>
          <p:cNvGrpSpPr/>
          <p:nvPr/>
        </p:nvGrpSpPr>
        <p:grpSpPr>
          <a:xfrm>
            <a:off x="1619280" y="3666960"/>
            <a:ext cx="5870520" cy="603360"/>
            <a:chOff x="1619280" y="3666960"/>
            <a:chExt cx="5870520" cy="603360"/>
          </a:xfrm>
        </p:grpSpPr>
        <p:sp>
          <p:nvSpPr>
            <p:cNvPr id="205" name="Rectangle 33"/>
            <p:cNvSpPr/>
            <p:nvPr/>
          </p:nvSpPr>
          <p:spPr>
            <a:xfrm>
              <a:off x="1619280" y="4084200"/>
              <a:ext cx="5870520" cy="1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"/>
            <p:cNvSpPr/>
            <p:nvPr/>
          </p:nvSpPr>
          <p:spPr>
            <a:xfrm>
              <a:off x="1656000" y="3674880"/>
              <a:ext cx="5833800" cy="53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7"/>
            <p:cNvSpPr/>
            <p:nvPr/>
          </p:nvSpPr>
          <p:spPr>
            <a:xfrm>
              <a:off x="1656000" y="3666960"/>
              <a:ext cx="5833800" cy="53460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月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"/>
          <p:cNvGrpSpPr/>
          <p:nvPr/>
        </p:nvGrpSpPr>
        <p:grpSpPr>
          <a:xfrm>
            <a:off x="1619280" y="4724280"/>
            <a:ext cx="5870520" cy="606600"/>
            <a:chOff x="1619280" y="4724280"/>
            <a:chExt cx="5870520" cy="606600"/>
          </a:xfrm>
        </p:grpSpPr>
        <p:sp>
          <p:nvSpPr>
            <p:cNvPr id="209" name="Rectangle 34"/>
            <p:cNvSpPr/>
            <p:nvPr/>
          </p:nvSpPr>
          <p:spPr>
            <a:xfrm>
              <a:off x="1619280" y="514512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5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8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右箭头 26"/>
          <p:cNvSpPr/>
          <p:nvPr/>
        </p:nvSpPr>
        <p:spPr>
          <a:xfrm>
            <a:off x="1946160" y="2749680"/>
            <a:ext cx="432000" cy="2728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本月质量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920" y="1979280"/>
            <a:ext cx="304344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9880" y="4257360"/>
            <a:ext cx="315576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装满意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障满意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投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客户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面积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组内部横向比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238720" y="1989000"/>
            <a:ext cx="300672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2229480" y="3887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装机、修障满意度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6"/>
          <p:cNvSpPr/>
          <p:nvPr/>
        </p:nvSpPr>
        <p:spPr>
          <a:xfrm>
            <a:off x="1165680" y="1619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代维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7"/>
          <p:cNvSpPr/>
          <p:nvPr/>
        </p:nvSpPr>
        <p:spPr>
          <a:xfrm>
            <a:off x="5424840" y="162864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占位符 3"/>
          <p:cNvSpPr/>
          <p:nvPr/>
        </p:nvSpPr>
        <p:spPr>
          <a:xfrm>
            <a:off x="5232240" y="4246560"/>
            <a:ext cx="29401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本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417640" y="388620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1619280" y="41068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右箭头 26"/>
          <p:cNvSpPr/>
          <p:nvPr/>
        </p:nvSpPr>
        <p:spPr>
          <a:xfrm>
            <a:off x="1951200" y="3797280"/>
            <a:ext cx="431640" cy="27324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下月工作计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 rot="10800000">
            <a:off x="1330200" y="1628280"/>
            <a:ext cx="25718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rot="10800000">
            <a:off x="5290920" y="1628280"/>
            <a:ext cx="25700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284800" y="2374920"/>
            <a:ext cx="2849400" cy="275256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48160" y="244008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974880" y="1660680"/>
            <a:ext cx="2856960" cy="466560"/>
            <a:chOff x="974880" y="1660680"/>
            <a:chExt cx="2856960" cy="466560"/>
          </a:xfrm>
        </p:grpSpPr>
        <p:sp>
          <p:nvSpPr>
            <p:cNvPr id="248" name="AutoShape 6"/>
            <p:cNvSpPr/>
            <p:nvPr/>
          </p:nvSpPr>
          <p:spPr>
            <a:xfrm>
              <a:off x="974880" y="1660680"/>
              <a:ext cx="285696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 flipH="1">
              <a:off x="36892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100512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5259240" y="1660680"/>
            <a:ext cx="2857320" cy="466560"/>
            <a:chOff x="5259240" y="1660680"/>
            <a:chExt cx="2857320" cy="466560"/>
          </a:xfrm>
        </p:grpSpPr>
        <p:sp>
          <p:nvSpPr>
            <p:cNvPr id="252" name="AutoShape 10"/>
            <p:cNvSpPr/>
            <p:nvPr/>
          </p:nvSpPr>
          <p:spPr>
            <a:xfrm>
              <a:off x="5259240" y="1660680"/>
              <a:ext cx="285732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 flipH="1">
              <a:off x="797400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"/>
            <p:cNvSpPr/>
            <p:nvPr/>
          </p:nvSpPr>
          <p:spPr>
            <a:xfrm>
              <a:off x="52894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3"/>
          <p:cNvSpPr/>
          <p:nvPr/>
        </p:nvSpPr>
        <p:spPr>
          <a:xfrm>
            <a:off x="974880" y="2374920"/>
            <a:ext cx="2849400" cy="271152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124128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上月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558000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 flipH="1" flipV="1" rot="10806000">
            <a:off x="3906360" y="2918880"/>
            <a:ext cx="1293840" cy="756000"/>
          </a:xfrm>
          <a:prstGeom prst="rightArrow">
            <a:avLst>
              <a:gd name="adj1" fmla="val 46509"/>
              <a:gd name="adj2" fmla="val 376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5527800" y="251604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5516640" y="3795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5657760" y="28209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657760" y="4041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4"/>
          <p:cNvGrpSpPr/>
          <p:nvPr/>
        </p:nvGrpSpPr>
        <p:grpSpPr>
          <a:xfrm>
            <a:off x="5416560" y="2585880"/>
            <a:ext cx="168120" cy="168480"/>
            <a:chOff x="5416560" y="2585880"/>
            <a:chExt cx="168120" cy="168480"/>
          </a:xfrm>
        </p:grpSpPr>
        <p:sp>
          <p:nvSpPr>
            <p:cNvPr id="264" name="Oval 22"/>
            <p:cNvSpPr/>
            <p:nvPr/>
          </p:nvSpPr>
          <p:spPr>
            <a:xfrm>
              <a:off x="5416560" y="2585880"/>
              <a:ext cx="16812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5429160" y="259992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7"/>
          <p:cNvGrpSpPr/>
          <p:nvPr/>
        </p:nvGrpSpPr>
        <p:grpSpPr>
          <a:xfrm>
            <a:off x="5416560" y="3876840"/>
            <a:ext cx="168120" cy="168120"/>
            <a:chOff x="5416560" y="3876840"/>
            <a:chExt cx="168120" cy="168120"/>
          </a:xfrm>
        </p:grpSpPr>
        <p:sp>
          <p:nvSpPr>
            <p:cNvPr id="267" name="Oval 25"/>
            <p:cNvSpPr/>
            <p:nvPr/>
          </p:nvSpPr>
          <p:spPr>
            <a:xfrm>
              <a:off x="5416560" y="3876840"/>
              <a:ext cx="1681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6"/>
            <p:cNvSpPr/>
            <p:nvPr/>
          </p:nvSpPr>
          <p:spPr>
            <a:xfrm>
              <a:off x="5429160" y="389088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7"/>
          <p:cNvSpPr/>
          <p:nvPr/>
        </p:nvSpPr>
        <p:spPr>
          <a:xfrm>
            <a:off x="1127160" y="43657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1050840" y="26020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1050840" y="3186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0"/>
          <p:cNvSpPr/>
          <p:nvPr/>
        </p:nvSpPr>
        <p:spPr>
          <a:xfrm>
            <a:off x="1050840" y="37465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1300680" y="267480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1300680" y="325908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1300680" y="381780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 flipV="1" rot="10794000">
            <a:off x="3874320" y="3524400"/>
            <a:ext cx="1297080" cy="755640"/>
          </a:xfrm>
          <a:prstGeom prst="rightArrow">
            <a:avLst>
              <a:gd name="adj1" fmla="val 46509"/>
              <a:gd name="adj2" fmla="val 377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1530720" y="5292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月工作完成情况的大体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5961960" y="529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的简要概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1:51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4:06:39Z</dcterms:modified>
  <cp:revision>3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