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553-C804-40B4-8283-4E277EDE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312-4263-482F-ABD2-6B24C29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4E7-CA31-4BB3-B593-2D2350FF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18F-47D3-43E1-89D2-EA96E721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46C-6344-48B0-B2ED-96EA68B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276-84BB-4FC3-967B-59E8E4B8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41E-6B08-4929-804B-A571FAA0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21D-345C-4A2A-B1CD-C719361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EC4-8364-4681-982C-ABA58C72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94C-7D70-42DF-A434-AC8D224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480-9744-4361-9B7C-C6DD6EF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3BD-A7C9-4AE1-9755-233AD7D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F024CA-D4BF-482B-8A5C-26029063F7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【演界网独家PPT】做企业就要用人不疑（www.yanj.cn)-1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-1690200" y="-147456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007000" y="80964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扁平化创意欧美风卡通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49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【演界网独家PPT】做企业就要用人不疑（www.yanj.cn)-10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【演界网独家PPT】做企业就要用人不疑（www.yanj.cn)-2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【演界网独家PPT】做企业就要用人不疑（www.yanj.cn)-3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【演界网独家PPT】做企业就要用人不疑（www.yanj.cn)-4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【演界网独家PPT】做企业就要用人不疑（www.yanj.cn)-5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【演界网独家PPT】做企业就要用人不疑（www.yanj.cn)-6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【演界网独家PPT】做企业就要用人不疑（www.yanj.cn)-7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9960" y="54957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【演界网独家PPT】做企业就要用人不疑（www.yanj.cn)-8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【演界网独家PPT】做企业就要用人不疑（www.yanj.cn)-9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</TotalTime>
  <Application>LibreOffice/7.4.7.2$Linux_X86_64 LibreOffice_project/40$Build-2</Application>
  <AppVersion>15.0000</AppVersion>
  <Words>27</Words>
  <Paragraphs>3</Paragraphs>
  <Company>iTianKong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3T08:39:00Z</dcterms:created>
  <dc:creator>www.pptbz.com</dc:creator>
  <dc:description/>
  <dc:language>en-US</dc:language>
  <cp:lastModifiedBy>a</cp:lastModifiedBy>
  <dcterms:modified xsi:type="dcterms:W3CDTF">2015-07-25T12:00:2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