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6AE-FD23-4C93-BD11-C866EBDC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6A8-CDA1-4C9F-AC55-5336F6E4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921-74E1-4083-992C-F8F354AD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8B0-25C5-45A0-A1C7-77E9BBD2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36D-1591-4D80-B4F7-4FC71595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39B-3D8A-431E-A317-6A8388EB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A5E-CBA9-4740-A15A-05A38A79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AED-4226-466C-BFE5-147BC59C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FA3-E4B2-46A7-84E8-F32D8995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EA6-67A1-4CD3-B159-8F8613C5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F0F-C6EA-4E0C-B40E-7809CAA4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5D2-AA22-4861-A43E-C38BD667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9E35-7E3F-4B37-B988-BF97325333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:\个人\简历\蓝色凳子.png"/>
          <p:cNvPicPr/>
          <p:nvPr/>
        </p:nvPicPr>
        <p:blipFill>
          <a:blip r:embed="rId1"/>
          <a:stretch/>
        </p:blipFill>
        <p:spPr>
          <a:xfrm>
            <a:off x="428760" y="1428840"/>
            <a:ext cx="2879640" cy="3565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2214720" y="1428840"/>
            <a:ext cx="946080" cy="85572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179280" y="465624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韵动粗黑简体"/>
                <a:ea typeface="方正韵动粗黑简体"/>
              </a:rPr>
              <a:t>把这个位置</a:t>
            </a:r>
            <a:r>
              <a:rPr b="0" lang="zh-CN" sz="4000" spc="-1" strike="noStrike">
                <a:solidFill>
                  <a:srgbClr val="ffffff"/>
                </a:solidFill>
                <a:latin typeface="方正韵动中黑简体"/>
                <a:ea typeface="方正韵动中黑简体"/>
              </a:rPr>
              <a:t>给适合他的人通用</a:t>
            </a:r>
            <a:r>
              <a:rPr b="0" lang="en-US" sz="4000" spc="-1" strike="noStrike">
                <a:solidFill>
                  <a:srgbClr val="ffffff"/>
                </a:solidFill>
                <a:latin typeface="方正韵动中黑简体"/>
                <a:ea typeface="方正韵动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韵动中黑简体"/>
                <a:ea typeface="方正韵动中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4"/>
          <p:cNvSpPr/>
          <p:nvPr/>
        </p:nvSpPr>
        <p:spPr>
          <a:xfrm>
            <a:off x="6357960" y="1187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什么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L:\个人\简历\办公椅.png"/>
          <p:cNvPicPr/>
          <p:nvPr/>
        </p:nvPicPr>
        <p:blipFill>
          <a:blip r:embed="rId1"/>
          <a:stretch/>
        </p:blipFill>
        <p:spPr>
          <a:xfrm>
            <a:off x="2643120" y="1928880"/>
            <a:ext cx="1204920" cy="1538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571680" y="500040"/>
            <a:ext cx="946080" cy="85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L:\个人\简历\针.png"/>
          <p:cNvPicPr/>
          <p:nvPr/>
        </p:nvPicPr>
        <p:blipFill>
          <a:blip r:embed="rId3"/>
          <a:stretch/>
        </p:blipFill>
        <p:spPr>
          <a:xfrm>
            <a:off x="357120" y="3048120"/>
            <a:ext cx="287496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L:\个人\简历\线.png"/>
          <p:cNvPicPr/>
          <p:nvPr/>
        </p:nvPicPr>
        <p:blipFill>
          <a:blip r:embed="rId4"/>
          <a:stretch/>
        </p:blipFill>
        <p:spPr>
          <a:xfrm>
            <a:off x="2143080" y="3048120"/>
            <a:ext cx="3857760" cy="380988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5786280" y="571680"/>
            <a:ext cx="285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5786280" y="1957320"/>
            <a:ext cx="2928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一份工作最主要的就是需要一个认真的人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认真是对自己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对工作负责的表现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一切才华是在认真之后的。</a:t>
            </a: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5786280" y="2844720"/>
            <a:ext cx="2928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我相信自己是个认真负责的美术指导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我一直以来用我认真的态度完成每一份工作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6481800" y="4000680"/>
            <a:ext cx="39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c000"/>
                </a:solidFill>
                <a:latin typeface="Calibri"/>
              </a:rPr>
              <a:t>让我们一起去认真面对工作</a:t>
            </a:r>
            <a:r>
              <a:rPr b="0" lang="en-US" sz="1100" spc="-1" strike="noStrike">
                <a:solidFill>
                  <a:srgbClr val="ffc000"/>
                </a:solidFill>
                <a:latin typeface="Calibri"/>
              </a:rPr>
              <a:t>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6286680" y="11872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认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571680" y="500040"/>
            <a:ext cx="946080" cy="85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L:\个人\简历\办公椅.png"/>
          <p:cNvPicPr/>
          <p:nvPr/>
        </p:nvPicPr>
        <p:blipFill>
          <a:blip r:embed="rId2"/>
          <a:stretch/>
        </p:blipFill>
        <p:spPr>
          <a:xfrm>
            <a:off x="2643120" y="2428920"/>
            <a:ext cx="1204920" cy="1538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L:\个人\简历\人头.png"/>
          <p:cNvPicPr/>
          <p:nvPr/>
        </p:nvPicPr>
        <p:blipFill>
          <a:blip r:embed="rId3"/>
          <a:stretch/>
        </p:blipFill>
        <p:spPr>
          <a:xfrm>
            <a:off x="1428840" y="4392720"/>
            <a:ext cx="3000240" cy="3578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L:\个人\简历\帽子.png"/>
          <p:cNvPicPr/>
          <p:nvPr/>
        </p:nvPicPr>
        <p:blipFill>
          <a:blip r:embed="rId4"/>
          <a:stretch/>
        </p:blipFill>
        <p:spPr>
          <a:xfrm>
            <a:off x="-4284720" y="3208320"/>
            <a:ext cx="9428400" cy="3649680"/>
          </a:xfrm>
          <a:prstGeom prst="rect">
            <a:avLst/>
          </a:prstGeom>
          <a:ln w="0">
            <a:noFill/>
          </a:ln>
        </p:spPr>
      </p:pic>
      <p:sp>
        <p:nvSpPr>
          <p:cNvPr id="59" name="矩形 8"/>
          <p:cNvSpPr/>
          <p:nvPr/>
        </p:nvSpPr>
        <p:spPr>
          <a:xfrm>
            <a:off x="6161040" y="1187280"/>
            <a:ext cx="22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什么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5589720" y="571680"/>
            <a:ext cx="285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0"/>
          <p:cNvSpPr/>
          <p:nvPr/>
        </p:nvSpPr>
        <p:spPr>
          <a:xfrm>
            <a:off x="5589720" y="1957320"/>
            <a:ext cx="2930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我们有了认真态度，接下来就是你的智慧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我们怕招聘笨的员工，同事更怕遇见愚钝的伙伴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他有可能让客户恼火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1"/>
          <p:cNvSpPr/>
          <p:nvPr/>
        </p:nvSpPr>
        <p:spPr>
          <a:xfrm>
            <a:off x="5589720" y="2844720"/>
            <a:ext cx="29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我不算是非常聪明的人，不过幸好我是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在工作上能完成比较好的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6421320" y="400068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00000"/>
                </a:solidFill>
                <a:latin typeface="Calibri"/>
              </a:rPr>
              <a:t>来吧！我们去头脑风暴一下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4"/>
          <p:cNvSpPr/>
          <p:nvPr/>
        </p:nvSpPr>
        <p:spPr>
          <a:xfrm>
            <a:off x="6089760" y="11872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有脑子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99940">
                                      <p:cBhvr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L:\个人\简历\橘黄色logo.png"/>
          <p:cNvPicPr/>
          <p:nvPr/>
        </p:nvPicPr>
        <p:blipFill>
          <a:blip r:embed="rId1"/>
          <a:stretch/>
        </p:blipFill>
        <p:spPr>
          <a:xfrm>
            <a:off x="571680" y="500040"/>
            <a:ext cx="946080" cy="855720"/>
          </a:xfrm>
          <a:prstGeom prst="rect">
            <a:avLst/>
          </a:prstGeom>
          <a:ln w="0">
            <a:noFill/>
          </a:ln>
        </p:spPr>
      </p:pic>
      <p:sp>
        <p:nvSpPr>
          <p:cNvPr id="66" name="矩形 6"/>
          <p:cNvSpPr/>
          <p:nvPr/>
        </p:nvSpPr>
        <p:spPr>
          <a:xfrm>
            <a:off x="6357960" y="1187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什么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786280" y="571680"/>
            <a:ext cx="285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/>
          <p:cNvSpPr/>
          <p:nvPr/>
        </p:nvSpPr>
        <p:spPr>
          <a:xfrm>
            <a:off x="5786280" y="1957320"/>
            <a:ext cx="2928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有了认真，有了聪明，下一需要的就是勤快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勤劳、快速的完成每份工作，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就是你们需要的员工，好的员工需要这个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786280" y="2844720"/>
            <a:ext cx="2928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我没说什么可说的，这个只能在日常的工作的表现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Calibri"/>
              </a:rPr>
              <a:t>才是最好的辩解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0"/>
          <p:cNvSpPr/>
          <p:nvPr/>
        </p:nvSpPr>
        <p:spPr>
          <a:xfrm>
            <a:off x="5970960" y="4000680"/>
            <a:ext cx="127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c000"/>
                </a:solidFill>
                <a:latin typeface="Calibri"/>
              </a:rPr>
              <a:t>Let's go,</a:t>
            </a:r>
            <a:r>
              <a:rPr b="0" lang="zh-CN" sz="1100" spc="-1" strike="noStrike">
                <a:solidFill>
                  <a:srgbClr val="ffc000"/>
                </a:solidFill>
                <a:latin typeface="Calibri"/>
              </a:rPr>
              <a:t>让我们马上行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6286680" y="11872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韵动中黑简体"/>
                <a:ea typeface="方正韵动中黑简体"/>
              </a:rPr>
              <a:t>勤快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L:\个人\简历\指甲.png"/>
          <p:cNvPicPr/>
          <p:nvPr/>
        </p:nvPicPr>
        <p:blipFill>
          <a:blip r:embed="rId2"/>
          <a:stretch/>
        </p:blipFill>
        <p:spPr>
          <a:xfrm>
            <a:off x="-1569960" y="2428920"/>
            <a:ext cx="4641840" cy="29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L:\个人\简历\涂指甲.png"/>
          <p:cNvPicPr/>
          <p:nvPr/>
        </p:nvPicPr>
        <p:blipFill>
          <a:blip r:embed="rId3"/>
          <a:stretch/>
        </p:blipFill>
        <p:spPr>
          <a:xfrm>
            <a:off x="2714760" y="4143240"/>
            <a:ext cx="3429000" cy="377028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7072200" y="857160"/>
            <a:ext cx="1106640" cy="1000080"/>
          </a:xfrm>
          <a:prstGeom prst="rect">
            <a:avLst/>
          </a:prstGeom>
          <a:ln w="0">
            <a:noFill/>
          </a:ln>
        </p:spPr>
      </p:pic>
      <p:sp>
        <p:nvSpPr>
          <p:cNvPr id="75" name="矩形 1"/>
          <p:cNvSpPr/>
          <p:nvPr/>
        </p:nvSpPr>
        <p:spPr>
          <a:xfrm>
            <a:off x="785880" y="2873520"/>
            <a:ext cx="78588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姓　　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性　　别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年　　龄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出生日期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工作年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有效证件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证件号码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居住地址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电子邮箱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Calibri"/>
              </a:rPr>
              <a:t>移动电话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7054920" y="857160"/>
            <a:ext cx="1106280" cy="1000080"/>
          </a:xfrm>
          <a:prstGeom prst="rect">
            <a:avLst/>
          </a:prstGeom>
          <a:ln w="0">
            <a:noFill/>
          </a:ln>
        </p:spPr>
      </p:pic>
      <p:sp>
        <p:nvSpPr>
          <p:cNvPr id="77" name="矩形 4"/>
          <p:cNvSpPr/>
          <p:nvPr/>
        </p:nvSpPr>
        <p:spPr>
          <a:xfrm>
            <a:off x="714240" y="928800"/>
            <a:ext cx="42865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LIUHE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RESU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1554120" y="2873520"/>
            <a:ext cx="151776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Calibri"/>
              </a:rPr>
              <a:t>19</a:t>
            </a: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</a:t>
            </a: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身份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Calibri"/>
              </a:rPr>
              <a:t>211xxx19820724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Calibri"/>
              </a:rPr>
              <a:t>xx</a:t>
            </a:r>
            <a:r>
              <a:rPr b="1" lang="en-US" sz="1000" spc="-1" strike="noStrike">
                <a:solidFill>
                  <a:srgbClr val="262626"/>
                </a:solidFill>
                <a:latin typeface="Calibri"/>
              </a:rPr>
              <a:t>g@126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62626"/>
                </a:solidFill>
                <a:latin typeface="Calibri"/>
              </a:rPr>
              <a:t>13889245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1"/>
          <p:cNvSpPr/>
          <p:nvPr/>
        </p:nvSpPr>
        <p:spPr>
          <a:xfrm>
            <a:off x="714240" y="615780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2"/>
          <p:cNvSpPr/>
          <p:nvPr/>
        </p:nvSpPr>
        <p:spPr>
          <a:xfrm>
            <a:off x="714240" y="269064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803160" y="785880"/>
            <a:ext cx="1106640" cy="100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785880" y="785880"/>
            <a:ext cx="1106280" cy="100008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4214880" y="90180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LIUH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2012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4214880" y="1500120"/>
            <a:ext cx="4286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2002-2003 </a:t>
            </a:r>
            <a:r>
              <a:rPr b="0" lang="zh-CN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4286160" y="2714760"/>
            <a:ext cx="100008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时　　间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公　　司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行　　业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部　　门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职　　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离职原因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5165640" y="2714760"/>
            <a:ext cx="290664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计算机软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美编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网页前台和广告推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追求平面设计生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803160" y="785880"/>
            <a:ext cx="1106640" cy="1000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785880" y="785880"/>
            <a:ext cx="1106280" cy="1000080"/>
          </a:xfrm>
          <a:prstGeom prst="rect">
            <a:avLst/>
          </a:prstGeom>
          <a:ln w="0">
            <a:noFill/>
          </a:ln>
        </p:spPr>
      </p:pic>
      <p:sp>
        <p:nvSpPr>
          <p:cNvPr id="89" name="矩形 4"/>
          <p:cNvSpPr/>
          <p:nvPr/>
        </p:nvSpPr>
        <p:spPr>
          <a:xfrm>
            <a:off x="4214880" y="90180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LIUH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2012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4214880" y="1500120"/>
            <a:ext cx="4286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2003-2008 </a:t>
            </a:r>
            <a:r>
              <a:rPr b="0" lang="zh-CN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4286160" y="2714760"/>
            <a:ext cx="100008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时　　间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公　　司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行　　业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部　　门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职　　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离职原因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5165640" y="2714760"/>
            <a:ext cx="290664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房地产广告行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推广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美术指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升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803160" y="785880"/>
            <a:ext cx="1106640" cy="100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L:\个人\简历\橘黄色logo.png"/>
          <p:cNvPicPr/>
          <p:nvPr/>
        </p:nvPicPr>
        <p:blipFill>
          <a:blip r:embed="rId2"/>
          <a:stretch/>
        </p:blipFill>
        <p:spPr>
          <a:xfrm>
            <a:off x="785880" y="785880"/>
            <a:ext cx="1106280" cy="1000080"/>
          </a:xfrm>
          <a:prstGeom prst="rect">
            <a:avLst/>
          </a:prstGeom>
          <a:ln w="0">
            <a:noFill/>
          </a:ln>
        </p:spPr>
      </p:pic>
      <p:sp>
        <p:nvSpPr>
          <p:cNvPr id="96" name="矩形 4"/>
          <p:cNvSpPr/>
          <p:nvPr/>
        </p:nvSpPr>
        <p:spPr>
          <a:xfrm>
            <a:off x="4214880" y="90180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LIUH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2012 </a:t>
            </a:r>
            <a:r>
              <a:rPr b="0" lang="en-US" sz="2000" spc="-1" strike="noStrike">
                <a:solidFill>
                  <a:srgbClr val="595959"/>
                </a:solidFill>
                <a:latin typeface="Arial"/>
                <a:ea typeface="Arial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4214880" y="1500120"/>
            <a:ext cx="4286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2008-2011 </a:t>
            </a:r>
            <a:r>
              <a:rPr b="0" lang="zh-CN" sz="3200" spc="-1" strike="noStrike">
                <a:solidFill>
                  <a:srgbClr val="376092"/>
                </a:solidFill>
                <a:latin typeface="方正韵动中黑简体"/>
                <a:ea typeface="方正韵动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4286160" y="2714760"/>
            <a:ext cx="100008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时　　间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公　　司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行　　业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部　　门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职　　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76092"/>
                </a:solidFill>
                <a:latin typeface="Calibri"/>
              </a:rPr>
              <a:t>离职原因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0"/>
          <p:cNvSpPr/>
          <p:nvPr/>
        </p:nvSpPr>
        <p:spPr>
          <a:xfrm>
            <a:off x="5165640" y="2714760"/>
            <a:ext cx="290664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xxx</a:t>
            </a: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xxxx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房地产广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推广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美术指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d0d0d"/>
                </a:solidFill>
                <a:latin typeface="Calibri"/>
              </a:rPr>
              <a:t>创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L:\个人\简历\黑色logo.png"/>
          <p:cNvPicPr/>
          <p:nvPr/>
        </p:nvPicPr>
        <p:blipFill>
          <a:blip r:embed="rId1"/>
          <a:stretch/>
        </p:blipFill>
        <p:spPr>
          <a:xfrm>
            <a:off x="4000680" y="2571840"/>
            <a:ext cx="946080" cy="855720"/>
          </a:xfrm>
          <a:prstGeom prst="rect">
            <a:avLst/>
          </a:prstGeom>
          <a:ln w="0">
            <a:noFill/>
          </a:ln>
        </p:spPr>
      </p:pic>
      <p:sp>
        <p:nvSpPr>
          <p:cNvPr id="101" name="矩形 4"/>
          <p:cNvSpPr/>
          <p:nvPr/>
        </p:nvSpPr>
        <p:spPr>
          <a:xfrm>
            <a:off x="4240440" y="3643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谢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3:08:14Z</dcterms:created>
  <dc:creator>mac</dc:creator>
  <dc:description/>
  <cp:keywords/>
  <dc:language>en-US</dc:language>
  <cp:lastModifiedBy>王玉清</cp:lastModifiedBy>
  <cp:lastPrinted>1899-12-30T00:00:00Z</cp:lastPrinted>
  <dcterms:modified xsi:type="dcterms:W3CDTF">2016-03-07T02:54:19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