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86AE1E-74FC-4EB2-BDFF-49E72DD8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8A8727-D64C-4CD0-BAE2-1490EBBE8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537FB-28E9-45F9-98CA-F8D307480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E1F0B-3BDA-4E94-9403-02239980E3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2AF-A564-4E23-8A75-DE60FF26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199-6D79-459E-A6A8-0B544B0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2A7-9C73-4FD0-85ED-2344615D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649-9E87-467C-9666-640BA864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251-53D4-48C6-9C04-5FCB998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EE6-B40B-402F-B499-710CD06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8FC-5A7F-438D-A63A-D0B14C5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9A6-BD7A-44AE-BD05-0242E0E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042-CAB1-4343-AED1-B2ECB7C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A0A-BDAC-4162-BB59-4640B86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2B9-FF54-4DD9-8DC8-D4C56A64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6BE-338A-4367-8769-85A662D6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4B2F-17F3-43C9-B777-D0C715CA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109-B85B-4633-848B-EC013616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333F-9C9E-4213-AF7D-521B244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212C-7471-43A9-966F-99C9B3F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CDC-2B38-47F5-B5BC-E47955F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7D05-049A-48B0-82AF-B898EA9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37F-7272-4D91-B85A-E74F5AB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9EB-AB26-46D9-B425-DFC9572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70E-55C8-40E2-88A2-7392379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4308-5670-437E-8437-E78333A3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7F1-1C69-4864-9B95-DD6549EA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539F-D174-41C9-AA4B-59D1E869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pic>
        <p:nvPicPr>
          <p:cNvPr id="1" name="图片 3" descr=""/>
          <p:cNvPicPr/>
          <p:nvPr/>
        </p:nvPicPr>
        <p:blipFill>
          <a:blip r:embed="rId3"/>
          <a:srcRect l="244" t="1711" r="136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64000" y="3069000"/>
            <a:ext cx="4896360" cy="194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en-US" sz="7200" spc="-1" strike="noStrike">
                <a:solidFill>
                  <a:schemeClr val="accent5">
                    <a:lumMod val="50000"/>
                  </a:schemeClr>
                </a:solidFill>
                <a:latin typeface="Monotype Corsiva"/>
                <a:ea typeface="微软雅黑"/>
              </a:rPr>
              <a:t>PowerPoint Templat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1640" y="2205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267726-97D1-462C-81B7-75C187B24311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2915640" y="2949480"/>
            <a:ext cx="3456000" cy="335160"/>
          </a:xfrm>
          <a:prstGeom prst="rect">
            <a:avLst/>
          </a:prstGeom>
          <a:gradFill rotWithShape="0">
            <a:gsLst>
              <a:gs pos="0">
                <a:srgbClr val="00668d"/>
              </a:gs>
              <a:gs pos="100000">
                <a:srgbClr val="0091c9"/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edit Master text style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微软雅黑"/>
              </a:rPr>
              <a:t>Click here to edit Master text sty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A3163-A42D-432E-8FDA-F6DA9A11C5F3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3c3c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  <a:ea typeface="微软雅黑"/>
              </a:rPr>
              <a:t>Click to edit Master text styl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3c3c3c"/>
                </a:solidFill>
                <a:latin typeface="Arial"/>
                <a:ea typeface="微软雅黑"/>
              </a:rPr>
              <a:t>Second level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marL="914400"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  <a:ea typeface="微软雅黑"/>
              </a:rPr>
              <a:t>Third level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marL="1371600"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  <a:ea typeface="微软雅黑"/>
              </a:rPr>
              <a:t>Fourth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1828800"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  <a:ea typeface="微软雅黑"/>
              </a:rPr>
              <a:t>Fifth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4000" y="3069000"/>
            <a:ext cx="4896360" cy="194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en-US" sz="7200" spc="-1" strike="noStrike">
                <a:solidFill>
                  <a:schemeClr val="accent5">
                    <a:lumMod val="50000"/>
                  </a:schemeClr>
                </a:solidFill>
                <a:latin typeface="Monotype Corsiva"/>
                <a:ea typeface="微软雅黑"/>
              </a:rPr>
              <a:t>PowerPoint Templat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60000" y="5733360"/>
            <a:ext cx="6120360" cy="503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2105280" y="692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  <a:ea typeface="宋体"/>
              </a:rPr>
              <a:t>彩色梦幻圆点通用</a:t>
            </a: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1640" y="2205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15640" y="2949480"/>
            <a:ext cx="3456000" cy="335160"/>
          </a:xfrm>
          <a:prstGeom prst="rect">
            <a:avLst/>
          </a:prstGeom>
          <a:gradFill rotWithShape="0">
            <a:gsLst>
              <a:gs pos="0">
                <a:srgbClr val="00668d"/>
              </a:gs>
              <a:gs pos="100000">
                <a:srgbClr val="0091c9"/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subtitle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here to add your tit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3c3c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  <a:ea typeface="微软雅黑"/>
              </a:rPr>
              <a:t>Click to edit Master tex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  <Words>66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王玉清</cp:lastModifiedBy>
  <dcterms:modified xsi:type="dcterms:W3CDTF">2016-02-24T03:28:34Z</dcterms:modified>
  <cp:revision>1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  <property fmtid="{D5CDD505-2E9C-101B-9397-08002B2CF9AE}" pid="5" name="VIP等级">
    <vt:lpwstr>2</vt:lpwstr>
  </property>
  <property fmtid="{D5CDD505-2E9C-101B-9397-08002B2CF9AE}" pid="6" name="价格">
    <vt:lpwstr>2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EN PPT 格式 时尚 蓝 蓝色 潮流 炫光 华丽 梦幻 线 线条 抽象 动态 动感 清新 年轻 活力 青春 渐变 背景 V2</vt:lpwstr>
  </property>
  <property fmtid="{D5CDD505-2E9C-101B-9397-08002B2CF9AE}" pid="10" name="操作代码">
    <vt:lpwstr>2</vt:lpwstr>
  </property>
  <property fmtid="{D5CDD505-2E9C-101B-9397-08002B2CF9AE}" pid="11" name="是否可购买">
    <vt:lpwstr>1</vt:lpwstr>
  </property>
  <property fmtid="{D5CDD505-2E9C-101B-9397-08002B2CF9AE}" pid="12" name="显示VIP等级">
    <vt:lpwstr>2</vt:lpwstr>
  </property>
  <property fmtid="{D5CDD505-2E9C-101B-9397-08002B2CF9AE}" pid="13" name="标题">
    <vt:lpwstr>蓝色梦幻圆点</vt:lpwstr>
  </property>
  <property fmtid="{D5CDD505-2E9C-101B-9397-08002B2CF9AE}" pid="14" name="模板ID">
    <vt:lpwstr>A30220130608A12</vt:lpwstr>
  </property>
  <property fmtid="{D5CDD505-2E9C-101B-9397-08002B2CF9AE}" pid="15" name="模板缩略图">
    <vt:lpwstr>A30220130608A12.png</vt:lpwstr>
  </property>
  <property fmtid="{D5CDD505-2E9C-101B-9397-08002B2CF9AE}" pid="16" name="相关案例">
    <vt:lpwstr>854</vt:lpwstr>
  </property>
  <property fmtid="{D5CDD505-2E9C-101B-9397-08002B2CF9AE}" pid="17" name="缩略图标题">
    <vt:lpwstr>蓝色梦幻圆点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30608A1201</vt:lpwstr>
  </property>
  <property fmtid="{D5CDD505-2E9C-101B-9397-08002B2CF9AE}" pid="20" name="附件缩略图">
    <vt:lpwstr>A30220130608A1201.png</vt:lpwstr>
  </property>
  <property fmtid="{D5CDD505-2E9C-101B-9397-08002B2CF9AE}" pid="21" name="附件路径">
    <vt:lpwstr>A30220130608A1201.pptx</vt:lpwstr>
  </property>
</Properties>
</file>