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BCF-D9F2-4E1F-867B-BC8058F6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9EC-E173-4608-B731-96F0E1A9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A9B-75F9-42F6-80E4-2AD21D87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844-1ED6-4C98-8353-B002325B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F52-ABF1-40AC-8A47-085C6645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AA5-BD2C-45E9-A8A6-CD8792C3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5ED-D98A-465E-9390-CEDB8D7F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C8A-A3BE-42D8-B646-B40B5D41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354-9487-41F3-9461-B8B7906B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CB1-5309-40F6-9E84-4734ABA4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766-50E8-4F68-B70C-819C008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EBD-D8F3-4C7E-B712-DA5DAC66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CF8E-DC24-4055-AEC3-17A535128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封面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649240" y="1989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彩的人生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内页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内页文字"/>
          <p:cNvPicPr/>
          <p:nvPr/>
        </p:nvPicPr>
        <p:blipFill>
          <a:blip r:embed="rId2"/>
          <a:stretch/>
        </p:blipFill>
        <p:spPr>
          <a:xfrm>
            <a:off x="838080" y="2124000"/>
            <a:ext cx="74660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6:43:16Z</dcterms:created>
  <dc:creator>YE</dc:creator>
  <dc:description/>
  <dc:language>en-US</dc:language>
  <cp:lastModifiedBy>王玉清</cp:lastModifiedBy>
  <dcterms:modified xsi:type="dcterms:W3CDTF">2016-02-24T04:10:08Z</dcterms:modified>
  <cp:revision>2</cp:revision>
  <dc:subject/>
  <dc:title>幻灯片 1</dc:title>
</cp:coreProperties>
</file>