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A518-44E0-49C3-AF98-947A3C24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37DC-C9DB-4C4E-BC62-9EA4B440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7C12-66C3-4E12-885B-6E1C68C7B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47EE-AC18-4670-A60A-09364BEA5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6B79-C17D-4ADD-9C94-98488308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E124-F080-4B8F-B857-80F66783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0D09-1D6C-4E5E-9D29-C2D0A539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F44D-72AE-43B1-B249-B441D399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9FA0-B477-439E-A3AE-89C6DA1A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582A-2A16-4823-92A4-1E5F1D61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6770-976F-4240-8336-218EBE69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9B90-6EBD-4FBE-BBB0-83A1785B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D:\Documents and Settings\Administrator\桌面\河山图标.jpg"/>
          <p:cNvPicPr/>
          <p:nvPr/>
        </p:nvPicPr>
        <p:blipFill>
          <a:blip r:embed="rId2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2" descr="D:\Documents and Settings\Administrator\桌面\24\商务\17.jpg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8ED0-B889-4557-9F93-B43A4D6CA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担负压力的人们商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2:39:33Z</dcterms:created>
  <dc:creator>ppt宝藏</dc:creator>
  <dc:description/>
  <dc:language>en-US</dc:language>
  <cp:lastModifiedBy>a</cp:lastModifiedBy>
  <dcterms:modified xsi:type="dcterms:W3CDTF">2015-07-25T07:05:21Z</dcterms:modified>
  <cp:revision>17</cp:revision>
  <dc:subject/>
  <dc:title>www.pptbz.com</dc:title>
</cp:coreProperties>
</file>