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315-9DEC-4DF7-87A6-F7615859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F11-F96E-4A1E-9A0E-CB6EDC96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2AB15-5F02-40AA-BD94-4364DF54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0BBEE-1523-4D51-AF45-732C0E25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48601-7CB3-47D0-B5A8-12754896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223E8-E443-496D-9379-F40C8DE3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86B1F-597A-472B-B1EC-FF055D34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E7951-C521-43A6-8CAD-549142F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C0E79-BF91-4500-BD25-12451D28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B8815-FBA8-4C65-BE2C-FD8D99F4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141DE-5A7D-4A7A-AD5C-DFB6D95C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74F-0990-45F4-B75E-E2272A9C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D73-E053-40C4-9BAD-BF1F5937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B249-329A-4814-8D80-E75FF581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2DF0-5F9A-4CEE-8CD8-9AD15CEA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26E4-0FDF-4D8F-BDAB-F21AFB5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4952-5F92-4214-B5DE-4B4E12B5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3F40-FD2C-4663-9504-3F48F71C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93E0-0AFD-4DD1-B3AC-5D6EC62F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DCEF-4F6C-4C26-AA7A-1628FDF1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874-FD45-436F-AFDC-865D50A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C8EF-9E12-49F7-ACB4-A499B365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71A7-1009-4A4F-872F-5C465CA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A344-9703-4979-95E2-A7B3D14A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72D0-8816-4C17-9DCA-1C9797EE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2A1C-EFB2-499E-91DD-7E992E67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0F62-DB4C-4D23-9C66-778778D5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15ED-0082-4C49-ACF7-9DD957B0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B0F0-B5BE-4593-8A70-65B4BA58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3A85-2AB7-43B2-B4AB-1CCD995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5FE9-7228-420F-8CAD-3990B0D2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6F3-764A-4BF6-BF8D-C021D5DE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1EE0-3AD5-4B95-B4AC-83A190DB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5028-7CCA-4D19-A53A-DBC92D04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EF35-D76A-40FA-9896-89BAAF02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FF41-10CE-4CBE-86E4-B6C1AD6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629F-4F1E-4603-99AE-93177A81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19ED-1F34-489F-B392-44028C1D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7FCD-1795-4F63-8C37-A5D5A71D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F5164-C908-4C1B-AB97-9FFFAC74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3221-B62B-4853-B63B-18D0033A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12775-E8DC-4483-8D78-14F61C82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67D-C52C-4F46-86F9-E05D1D6B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60AD-4C29-47F3-B634-CBB1B91B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AB610-A95D-4EBC-A353-D878409F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9475-4CCB-453D-ABB9-64297BC2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0A4DD-AA55-4A7F-9249-C42FDD4A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470A7-C3FA-48D6-837B-A1C855D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7B5E8-FE39-49E1-A80D-63B0EA21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80BF-6789-4038-B4CF-DE630C8A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637A-70F1-4550-9F56-35A6515B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1604-1D49-488A-8F50-53277EE5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FE6F-D96B-485E-A765-DCE2FEE5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897-DC0E-43EA-8FC1-973636C4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CD8B2-FF90-4A0B-8A65-ABA4E29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2CEC9-3102-4AA7-89E6-A5920261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FE69-C8FF-4EC1-ACAE-FC414748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148F3-4BE3-4D81-8F1F-7D2B3379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F037-E97D-454E-AC39-013A9145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1660D-96F5-41ED-805F-643CF042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1B575-01A2-45FA-B16B-68C619C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194F0-6CD4-4547-BF2D-989322AA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9A9D-AC0D-4644-9378-34694009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DAFF-5D01-40EA-8F44-42A840AC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905-67FF-43CC-BA85-B619CD44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DA2E-2C83-4DA7-9B77-6C99A8BE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A1AE7-30DC-456B-BC4C-87AD10BA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B0C2E-1DDD-485A-AD1B-4097E53B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56ACE-0463-472F-A2CC-16CB7C7B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93CC-E715-4C0E-A034-E0CE2DC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D4D9F-E27E-4DD2-A870-7622F5DB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360D2-9ADE-4079-8348-DA8A7F64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431AD-48BA-4846-A0E5-D883D548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A98F-7363-4D11-97FE-BB93EF9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0CD5B-FF65-4221-97D7-B631EBD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209-CAB6-4F9D-B2C1-B5DE6E6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1C0D9-C21A-4AEF-A786-B4631118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61D30-A72C-4E32-8FC1-09F344F5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34ECE-4304-4CE0-9566-1628CC27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1B201-3C72-4CD8-9DC3-1D78669A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84874-E10B-41EF-8352-EA17AECA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29CA-9E80-4C82-A00B-C7B0A9B7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1144-D9E9-4E56-9F2B-4DF95AC9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48D91-8CC2-4168-B3BB-9F5EC2BC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7EF2F-CBA9-4329-A197-072C33DB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52B7-F71D-47A7-B7DC-B162192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FD9-B952-4F4E-A992-790528AD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840E9-0C0D-4532-A700-329FB13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9DF69-6D91-4992-A052-299134C0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52FCD-7B9B-4146-95AF-2B7F10F5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C6612-2582-4950-AEB7-B8FD7D43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FA958-2DEF-4B8F-B884-08A26567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78ADF-4ADE-4202-A0D9-D3DF665F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4B33-127D-44E2-BF86-A45AFE0D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2E7CA-9730-4F44-BDF6-372956F5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1FEF8-0EE6-4686-A205-F59AB546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E8901-D6E9-40E2-AE5B-13A9F77A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992-DB27-4084-9A7D-393AA86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1DCD-6763-4DE2-8682-A7536405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8F3A9-D983-4430-A1EB-E0CE908F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5B089-328E-44A0-BFE4-634FE8D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27683-9DFE-4459-BF11-3379657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FEB2-6CE7-4F24-A525-2B896596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9D72-6AED-46BD-858B-4B16D10B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5B3C4-936B-4C6A-937F-78D14E90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C6958-79D4-4F70-A2BD-B71AAB63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01CA6-EA24-4448-B3AF-BE5EBC1B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1C915-F669-4187-94B4-0796D43D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"/>
          <p:cNvPicPr/>
          <p:nvPr/>
        </p:nvPicPr>
        <p:blipFill>
          <a:blip r:embed="rId4"/>
          <a:srcRect l="0" t="61544" r="0" b="0"/>
          <a:stretch/>
        </p:blipFill>
        <p:spPr>
          <a:xfrm>
            <a:off x="0" y="4221000"/>
            <a:ext cx="9140040" cy="2636640"/>
          </a:xfrm>
          <a:prstGeom prst="rect">
            <a:avLst/>
          </a:prstGeom>
          <a:ln w="0">
            <a:noFill/>
          </a:ln>
        </p:spPr>
      </p:pic>
      <p:pic>
        <p:nvPicPr>
          <p:cNvPr id="3" name="图片 6" descr=""/>
          <p:cNvPicPr/>
          <p:nvPr/>
        </p:nvPicPr>
        <p:blipFill>
          <a:blip r:embed="rId5"/>
          <a:srcRect l="0" t="17776" r="0" b="20668"/>
          <a:stretch/>
        </p:blipFill>
        <p:spPr>
          <a:xfrm>
            <a:off x="2880" y="0"/>
            <a:ext cx="9137880" cy="42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7F0CAD-DC91-488F-B21F-6A6247C88615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6"/>
          <a:stretch/>
        </p:blipFill>
        <p:spPr>
          <a:xfrm>
            <a:off x="-42840" y="420912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4728240"/>
            <a:ext cx="82292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DE395F-B1B1-483F-86D9-B621F1053B1D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片 6" descr=""/>
          <p:cNvPicPr/>
          <p:nvPr/>
        </p:nvPicPr>
        <p:blipFill>
          <a:blip r:embed="rId4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5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6" descr=""/>
          <p:cNvPicPr/>
          <p:nvPr/>
        </p:nvPicPr>
        <p:blipFill>
          <a:blip r:embed="rId4"/>
          <a:srcRect l="0" t="17776" r="0" b="20668"/>
          <a:stretch/>
        </p:blipFill>
        <p:spPr>
          <a:xfrm>
            <a:off x="2880" y="0"/>
            <a:ext cx="9137880" cy="4220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797000"/>
            <a:ext cx="77720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d5d5d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208550-9E30-4319-AF3B-E6883F5D0A6E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5"/>
          <a:srcRect l="2583" t="0" r="2602" b="0"/>
          <a:stretch/>
        </p:blipFill>
        <p:spPr>
          <a:xfrm>
            <a:off x="0" y="4115880"/>
            <a:ext cx="9143640" cy="248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8B175A-056F-487E-8AD9-55AAB8590C5D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图片 8" descr=""/>
          <p:cNvPicPr/>
          <p:nvPr/>
        </p:nvPicPr>
        <p:blipFill>
          <a:blip r:embed="rId4"/>
          <a:srcRect l="11648" t="17802" r="19051" b="56844"/>
          <a:stretch/>
        </p:blipFill>
        <p:spPr>
          <a:xfrm>
            <a:off x="0" y="0"/>
            <a:ext cx="3047760" cy="8362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9" descr=""/>
          <p:cNvPicPr/>
          <p:nvPr/>
        </p:nvPicPr>
        <p:blipFill>
          <a:blip r:embed="rId5"/>
          <a:srcRect l="75668" t="17802" r="208" b="56844"/>
          <a:stretch/>
        </p:blipFill>
        <p:spPr>
          <a:xfrm>
            <a:off x="2816280" y="0"/>
            <a:ext cx="2691360" cy="836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"/>
          <p:cNvSpPr/>
          <p:nvPr/>
        </p:nvSpPr>
        <p:spPr>
          <a:xfrm>
            <a:off x="2483640" y="0"/>
            <a:ext cx="6660000" cy="836280"/>
          </a:xfrm>
          <a:prstGeom prst="rect">
            <a:avLst/>
          </a:prstGeom>
          <a:gradFill rotWithShape="0">
            <a:gsLst>
              <a:gs pos="57000">
                <a:srgbClr val="002a46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6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6" descr=""/>
          <p:cNvPicPr/>
          <p:nvPr/>
        </p:nvPicPr>
        <p:blipFill>
          <a:blip r:embed="rId4"/>
          <a:srcRect l="24908" t="21209" r="5791" b="17235"/>
          <a:stretch/>
        </p:blipFill>
        <p:spPr>
          <a:xfrm>
            <a:off x="0" y="0"/>
            <a:ext cx="9140760" cy="6093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13F1ED-CEC3-43B5-B3AD-795B3A2440C8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0" y="4221000"/>
            <a:ext cx="9140760" cy="2636640"/>
          </a:xfrm>
          <a:prstGeom prst="rect">
            <a:avLst/>
          </a:prstGeom>
          <a:gradFill rotWithShape="0">
            <a:gsLst>
              <a:gs pos="5000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0" y="4221000"/>
            <a:ext cx="9140760" cy="26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5"/>
          <a:srcRect l="2583" t="0" r="2602" b="0"/>
          <a:stretch/>
        </p:blipFill>
        <p:spPr>
          <a:xfrm>
            <a:off x="0" y="4115880"/>
            <a:ext cx="9143640" cy="2487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4"/>
          <p:cNvSpPr>
            <a:spLocks noGrp="1"/>
          </p:cNvSpPr>
          <p:nvPr>
            <p:ph type="title"/>
          </p:nvPr>
        </p:nvSpPr>
        <p:spPr>
          <a:xfrm>
            <a:off x="685800" y="4797000"/>
            <a:ext cx="77720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007272"/>
                </a:solidFill>
                <a:latin typeface="黑体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1" descr=""/>
          <p:cNvPicPr/>
          <p:nvPr/>
        </p:nvPicPr>
        <p:blipFill>
          <a:blip r:embed="rId4"/>
          <a:srcRect l="-38" t="77235" r="38" b="0"/>
          <a:stretch/>
        </p:blipFill>
        <p:spPr>
          <a:xfrm>
            <a:off x="2880" y="0"/>
            <a:ext cx="9137880" cy="15602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D28727-5A44-40EB-B4F1-2856FA371533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0" y="404640"/>
            <a:ext cx="9140760" cy="1371600"/>
          </a:xfrm>
          <a:prstGeom prst="rect">
            <a:avLst/>
          </a:prstGeom>
          <a:gradFill rotWithShape="0">
            <a:gsLst>
              <a:gs pos="4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1" descr=""/>
          <p:cNvPicPr/>
          <p:nvPr/>
        </p:nvPicPr>
        <p:blipFill>
          <a:blip r:embed="rId4"/>
          <a:srcRect l="31" t="81099" r="-31" b="6904"/>
          <a:stretch/>
        </p:blipFill>
        <p:spPr>
          <a:xfrm>
            <a:off x="2880" y="0"/>
            <a:ext cx="9137880" cy="8215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475568-08D2-4DB6-B226-58A55E835C96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直接连接符 12"/>
          <p:cNvCxnSpPr/>
          <p:nvPr/>
        </p:nvCxnSpPr>
        <p:spPr>
          <a:xfrm>
            <a:off x="0" y="821880"/>
            <a:ext cx="9144360" cy="360"/>
          </a:xfrm>
          <a:prstGeom prst="straightConnector1">
            <a:avLst/>
          </a:prstGeom>
          <a:ln w="57150">
            <a:solidFill>
              <a:srgbClr val="4bc5b9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8" descr=""/>
          <p:cNvPicPr/>
          <p:nvPr/>
        </p:nvPicPr>
        <p:blipFill>
          <a:blip r:embed="rId4"/>
          <a:srcRect l="-38" t="6" r="38" b="0"/>
          <a:stretch/>
        </p:blipFill>
        <p:spPr>
          <a:xfrm>
            <a:off x="0" y="0"/>
            <a:ext cx="9140040" cy="6857640"/>
          </a:xfrm>
          <a:prstGeom prst="rect">
            <a:avLst/>
          </a:prstGeom>
          <a:ln w="0">
            <a:noFill/>
          </a:ln>
        </p:spPr>
      </p:pic>
      <p:sp>
        <p:nvSpPr>
          <p:cNvPr id="323" name="矩形 6"/>
          <p:cNvSpPr/>
          <p:nvPr/>
        </p:nvSpPr>
        <p:spPr>
          <a:xfrm>
            <a:off x="467640" y="1052640"/>
            <a:ext cx="8672760" cy="580500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88900" dir="13500000" dist="76200">
              <a:srgbClr val="000000">
                <a:alpha val="8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28BABF-1B04-40F7-B377-B311F48BC2A6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6" descr=""/>
          <p:cNvPicPr/>
          <p:nvPr/>
        </p:nvPicPr>
        <p:blipFill>
          <a:blip r:embed="rId4"/>
          <a:srcRect l="-31" t="5465" r="31" b="5465"/>
          <a:stretch/>
        </p:blipFill>
        <p:spPr>
          <a:xfrm>
            <a:off x="0" y="0"/>
            <a:ext cx="9140760" cy="610776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0" y="2277000"/>
            <a:ext cx="9140760" cy="4580640"/>
          </a:xfrm>
          <a:prstGeom prst="rect">
            <a:avLst/>
          </a:prstGeom>
          <a:gradFill rotWithShape="0">
            <a:gsLst>
              <a:gs pos="52000">
                <a:srgbClr val="ffffff">
                  <a:alpha val="0"/>
                </a:srgbClr>
              </a:gs>
              <a:gs pos="100000">
                <a:srgbClr val="ffffff">
                  <a:alpha val="89019"/>
                </a:srgbClr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69" name="矩形 7"/>
          <p:cNvSpPr/>
          <p:nvPr/>
        </p:nvSpPr>
        <p:spPr>
          <a:xfrm>
            <a:off x="0" y="2565000"/>
            <a:ext cx="9140760" cy="4292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d5d5d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E01FC8-55E3-4463-B6D0-8A2D90B25D24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728240"/>
            <a:ext cx="86864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148" strike="noStrike">
                <a:solidFill>
                  <a:srgbClr val="f8f8f8"/>
                </a:solidFill>
                <a:latin typeface="Impact"/>
              </a:rPr>
              <a:t>大桥通用</a:t>
            </a:r>
            <a:r>
              <a:rPr b="1" lang="en-US" sz="4000" spc="148" strike="noStrike">
                <a:solidFill>
                  <a:srgbClr val="f8f8f8"/>
                </a:solidFill>
                <a:latin typeface="Impact"/>
              </a:rPr>
              <a:t>PPT</a:t>
            </a:r>
            <a:r>
              <a:rPr b="1" lang="zh-CN" sz="4000" spc="148" strike="noStrike">
                <a:solidFill>
                  <a:srgbClr val="f8f8f8"/>
                </a:solidFill>
                <a:latin typeface="Impact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67640" y="5661360"/>
            <a:ext cx="6400440" cy="5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2f2f2"/>
              </a:solidFill>
              <a:latin typeface="Times New Roman"/>
            </a:endParaRPr>
          </a:p>
        </p:txBody>
      </p:sp>
      <p:sp>
        <p:nvSpPr>
          <p:cNvPr id="41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铁臂跨洋模板是果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作室出品的标准化系列模板之一。版面设计中遵循黄金分割比例设置标题区域的位置，以直线和整齐的方形板块划分页面。标题字体选取微软雅黑体，正文字体选用宋体。本模板以轩昂、开阔的铁桥为背景，一图多用，适合于商务、城市规划、广告、交通等诸多领域的演示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797000"/>
            <a:ext cx="77720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d5d5d"/>
                </a:solidFill>
                <a:latin typeface="Impact"/>
              </a:rPr>
              <a:t>铁臂跨洋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5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果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室出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本模板的主题色选用了系统自带的“凤舞九天”主题。可结合主题色灵活地设置图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971640" y="2349000"/>
            <a:ext cx="575640" cy="791640"/>
          </a:xfrm>
          <a:prstGeom prst="rect">
            <a:avLst/>
          </a:prstGeom>
          <a:gradFill rotWithShape="0">
            <a:gsLst>
              <a:gs pos="80000">
                <a:srgbClr val="0000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1" name="矩形 6"/>
          <p:cNvSpPr/>
          <p:nvPr/>
        </p:nvSpPr>
        <p:spPr>
          <a:xfrm>
            <a:off x="1765800" y="2349000"/>
            <a:ext cx="575640" cy="791640"/>
          </a:xfrm>
          <a:prstGeom prst="rect">
            <a:avLst/>
          </a:prstGeom>
          <a:gradFill rotWithShape="0">
            <a:gsLst>
              <a:gs pos="0">
                <a:srgbClr val="3b5e1b"/>
              </a:gs>
              <a:gs pos="100000">
                <a:srgbClr val="4d7a2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2" name="矩形 7"/>
          <p:cNvSpPr/>
          <p:nvPr/>
        </p:nvSpPr>
        <p:spPr>
          <a:xfrm>
            <a:off x="255564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117051"/>
              </a:gs>
              <a:gs pos="100000">
                <a:srgbClr val="16916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3" name="矩形 8"/>
          <p:cNvSpPr/>
          <p:nvPr/>
        </p:nvSpPr>
        <p:spPr>
          <a:xfrm>
            <a:off x="3348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179c38"/>
              </a:gs>
              <a:gs pos="100000">
                <a:srgbClr val="1dcb4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4" name="矩形 9"/>
          <p:cNvSpPr/>
          <p:nvPr/>
        </p:nvSpPr>
        <p:spPr>
          <a:xfrm>
            <a:off x="4140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29a095"/>
              </a:gs>
              <a:gs pos="100000">
                <a:srgbClr val="36d0c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5" name="矩形 10"/>
          <p:cNvSpPr/>
          <p:nvPr/>
        </p:nvSpPr>
        <p:spPr>
          <a:xfrm>
            <a:off x="4932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1343a7"/>
              </a:gs>
              <a:gs pos="100000">
                <a:srgbClr val="1957d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5724000" y="2349000"/>
            <a:ext cx="575640" cy="791640"/>
          </a:xfrm>
          <a:prstGeom prst="rect">
            <a:avLst/>
          </a:prstGeom>
          <a:gradFill rotWithShape="0">
            <a:gsLst>
              <a:gs pos="0">
                <a:srgbClr val="33008c"/>
              </a:gs>
              <a:gs pos="100000">
                <a:srgbClr val="4300b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7" name="标题 3"/>
          <p:cNvSpPr/>
          <p:nvPr/>
        </p:nvSpPr>
        <p:spPr>
          <a:xfrm>
            <a:off x="817200" y="3394440"/>
            <a:ext cx="822924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标题文本（微软雅黑，</a:t>
            </a: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内容占位符 4"/>
          <p:cNvSpPr/>
          <p:nvPr/>
        </p:nvSpPr>
        <p:spPr>
          <a:xfrm>
            <a:off x="817200" y="4253760"/>
            <a:ext cx="8229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正文文本（宋体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797000"/>
            <a:ext cx="77720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007272"/>
                </a:solidFill>
                <a:latin typeface="黑体"/>
                <a:ea typeface="黑体"/>
              </a:rPr>
              <a:t>铁臂跨洋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5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果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作室出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683640" y="1196640"/>
            <a:ext cx="800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Times New Roman"/>
              </a:rPr>
              <a:t>此处添加副标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d5d5d"/>
                </a:solidFill>
                <a:latin typeface="Impact"/>
              </a:rPr>
              <a:t>铁臂跨洋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  <Words>227</Words>
  <Paragraphs>31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7-04T14:36:16Z</dcterms:created>
  <dc:creator>果因PPT工作室;lenovo</dc:creator>
  <dc:description/>
  <cp:keywords>XS-普屏 4：3 SC-深青色 BG-浅色 DH-静态</cp:keywords>
  <dc:language>en-US</dc:language>
  <cp:lastModifiedBy>王玉清</cp:lastModifiedBy>
  <dcterms:modified xsi:type="dcterms:W3CDTF">2016-02-25T02:46:00Z</dcterms:modified>
  <cp:revision>18</cp:revision>
  <dc:subject>TP-商务公关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9</vt:r8>
  </property>
</Properties>
</file>