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DEC7-EE13-481A-924E-0A677073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C12-447A-4FDC-BCF3-404AF7D2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658B-2C3A-4314-AB55-8E1515FE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30A-3C04-4968-B251-BF8761B8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F96C-0CA1-46E7-A6C6-3AEFC9C4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3963-4D40-4DC1-92B1-BA802C6D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68A5-3ACB-4C5B-BB7B-24C0A2B5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3645-8E34-4641-8850-975D5811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4A83-8645-46BE-A04F-50BC53EB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E0BD-6CBC-4344-A8E1-E60B8E6E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7C4F-2015-4C54-BAE4-6ACDD0A6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6047-2A6D-4D72-9EFC-A38F4B09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2996-CB3B-4D12-B26F-0780B5F3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5A68-7F42-40FF-9854-21F3C1B7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47B8-C8ED-4AEF-B077-4B9208E1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5555-B50C-4A49-AEF5-47FAFCBA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355A-8A8E-4767-8902-43438352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F75-64AA-4124-ADFD-EA20FCA1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8B73-07C9-48ED-B88C-F73E002C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D20-0F44-4E8C-AF68-1FEA79AB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AD78-7688-48CA-A8D9-B1D4EC74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8B7D-3A20-4AD1-A704-FAAC908E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6B3-6304-493B-A4CC-73771C5C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E3E1-C84C-4B3B-857C-C74F0F07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c06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754044-2C74-4568-8F35-B461295E0D9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c06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c06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c06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c06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c06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c06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44224F-7C11-4265-9A24-ECA86C6B8B4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4191120"/>
            <a:ext cx="7086240" cy="129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c0600"/>
                </a:solidFill>
                <a:latin typeface="Adobe Caslon Pro"/>
                <a:ea typeface="Adobe Heiti Std R"/>
              </a:rPr>
              <a:t>电视墙通用</a:t>
            </a:r>
            <a:r>
              <a:rPr b="0" lang="en-US" sz="4000" spc="-1" strike="noStrike">
                <a:solidFill>
                  <a:srgbClr val="0c0600"/>
                </a:solidFill>
                <a:latin typeface="Adobe Caslon Pro"/>
                <a:ea typeface="Adobe Heiti Std R"/>
              </a:rPr>
              <a:t>PPT</a:t>
            </a:r>
            <a:r>
              <a:rPr b="0" lang="zh-CN" sz="4000" spc="-1" strike="noStrike">
                <a:solidFill>
                  <a:srgbClr val="0c0600"/>
                </a:solidFill>
                <a:latin typeface="Adobe Caslon Pro"/>
                <a:ea typeface="Adobe Heiti Std R"/>
              </a:rPr>
              <a:t>模板免费下载</a:t>
            </a:r>
            <a:endParaRPr b="0" lang="en-US" sz="40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5943600"/>
            <a:ext cx="38858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dobe Caslon Pro"/>
                <a:ea typeface="Adobe Heiti Std R"/>
              </a:rPr>
              <a:t>Company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c06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c06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c06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33800" y="152280"/>
            <a:ext cx="58676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b0f0"/>
                </a:solidFill>
                <a:latin typeface="Adobe Heiti Std R"/>
                <a:ea typeface="Adobe Heiti Std R"/>
              </a:rPr>
              <a:t>Text Slide</a:t>
            </a:r>
            <a:endParaRPr b="0" lang="en-US" sz="3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116160" y="1295280"/>
            <a:ext cx="5867640" cy="51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46712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c0600"/>
                </a:solidFill>
                <a:latin typeface="Adobe Heiti Std R"/>
                <a:ea typeface="Adobe Heiti Std R"/>
              </a:rPr>
              <a:t>Print Slide</a:t>
            </a:r>
            <a:endParaRPr b="0" lang="en-US" sz="3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2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46712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c0600"/>
                </a:solidFill>
                <a:latin typeface="Adobe Caslon Pro"/>
              </a:rPr>
              <a:t>MyTemplatesShop</a:t>
            </a:r>
            <a:endParaRPr b="0" lang="en-US" sz="3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2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c0600"/>
                </a:solidFill>
                <a:latin typeface="Adobe Caslon Pro"/>
              </a:rPr>
              <a:t>Feel free to use this PowerPoint template and background for your personal use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c0600"/>
                </a:solidFill>
                <a:latin typeface="Adobe Caslon Pro"/>
              </a:rPr>
              <a:t>More templates, graphics and charts are available at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0035">
  <a:themeElements>
    <a:clrScheme name="Custom 111">
      <a:dk1>
        <a:srgbClr val="0c0600"/>
      </a:dk1>
      <a:lt1>
        <a:srgbClr val="ffffff"/>
      </a:lt1>
      <a:dk2>
        <a:srgbClr val="03b0b9"/>
      </a:dk2>
      <a:lt2>
        <a:srgbClr val="7bdefd"/>
      </a:lt2>
      <a:accent1>
        <a:srgbClr val="9cbcc4"/>
      </a:accent1>
      <a:accent2>
        <a:srgbClr val="dce9ec"/>
      </a:accent2>
      <a:accent3>
        <a:srgbClr val="9aa5a8"/>
      </a:accent3>
      <a:accent4>
        <a:srgbClr val="005658"/>
      </a:accent4>
      <a:accent5>
        <a:srgbClr val="14cece"/>
      </a:accent5>
      <a:accent6>
        <a:srgbClr val="ecf6f8"/>
      </a:accent6>
      <a:hlink>
        <a:srgbClr val="ff0000"/>
      </a:hlink>
      <a:folHlink>
        <a:srgbClr val="00515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0035">
  <a:themeElements>
    <a:clrScheme name="Custom 111">
      <a:dk1>
        <a:srgbClr val="0c0600"/>
      </a:dk1>
      <a:lt1>
        <a:srgbClr val="ffffff"/>
      </a:lt1>
      <a:dk2>
        <a:srgbClr val="03b0b9"/>
      </a:dk2>
      <a:lt2>
        <a:srgbClr val="7bdefd"/>
      </a:lt2>
      <a:accent1>
        <a:srgbClr val="9cbcc4"/>
      </a:accent1>
      <a:accent2>
        <a:srgbClr val="dce9ec"/>
      </a:accent2>
      <a:accent3>
        <a:srgbClr val="9aa5a8"/>
      </a:accent3>
      <a:accent4>
        <a:srgbClr val="005658"/>
      </a:accent4>
      <a:accent5>
        <a:srgbClr val="14cece"/>
      </a:accent5>
      <a:accent6>
        <a:srgbClr val="ecf6f8"/>
      </a:accent6>
      <a:hlink>
        <a:srgbClr val="ff0000"/>
      </a:hlink>
      <a:folHlink>
        <a:srgbClr val="00515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  <Words>122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5:17:16Z</dcterms:created>
  <dc:creator>Admin</dc:creator>
  <dc:description/>
  <dc:language>en-US</dc:language>
  <cp:lastModifiedBy>王玉清</cp:lastModifiedBy>
  <dcterms:modified xsi:type="dcterms:W3CDTF">2016-02-24T04:05:54Z</dcterms:modified>
  <cp:revision>2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