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hdphoto1.wdp" ContentType="image/vnd.ms-photo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A9DF-7461-40C5-B5BD-F17E91C0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9DF6-3A66-4CE1-8A7B-A9963834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91C2-0E9F-43C6-AA4E-CA32A7C8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1916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104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728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1916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104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2754-4032-4256-97C3-BE784E4F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0F74-42C8-468E-929D-B260E93A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08EA-4E04-42CF-B3A4-55AF0466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8B49-C6EB-452A-813F-55CAD05A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B522-1DE8-40B8-88FD-224FB266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79C0-5BBA-4CFD-A016-87524B74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87640" y="205920"/>
            <a:ext cx="749880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FB47-8FA7-4117-95F0-CD1F33A7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278A-EE73-4174-8A5F-B38EB2A2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91C0-8A91-477D-88B9-01C1C231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DA5A-CCFE-4FF9-A839-E98B22D5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809D-5751-4D1F-A1EB-6CEE4B46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BAB5-8293-4F4F-9E61-163DA309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CCF3-BB5A-45A0-96C5-8C9E45DB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1916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5104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728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1916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5104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3775-A3CA-4A43-AB4D-B5403E51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F05D3-A130-4A36-87E0-5465EE3C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98A38-46FF-47B2-8423-280709A0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8A91E-26FD-41A1-B163-1E38B69C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FC4D1-0512-4314-A78C-36204ABD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B07DD-A330-4BCD-BA12-39DDC0E6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964-A2D1-411E-ADC7-5765CAB0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187640" y="205920"/>
            <a:ext cx="749880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9A6FD-1377-420A-B5CC-B2711B3E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5B3A6-2E7A-4C73-AED4-88AB56E9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B91A2-5346-439E-B84D-386AE758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519AD-A160-493A-A8C0-37C885E6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8731A-2C15-4155-BC39-7AFF2F44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ED8F7-FFF7-49AC-AD07-D6F56872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71916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5104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18728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71916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25104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0E8EC-C4F6-4254-85A8-C4375457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959B4-7F25-4726-A6DD-5175C58E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C8852-573A-42ED-8D95-4E2447A4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16317-C382-4FAD-8203-5666450A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914-BD04-4CF2-B91F-24178D36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83F0C-2A2C-492D-BCAE-5ECE3AF8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4F6B5-AA7C-4D00-A4A1-13671344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187640" y="205920"/>
            <a:ext cx="749880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F5110-E614-4457-AD63-D1B18022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4DC60-533C-4D5E-A380-558B9958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7D9AC-9D8E-4440-8ABE-8D52408D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9BF79-E6F7-49E0-8F2E-D19EDC3F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38D5F-7949-487D-B944-A291EA61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4578A-4BB2-4C17-B51C-2087BED4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71916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5104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18728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71916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25104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78C83-5E90-4E28-869F-C86B89DC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E916D-CF4F-48DB-BB90-D1658013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79F7-3A2F-44C7-B2F6-46E0C6C1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26887-4F6F-4D2C-B09F-FE73E1F4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F8886-A945-4C80-980C-F7FDEA23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50856-CBAE-48AE-9E39-C8CCBF17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19401-8E40-440C-ACEE-9F282235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187640" y="205920"/>
            <a:ext cx="749880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296CE-1D6E-45E5-A7A8-25B93DCA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9E64D-5BFB-42F4-A1D7-D5AAD933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9D0C7-50C6-4627-BF77-37642EF7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EA213-8568-420C-B557-DD07B83F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B25B8-A872-48A8-B965-54D23234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F8792-8C1F-41AA-B401-C4D52359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7640" y="205920"/>
            <a:ext cx="749880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6967-0F37-451B-A481-788E5063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71916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5104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18728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71916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25104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C4F95-61B4-4B97-A577-1E943468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C6D37-CFC6-474B-A1AD-1AD24FE7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8201D-1F9E-40D5-93C8-119C0AC8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03EF4-921F-4434-8D97-85CA1ECB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2BAC1-D28A-4FE7-BBD7-7FA18F09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8009F-B977-41D1-9B1B-D3676003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187640" y="205920"/>
            <a:ext cx="749880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C7B66-CE8E-46C9-A8A3-E6CDAF61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FF12F-2F47-45C1-B34D-F4637EDB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69A18-BE21-4D5B-8210-1FF716D9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00746-83CF-47F5-81DA-699D170C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6736-7482-4EB6-8C9D-99410E4B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BABBA-BC97-4CFD-9157-39E4830B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EC640-89D9-4BEB-ACBE-3BD88D4B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71916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5104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18728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71916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25104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64751-D035-458D-8226-FC300003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C63D5-90AA-4CB7-84B4-172DD67F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93D85-9507-4978-96B1-F19D4FF7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37535-9AA5-43B7-91EC-9E6962E7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06AF7-3769-4701-87D4-DE0E9713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08720-927E-4825-8489-9ABD9F28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187640" y="205920"/>
            <a:ext cx="749880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BB7EC-96EE-48A5-B7C7-9BC739BE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859AB-9190-4B42-A3A9-773800C4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3FC7-3234-4FE9-9BA2-404510E0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0B066-C06C-4ECF-833F-F6FCB77A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12AA7-BD96-4038-8F4D-A7789B66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B8DC0-64B7-41B2-A375-992C005C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C35CF-96D8-47F9-B923-2EBFEF4F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71916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25104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118728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71916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25104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824B4-ED31-42EE-BB73-E10871CA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8C5C0-305E-47B2-9AB6-491C0C17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C61AF-2B7E-4867-9F61-4548B7E1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C54D1-D58D-411C-974D-4BD03D28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063EF-25EE-4850-8E1E-AADB9D35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5D041-BAA3-4824-BADD-A9AB172D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413-0ED7-46D4-89F0-99093F7F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187640" y="205920"/>
            <a:ext cx="749880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81476-44F9-46D7-ADBA-AF39AF99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48334-3960-4115-BD30-9C99F0B6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ED5AE-5868-400D-AAB2-A11E3E86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E542A-B825-43B5-9E7D-35EC287E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32103-4453-491A-9A18-43FAA212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121A3-A97F-4EEC-9F7A-9C4E1552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71916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104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18728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71916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104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A2972-6C6A-49BB-9D43-276F1E4F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0" r="0" b="30131"/>
          <a:stretch/>
        </p:blipFill>
        <p:spPr>
          <a:xfrm>
            <a:off x="0" y="1549800"/>
            <a:ext cx="9143640" cy="3593160"/>
          </a:xfrm>
          <a:prstGeom prst="rect">
            <a:avLst/>
          </a:prstGeom>
          <a:ln w="0">
            <a:noFill/>
          </a:ln>
        </p:spPr>
      </p:pic>
      <p:pic>
        <p:nvPicPr>
          <p:cNvPr id="1" name="图片 7" descr=""/>
          <p:cNvPicPr/>
          <p:nvPr/>
        </p:nvPicPr>
        <p:blipFill>
          <a:blip r:embed="rId3"/>
          <a:srcRect l="0" t="0" r="0" b="85550"/>
          <a:stretch/>
        </p:blipFill>
        <p:spPr>
          <a:xfrm>
            <a:off x="2520" y="0"/>
            <a:ext cx="9143640" cy="2292480"/>
          </a:xfrm>
          <a:prstGeom prst="rect">
            <a:avLst/>
          </a:prstGeom>
          <a:ln w="0">
            <a:noFill/>
          </a:ln>
        </p:spPr>
      </p:pic>
      <p:sp>
        <p:nvSpPr>
          <p:cNvPr id="2" name="圆角矩形 8"/>
          <p:cNvSpPr/>
          <p:nvPr/>
        </p:nvSpPr>
        <p:spPr>
          <a:xfrm>
            <a:off x="290160" y="771480"/>
            <a:ext cx="8568720" cy="4176000"/>
          </a:xfrm>
          <a:prstGeom prst="roundRect">
            <a:avLst>
              <a:gd name="adj" fmla="val 4046"/>
            </a:avLst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0000">
                  <a:alpha val="80000"/>
                </a:srgbClr>
              </a:gs>
            </a:gsLst>
            <a:lin ang="16200000"/>
          </a:gradFill>
          <a:ln>
            <a:solidFill>
              <a:srgbClr val="f2f2f2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3" name="图片 6" descr=""/>
          <p:cNvPicPr/>
          <p:nvPr/>
        </p:nvPicPr>
        <p:blipFill>
          <a:blip r:embed="rId4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4" name="矩形 7"/>
          <p:cNvSpPr/>
          <p:nvPr/>
        </p:nvSpPr>
        <p:spPr>
          <a:xfrm>
            <a:off x="0" y="3363840"/>
            <a:ext cx="9143640" cy="1779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5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cxnSp>
        <p:nvCxnSpPr>
          <p:cNvPr id="5" name="直接连接符 9"/>
          <p:cNvCxnSpPr/>
          <p:nvPr/>
        </p:nvCxnSpPr>
        <p:spPr>
          <a:xfrm>
            <a:off x="0" y="3795840"/>
            <a:ext cx="9144360" cy="360"/>
          </a:xfrm>
          <a:prstGeom prst="straightConnector1">
            <a:avLst/>
          </a:prstGeom>
          <a:ln w="38100">
            <a:solidFill>
              <a:srgbClr val="f2f2f2"/>
            </a:solidFill>
            <a:round/>
          </a:ln>
        </p:spPr>
      </p:cxnSp>
      <p:sp>
        <p:nvSpPr>
          <p:cNvPr id="6" name="矩形 15"/>
          <p:cNvSpPr/>
          <p:nvPr/>
        </p:nvSpPr>
        <p:spPr>
          <a:xfrm>
            <a:off x="647640" y="3844080"/>
            <a:ext cx="7848360" cy="752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bfbfb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colorTemperature colorTemp="7200"/>
                    </a14:imgEffect>
                  </a14:imgLayer>
                </a14:imgProps>
              </a:ext>
            </a:extLst>
          </a:blip>
          <a:srcRect l="0" t="49850" r="0" b="0"/>
          <a:stretch/>
        </p:blipFill>
        <p:spPr>
          <a:xfrm>
            <a:off x="944640" y="3867840"/>
            <a:ext cx="7254360" cy="3063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795840"/>
            <a:ext cx="77720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cfb"/>
                </a:solidFill>
                <a:latin typeface="Impact"/>
              </a:rPr>
              <a:t>单击此处编辑母版标题样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7EB3F3-390F-48C2-9932-DB8A45F0CF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6" descr=""/>
          <p:cNvPicPr/>
          <p:nvPr/>
        </p:nvPicPr>
        <p:blipFill>
          <a:blip r:embed="rId2"/>
          <a:srcRect l="0" t="0" r="0" b="30131"/>
          <a:stretch/>
        </p:blipFill>
        <p:spPr>
          <a:xfrm>
            <a:off x="0" y="1549800"/>
            <a:ext cx="9143640" cy="35931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7" descr=""/>
          <p:cNvPicPr/>
          <p:nvPr/>
        </p:nvPicPr>
        <p:blipFill>
          <a:blip r:embed="rId3"/>
          <a:srcRect l="0" t="0" r="0" b="85550"/>
          <a:stretch/>
        </p:blipFill>
        <p:spPr>
          <a:xfrm>
            <a:off x="2520" y="0"/>
            <a:ext cx="9143640" cy="2292480"/>
          </a:xfrm>
          <a:prstGeom prst="rect">
            <a:avLst/>
          </a:prstGeom>
          <a:ln w="0">
            <a:noFill/>
          </a:ln>
        </p:spPr>
      </p:pic>
      <p:sp>
        <p:nvSpPr>
          <p:cNvPr id="51" name="圆角矩形 8"/>
          <p:cNvSpPr/>
          <p:nvPr/>
        </p:nvSpPr>
        <p:spPr>
          <a:xfrm>
            <a:off x="290160" y="771480"/>
            <a:ext cx="8568720" cy="4176000"/>
          </a:xfrm>
          <a:prstGeom prst="roundRect">
            <a:avLst>
              <a:gd name="adj" fmla="val 4046"/>
            </a:avLst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0000">
                  <a:alpha val="80000"/>
                </a:srgbClr>
              </a:gs>
            </a:gsLst>
            <a:lin ang="16200000"/>
          </a:gradFill>
          <a:ln>
            <a:solidFill>
              <a:srgbClr val="f2f2f2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cfb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4"/>
              </a:buBlip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单击此处编辑母版文本样式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第二级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•"/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第三级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ffffff"/>
              </a:buClr>
              <a:buFont typeface="Arial"/>
              <a:buChar char="–"/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第四级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ffffff"/>
              </a:buClr>
              <a:buFont typeface="Arial"/>
              <a:buChar char="»"/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第五级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FDEC7E-F221-4792-B747-031186D2A3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6" descr=""/>
          <p:cNvPicPr/>
          <p:nvPr/>
        </p:nvPicPr>
        <p:blipFill>
          <a:blip r:embed="rId2"/>
          <a:srcRect l="0" t="0" r="0" b="30131"/>
          <a:stretch/>
        </p:blipFill>
        <p:spPr>
          <a:xfrm>
            <a:off x="0" y="1549800"/>
            <a:ext cx="9143640" cy="35931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7" descr=""/>
          <p:cNvPicPr/>
          <p:nvPr/>
        </p:nvPicPr>
        <p:blipFill>
          <a:blip r:embed="rId3"/>
          <a:srcRect l="0" t="0" r="0" b="85550"/>
          <a:stretch/>
        </p:blipFill>
        <p:spPr>
          <a:xfrm>
            <a:off x="2520" y="0"/>
            <a:ext cx="9143640" cy="2292480"/>
          </a:xfrm>
          <a:prstGeom prst="rect">
            <a:avLst/>
          </a:prstGeom>
          <a:ln w="0">
            <a:noFill/>
          </a:ln>
        </p:spPr>
      </p:pic>
      <p:sp>
        <p:nvSpPr>
          <p:cNvPr id="95" name="圆角矩形 8" hidden="1"/>
          <p:cNvSpPr/>
          <p:nvPr/>
        </p:nvSpPr>
        <p:spPr>
          <a:xfrm>
            <a:off x="290160" y="771480"/>
            <a:ext cx="8568720" cy="4176000"/>
          </a:xfrm>
          <a:prstGeom prst="roundRect">
            <a:avLst>
              <a:gd name="adj" fmla="val 4046"/>
            </a:avLst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0000">
                  <a:alpha val="80000"/>
                </a:srgbClr>
              </a:gs>
            </a:gsLst>
            <a:lin ang="16200000"/>
          </a:gradFill>
          <a:ln>
            <a:solidFill>
              <a:srgbClr val="f2f2f2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96" name="图片 5" descr=""/>
          <p:cNvPicPr/>
          <p:nvPr/>
        </p:nvPicPr>
        <p:blipFill>
          <a:blip r:embed="rId4"/>
          <a:srcRect l="0" t="0" r="0" b="30131"/>
          <a:stretch/>
        </p:blipFill>
        <p:spPr>
          <a:xfrm>
            <a:off x="0" y="1549800"/>
            <a:ext cx="9143640" cy="35931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6" descr=""/>
          <p:cNvPicPr/>
          <p:nvPr/>
        </p:nvPicPr>
        <p:blipFill>
          <a:blip r:embed="rId5"/>
          <a:srcRect l="0" t="0" r="0" b="85550"/>
          <a:stretch/>
        </p:blipFill>
        <p:spPr>
          <a:xfrm>
            <a:off x="2520" y="0"/>
            <a:ext cx="9143640" cy="2292480"/>
          </a:xfrm>
          <a:prstGeom prst="rect">
            <a:avLst/>
          </a:prstGeom>
          <a:ln w="0">
            <a:noFill/>
          </a:ln>
        </p:spPr>
      </p:pic>
      <p:sp>
        <p:nvSpPr>
          <p:cNvPr id="98" name="矩形 7"/>
          <p:cNvSpPr/>
          <p:nvPr/>
        </p:nvSpPr>
        <p:spPr>
          <a:xfrm>
            <a:off x="2520" y="0"/>
            <a:ext cx="9141120" cy="514332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90196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849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cfb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8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9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809CB2-5B82-49D4-8287-566C26487E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647640" y="866880"/>
            <a:ext cx="7848360" cy="62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bfbfb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6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colorTemperature colorTemp="7200"/>
                    </a14:imgEffect>
                  </a14:imgLayer>
                </a14:imgProps>
              </a:ext>
            </a:extLst>
          </a:blip>
          <a:srcRect l="0" t="49850" r="0" b="0"/>
          <a:stretch/>
        </p:blipFill>
        <p:spPr>
          <a:xfrm>
            <a:off x="944640" y="891000"/>
            <a:ext cx="7254360" cy="2552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68360" y="1019160"/>
            <a:ext cx="8206920" cy="36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7"/>
              </a:buBlip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单击此处编辑母版文本样式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第二级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•"/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第三级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ffffff"/>
              </a:buClr>
              <a:buFont typeface="Arial"/>
              <a:buChar char="–"/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第四级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ffffff"/>
              </a:buClr>
              <a:buFont typeface="Arial"/>
              <a:buChar char="»"/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第五级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6" descr=""/>
          <p:cNvPicPr/>
          <p:nvPr/>
        </p:nvPicPr>
        <p:blipFill>
          <a:blip r:embed="rId2"/>
          <a:srcRect l="0" t="0" r="0" b="30131"/>
          <a:stretch/>
        </p:blipFill>
        <p:spPr>
          <a:xfrm>
            <a:off x="0" y="1549800"/>
            <a:ext cx="9143640" cy="359316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7" descr=""/>
          <p:cNvPicPr/>
          <p:nvPr/>
        </p:nvPicPr>
        <p:blipFill>
          <a:blip r:embed="rId3"/>
          <a:srcRect l="0" t="0" r="0" b="85550"/>
          <a:stretch/>
        </p:blipFill>
        <p:spPr>
          <a:xfrm>
            <a:off x="2520" y="0"/>
            <a:ext cx="9143640" cy="2292480"/>
          </a:xfrm>
          <a:prstGeom prst="rect">
            <a:avLst/>
          </a:prstGeom>
          <a:ln w="0">
            <a:noFill/>
          </a:ln>
        </p:spPr>
      </p:pic>
      <p:sp>
        <p:nvSpPr>
          <p:cNvPr id="144" name="圆角矩形 8" hidden="1"/>
          <p:cNvSpPr/>
          <p:nvPr/>
        </p:nvSpPr>
        <p:spPr>
          <a:xfrm>
            <a:off x="290160" y="771480"/>
            <a:ext cx="8568720" cy="4176000"/>
          </a:xfrm>
          <a:prstGeom prst="roundRect">
            <a:avLst>
              <a:gd name="adj" fmla="val 4046"/>
            </a:avLst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0000">
                  <a:alpha val="80000"/>
                </a:srgbClr>
              </a:gs>
            </a:gsLst>
            <a:lin ang="16200000"/>
          </a:gradFill>
          <a:ln>
            <a:solidFill>
              <a:srgbClr val="f2f2f2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145" name="图片 6" descr=""/>
          <p:cNvPicPr/>
          <p:nvPr/>
        </p:nvPicPr>
        <p:blipFill>
          <a:blip r:embed="rId4"/>
          <a:srcRect l="38211" t="29035" r="18487" b="27666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146" name="矩形 7"/>
          <p:cNvSpPr/>
          <p:nvPr/>
        </p:nvSpPr>
        <p:spPr>
          <a:xfrm>
            <a:off x="0" y="0"/>
            <a:ext cx="9143640" cy="5143320"/>
          </a:xfrm>
          <a:prstGeom prst="rect">
            <a:avLst/>
          </a:prstGeom>
          <a:solidFill>
            <a:srgbClr val="000000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147" name="图片 5" descr=""/>
          <p:cNvPicPr/>
          <p:nvPr/>
        </p:nvPicPr>
        <p:blipFill>
          <a:blip r:embed="rId5"/>
          <a:srcRect l="25765" t="0" r="65991" b="0"/>
          <a:stretch/>
        </p:blipFill>
        <p:spPr>
          <a:xfrm>
            <a:off x="179640" y="0"/>
            <a:ext cx="752760" cy="5143320"/>
          </a:xfrm>
          <a:prstGeom prst="rect">
            <a:avLst/>
          </a:prstGeom>
          <a:ln w="0">
            <a:noFill/>
          </a:ln>
          <a:effectLst>
            <a:innerShdw blurRad="63500" dir="10800000" dist="50800">
              <a:srgbClr val="000000">
                <a:alpha val="75000"/>
              </a:srgbClr>
            </a:innerShdw>
          </a:effectLst>
        </p:spPr>
      </p:pic>
      <p:cxnSp>
        <p:nvCxnSpPr>
          <p:cNvPr id="148" name="直接连接符 9"/>
          <p:cNvCxnSpPr/>
          <p:nvPr/>
        </p:nvCxnSpPr>
        <p:spPr>
          <a:xfrm>
            <a:off x="0" y="915480"/>
            <a:ext cx="8964720" cy="360"/>
          </a:xfrm>
          <a:prstGeom prst="straightConnector1">
            <a:avLst/>
          </a:prstGeom>
          <a:ln w="38100">
            <a:solidFill>
              <a:srgbClr val="ffdabf">
                <a:alpha val="50000"/>
              </a:srgbClr>
            </a:solidFill>
            <a:round/>
          </a:ln>
        </p:spPr>
      </p:cxn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2400" y="58320"/>
            <a:ext cx="77540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cfb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11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12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B02559-BF25-4F7E-9DB5-EC27C8448E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body"/>
          </p:nvPr>
        </p:nvSpPr>
        <p:spPr>
          <a:xfrm>
            <a:off x="932040" y="987480"/>
            <a:ext cx="7743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6"/>
              </a:buBlip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单击此处编辑母版文本样式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第二级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•"/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第三级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ffffff"/>
              </a:buClr>
              <a:buFont typeface="Arial"/>
              <a:buChar char="–"/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第四级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ffffff"/>
              </a:buClr>
              <a:buFont typeface="Arial"/>
              <a:buChar char="»"/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第五级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6" descr=""/>
          <p:cNvPicPr/>
          <p:nvPr/>
        </p:nvPicPr>
        <p:blipFill>
          <a:blip r:embed="rId2"/>
          <a:srcRect l="0" t="0" r="0" b="30131"/>
          <a:stretch/>
        </p:blipFill>
        <p:spPr>
          <a:xfrm>
            <a:off x="0" y="1549800"/>
            <a:ext cx="9143640" cy="359316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7" descr=""/>
          <p:cNvPicPr/>
          <p:nvPr/>
        </p:nvPicPr>
        <p:blipFill>
          <a:blip r:embed="rId3"/>
          <a:srcRect l="0" t="0" r="0" b="85550"/>
          <a:stretch/>
        </p:blipFill>
        <p:spPr>
          <a:xfrm>
            <a:off x="2520" y="0"/>
            <a:ext cx="9143640" cy="2292480"/>
          </a:xfrm>
          <a:prstGeom prst="rect">
            <a:avLst/>
          </a:prstGeom>
          <a:ln w="0">
            <a:noFill/>
          </a:ln>
        </p:spPr>
      </p:pic>
      <p:sp>
        <p:nvSpPr>
          <p:cNvPr id="192" name="圆角矩形 8" hidden="1"/>
          <p:cNvSpPr/>
          <p:nvPr/>
        </p:nvSpPr>
        <p:spPr>
          <a:xfrm>
            <a:off x="290160" y="771480"/>
            <a:ext cx="8568720" cy="4176000"/>
          </a:xfrm>
          <a:prstGeom prst="roundRect">
            <a:avLst>
              <a:gd name="adj" fmla="val 4046"/>
            </a:avLst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0000">
                  <a:alpha val="80000"/>
                </a:srgbClr>
              </a:gs>
            </a:gsLst>
            <a:lin ang="16200000"/>
          </a:gradFill>
          <a:ln>
            <a:solidFill>
              <a:srgbClr val="f2f2f2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193" name="图片 5" descr=""/>
          <p:cNvPicPr/>
          <p:nvPr/>
        </p:nvPicPr>
        <p:blipFill>
          <a:blip r:embed="rId4"/>
          <a:srcRect l="0" t="0" r="0" b="30131"/>
          <a:stretch/>
        </p:blipFill>
        <p:spPr>
          <a:xfrm>
            <a:off x="0" y="1549800"/>
            <a:ext cx="9143640" cy="359316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6" descr=""/>
          <p:cNvPicPr/>
          <p:nvPr/>
        </p:nvPicPr>
        <p:blipFill>
          <a:blip r:embed="rId5"/>
          <a:srcRect l="0" t="0" r="0" b="85550"/>
          <a:stretch/>
        </p:blipFill>
        <p:spPr>
          <a:xfrm>
            <a:off x="2520" y="0"/>
            <a:ext cx="9143640" cy="2292480"/>
          </a:xfrm>
          <a:prstGeom prst="rect">
            <a:avLst/>
          </a:prstGeom>
          <a:ln w="0">
            <a:noFill/>
          </a:ln>
        </p:spPr>
      </p:pic>
      <p:sp>
        <p:nvSpPr>
          <p:cNvPr id="195" name="矩形 7"/>
          <p:cNvSpPr/>
          <p:nvPr/>
        </p:nvSpPr>
        <p:spPr>
          <a:xfrm>
            <a:off x="2520" y="0"/>
            <a:ext cx="9141120" cy="5142960"/>
          </a:xfrm>
          <a:prstGeom prst="rect">
            <a:avLst/>
          </a:prstGeom>
          <a:gradFill rotWithShape="0">
            <a:gsLst>
              <a:gs pos="60000">
                <a:srgbClr val="000000"/>
              </a:gs>
              <a:gs pos="100000">
                <a:srgbClr val="000000">
                  <a:alpha val="1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cfb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ftr" idx="14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5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63A0EC-5579-498C-994D-D779B83A12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body"/>
          </p:nvPr>
        </p:nvSpPr>
        <p:spPr>
          <a:xfrm>
            <a:off x="468360" y="1146240"/>
            <a:ext cx="8206920" cy="35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6"/>
              </a:buBlip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单击此处编辑母版文本样式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第二级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•"/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第三级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ffffff"/>
              </a:buClr>
              <a:buFont typeface="Arial"/>
              <a:buChar char="–"/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第四级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ffffff"/>
              </a:buClr>
              <a:buFont typeface="Arial"/>
              <a:buChar char="»"/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第五级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图片 6" descr=""/>
          <p:cNvPicPr/>
          <p:nvPr/>
        </p:nvPicPr>
        <p:blipFill>
          <a:blip r:embed="rId2"/>
          <a:srcRect l="0" t="0" r="0" b="30131"/>
          <a:stretch/>
        </p:blipFill>
        <p:spPr>
          <a:xfrm>
            <a:off x="0" y="1549800"/>
            <a:ext cx="9143640" cy="359316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7" descr=""/>
          <p:cNvPicPr/>
          <p:nvPr/>
        </p:nvPicPr>
        <p:blipFill>
          <a:blip r:embed="rId3"/>
          <a:srcRect l="0" t="0" r="0" b="85550"/>
          <a:stretch/>
        </p:blipFill>
        <p:spPr>
          <a:xfrm>
            <a:off x="2520" y="0"/>
            <a:ext cx="9143640" cy="2292480"/>
          </a:xfrm>
          <a:prstGeom prst="rect">
            <a:avLst/>
          </a:prstGeom>
          <a:ln w="0">
            <a:noFill/>
          </a:ln>
        </p:spPr>
      </p:pic>
      <p:sp>
        <p:nvSpPr>
          <p:cNvPr id="239" name="圆角矩形 8" hidden="1"/>
          <p:cNvSpPr/>
          <p:nvPr/>
        </p:nvSpPr>
        <p:spPr>
          <a:xfrm>
            <a:off x="290160" y="771480"/>
            <a:ext cx="8568720" cy="4176000"/>
          </a:xfrm>
          <a:prstGeom prst="roundRect">
            <a:avLst>
              <a:gd name="adj" fmla="val 4046"/>
            </a:avLst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0000">
                  <a:alpha val="80000"/>
                </a:srgbClr>
              </a:gs>
            </a:gsLst>
            <a:lin ang="16200000"/>
          </a:gradFill>
          <a:ln>
            <a:solidFill>
              <a:srgbClr val="f2f2f2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40" name="矩形 10"/>
          <p:cNvSpPr/>
          <p:nvPr/>
        </p:nvSpPr>
        <p:spPr>
          <a:xfrm>
            <a:off x="0" y="3593520"/>
            <a:ext cx="9143640" cy="1549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innerShdw blurRad="63500" dir="16200000" dist="50800">
              <a:schemeClr val="bg1">
                <a:alpha val="50000"/>
              </a:scheme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241" name="图片 5" descr=""/>
          <p:cNvPicPr/>
          <p:nvPr/>
        </p:nvPicPr>
        <p:blipFill>
          <a:blip r:embed="rId4"/>
          <a:srcRect l="0" t="0" r="0" b="30131"/>
          <a:stretch/>
        </p:blipFill>
        <p:spPr>
          <a:xfrm>
            <a:off x="0" y="0"/>
            <a:ext cx="9143640" cy="35931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6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cfb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6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7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8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1FA550-9893-408E-9089-B3A2DAB9AD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5"/>
          <a:srcRect l="1612" t="0" r="1631" b="0"/>
          <a:stretch/>
        </p:blipFill>
        <p:spPr>
          <a:xfrm>
            <a:off x="0" y="3489480"/>
            <a:ext cx="9143640" cy="2077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图片 6" descr=""/>
          <p:cNvPicPr/>
          <p:nvPr/>
        </p:nvPicPr>
        <p:blipFill>
          <a:blip r:embed="rId2"/>
          <a:srcRect l="0" t="0" r="0" b="30131"/>
          <a:stretch/>
        </p:blipFill>
        <p:spPr>
          <a:xfrm>
            <a:off x="0" y="1549800"/>
            <a:ext cx="9143640" cy="359316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7" descr=""/>
          <p:cNvPicPr/>
          <p:nvPr/>
        </p:nvPicPr>
        <p:blipFill>
          <a:blip r:embed="rId3"/>
          <a:srcRect l="0" t="0" r="0" b="85550"/>
          <a:stretch/>
        </p:blipFill>
        <p:spPr>
          <a:xfrm>
            <a:off x="2520" y="0"/>
            <a:ext cx="9143640" cy="2292480"/>
          </a:xfrm>
          <a:prstGeom prst="rect">
            <a:avLst/>
          </a:prstGeom>
          <a:ln w="0">
            <a:noFill/>
          </a:ln>
        </p:spPr>
      </p:pic>
      <p:sp>
        <p:nvSpPr>
          <p:cNvPr id="286" name="圆角矩形 8" hidden="1"/>
          <p:cNvSpPr/>
          <p:nvPr/>
        </p:nvSpPr>
        <p:spPr>
          <a:xfrm>
            <a:off x="290160" y="771480"/>
            <a:ext cx="8568720" cy="4176000"/>
          </a:xfrm>
          <a:prstGeom prst="roundRect">
            <a:avLst>
              <a:gd name="adj" fmla="val 4046"/>
            </a:avLst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0000">
                  <a:alpha val="80000"/>
                </a:srgbClr>
              </a:gs>
            </a:gsLst>
            <a:lin ang="16200000"/>
          </a:gradFill>
          <a:ln>
            <a:solidFill>
              <a:srgbClr val="f2f2f2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287" name="图片 5" descr=""/>
          <p:cNvPicPr/>
          <p:nvPr/>
        </p:nvPicPr>
        <p:blipFill>
          <a:blip r:embed="rId4"/>
          <a:srcRect l="0" t="34931" r="0" b="49994"/>
          <a:stretch/>
        </p:blipFill>
        <p:spPr>
          <a:xfrm>
            <a:off x="0" y="0"/>
            <a:ext cx="9143640" cy="7747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9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20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21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FC5412-6640-4C7F-AD42-916FB6B40F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矩形 6"/>
          <p:cNvSpPr/>
          <p:nvPr/>
        </p:nvSpPr>
        <p:spPr>
          <a:xfrm>
            <a:off x="0" y="0"/>
            <a:ext cx="9143640" cy="774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70196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cfb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5"/>
          <a:srcRect l="1612" t="0" r="1631" b="0"/>
          <a:stretch/>
        </p:blipFill>
        <p:spPr>
          <a:xfrm>
            <a:off x="0" y="671040"/>
            <a:ext cx="9143640" cy="2077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5"/>
          <p:cNvSpPr>
            <a:spLocks noGrp="1"/>
          </p:cNvSpPr>
          <p:nvPr>
            <p:ph type="body"/>
          </p:nvPr>
        </p:nvSpPr>
        <p:spPr>
          <a:xfrm>
            <a:off x="468360" y="879480"/>
            <a:ext cx="8206920" cy="37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6"/>
              </a:buBlip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–"/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»"/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图片 6" descr=""/>
          <p:cNvPicPr/>
          <p:nvPr/>
        </p:nvPicPr>
        <p:blipFill>
          <a:blip r:embed="rId2"/>
          <a:srcRect l="0" t="0" r="0" b="30131"/>
          <a:stretch/>
        </p:blipFill>
        <p:spPr>
          <a:xfrm>
            <a:off x="0" y="1549800"/>
            <a:ext cx="9143640" cy="359316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7" descr=""/>
          <p:cNvPicPr/>
          <p:nvPr/>
        </p:nvPicPr>
        <p:blipFill>
          <a:blip r:embed="rId3"/>
          <a:srcRect l="0" t="0" r="0" b="85550"/>
          <a:stretch/>
        </p:blipFill>
        <p:spPr>
          <a:xfrm>
            <a:off x="2520" y="0"/>
            <a:ext cx="9143640" cy="2292480"/>
          </a:xfrm>
          <a:prstGeom prst="rect">
            <a:avLst/>
          </a:prstGeom>
          <a:ln w="0">
            <a:noFill/>
          </a:ln>
        </p:spPr>
      </p:pic>
      <p:sp>
        <p:nvSpPr>
          <p:cNvPr id="333" name="圆角矩形 8" hidden="1"/>
          <p:cNvSpPr/>
          <p:nvPr/>
        </p:nvSpPr>
        <p:spPr>
          <a:xfrm>
            <a:off x="290160" y="771480"/>
            <a:ext cx="8568720" cy="4176000"/>
          </a:xfrm>
          <a:prstGeom prst="roundRect">
            <a:avLst>
              <a:gd name="adj" fmla="val 4046"/>
            </a:avLst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0000">
                  <a:alpha val="80000"/>
                </a:srgbClr>
              </a:gs>
            </a:gsLst>
            <a:lin ang="16200000"/>
          </a:gradFill>
          <a:ln>
            <a:solidFill>
              <a:srgbClr val="f2f2f2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dt" idx="22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ftr" idx="23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4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9751D0-3A5C-4071-ADA0-39EFD0DCBC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图片 5" descr=""/>
          <p:cNvPicPr/>
          <p:nvPr/>
        </p:nvPicPr>
        <p:blipFill>
          <a:blip r:embed="rId4"/>
          <a:srcRect l="80290" t="0" r="9848" b="30131"/>
          <a:stretch/>
        </p:blipFill>
        <p:spPr>
          <a:xfrm>
            <a:off x="0" y="1549800"/>
            <a:ext cx="900360" cy="3593160"/>
          </a:xfrm>
          <a:prstGeom prst="rect">
            <a:avLst/>
          </a:prstGeom>
          <a:ln w="0">
            <a:noFill/>
          </a:ln>
        </p:spPr>
      </p:pic>
      <p:sp>
        <p:nvSpPr>
          <p:cNvPr id="339" name="矩形 6"/>
          <p:cNvSpPr/>
          <p:nvPr/>
        </p:nvSpPr>
        <p:spPr>
          <a:xfrm>
            <a:off x="0" y="0"/>
            <a:ext cx="886680" cy="5143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ecdf">
                  <a:alpha val="0"/>
                </a:srgbClr>
              </a:gs>
            </a:gsLst>
            <a:lin ang="5400000"/>
          </a:gradFill>
          <a:ln>
            <a:noFill/>
          </a:ln>
          <a:effectLst>
            <a:innerShdw blurRad="635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5"/>
          <a:srcRect l="43969" t="0" r="1631" b="0"/>
          <a:stretch/>
        </p:blipFill>
        <p:spPr>
          <a:xfrm rot="16200000">
            <a:off x="-1683360" y="2469240"/>
            <a:ext cx="5140800" cy="2077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6"/>
              </a:buBlip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–"/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»"/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795840"/>
            <a:ext cx="77720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cfb"/>
                </a:solidFill>
                <a:latin typeface="Impact"/>
              </a:rPr>
              <a:t>都市夜光通用</a:t>
            </a:r>
            <a:r>
              <a:rPr b="1" lang="en-US" sz="4000" spc="-1" strike="noStrike">
                <a:solidFill>
                  <a:srgbClr val="fffcfb"/>
                </a:solidFill>
                <a:latin typeface="Impact"/>
              </a:rPr>
              <a:t>PPT</a:t>
            </a:r>
            <a:r>
              <a:rPr b="1" lang="zh-CN" sz="4000" spc="-1" strike="noStrike">
                <a:solidFill>
                  <a:srgbClr val="fffcfb"/>
                </a:solidFill>
                <a:latin typeface="Impact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1600" y="4608360"/>
            <a:ext cx="640044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矩形 12"/>
          <p:cNvSpPr/>
          <p:nvPr/>
        </p:nvSpPr>
        <p:spPr>
          <a:xfrm>
            <a:off x="209160" y="487152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cfb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35480"/>
            <a:ext cx="8229240" cy="295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849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cfb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8360" y="1019160"/>
            <a:ext cx="8206920" cy="36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"/>
              </a:buBlip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2"/>
              </a:buBlip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3"/>
              </a:buBlip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32400" y="58320"/>
            <a:ext cx="77540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cfb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32040" y="987480"/>
            <a:ext cx="7743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"/>
              </a:buBlip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2"/>
              </a:buBlip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3"/>
              </a:buBlip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3200" spc="-1" strike="noStrike">
              <a:solidFill>
                <a:srgbClr val="fffcfb"/>
              </a:solidFill>
              <a:latin typeface="Impact"/>
            </a:endParaRPr>
          </a:p>
        </p:txBody>
      </p:sp>
      <p:sp>
        <p:nvSpPr>
          <p:cNvPr id="388" name="圆角矩形 1"/>
          <p:cNvSpPr/>
          <p:nvPr/>
        </p:nvSpPr>
        <p:spPr>
          <a:xfrm>
            <a:off x="1121400" y="843480"/>
            <a:ext cx="1007640" cy="35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ebebe"/>
              </a:gs>
              <a:gs pos="100000">
                <a:srgbClr val="f7f7f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dk1"/>
          </a:lnRef>
          <a:fillRef idx="3">
            <a:schemeClr val="dk1"/>
          </a:fillRef>
          <a:effectRef idx="3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89" name="圆角矩形 4"/>
          <p:cNvSpPr/>
          <p:nvPr/>
        </p:nvSpPr>
        <p:spPr>
          <a:xfrm>
            <a:off x="1113480" y="1389600"/>
            <a:ext cx="1007640" cy="35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7c0c"/>
              </a:gs>
              <a:gs pos="100000">
                <a:srgbClr val="ffa015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90" name="圆角矩形 5"/>
          <p:cNvSpPr/>
          <p:nvPr/>
        </p:nvSpPr>
        <p:spPr>
          <a:xfrm>
            <a:off x="1109520" y="1896480"/>
            <a:ext cx="1007640" cy="35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54530"/>
              </a:gs>
              <a:gs pos="100000">
                <a:srgbClr val="ac5a3e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91" name="圆角矩形 6"/>
          <p:cNvSpPr/>
          <p:nvPr/>
        </p:nvSpPr>
        <p:spPr>
          <a:xfrm>
            <a:off x="1121400" y="2391840"/>
            <a:ext cx="1007640" cy="35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6359"/>
              </a:gs>
              <a:gs pos="100000">
                <a:srgbClr val="b78174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92" name="圆角矩形 7"/>
          <p:cNvSpPr/>
          <p:nvPr/>
        </p:nvSpPr>
        <p:spPr>
          <a:xfrm>
            <a:off x="1121400" y="3939840"/>
            <a:ext cx="1007640" cy="35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1570d"/>
              </a:gs>
              <a:gs pos="100000">
                <a:srgbClr val="d1711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93" name="圆角矩形 8"/>
          <p:cNvSpPr/>
          <p:nvPr/>
        </p:nvSpPr>
        <p:spPr>
          <a:xfrm>
            <a:off x="1121400" y="3435840"/>
            <a:ext cx="1007640" cy="35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d7151"/>
              </a:gs>
              <a:gs pos="100000">
                <a:srgbClr val="a1936a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94" name="圆角矩形 9"/>
          <p:cNvSpPr/>
          <p:nvPr/>
        </p:nvSpPr>
        <p:spPr>
          <a:xfrm>
            <a:off x="1121400" y="2931840"/>
            <a:ext cx="1007640" cy="35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7147"/>
              </a:gs>
              <a:gs pos="100000">
                <a:srgbClr val="c8935d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2627640" y="846360"/>
            <a:ext cx="5688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本模板使用的配色为系统自带的“跋涉”主题，与背景图片中的都市夜景相配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图表和形状的绘制可以更多的采用三维效果，增强与背景的层次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539640" y="480852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ad1f1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6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cfb"/>
                </a:solidFill>
                <a:latin typeface="Impact"/>
              </a:rPr>
              <a:t>都市夜光模板（标准版式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cfb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360" y="879480"/>
            <a:ext cx="8206920" cy="37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"/>
              </a:buBlip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2"/>
              </a:buBlip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3"/>
              </a:buBlip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4"/>
              </a:buBlip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"/>
              </a:buBlip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本页的标题可置于页面上方并使用横向文字，也可以改为亮色置于左边黑色标题带内使用纵向文字。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自定义 6">
      <a:dk1>
        <a:srgbClr val="ffffff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自定义 6">
      <a:dk1>
        <a:srgbClr val="ffffff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自定义 6">
      <a:dk1>
        <a:srgbClr val="ffffff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​​">
  <a:themeElements>
    <a:clrScheme name="自定义 6">
      <a:dk1>
        <a:srgbClr val="ffffff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​​">
  <a:themeElements>
    <a:clrScheme name="自定义 6">
      <a:dk1>
        <a:srgbClr val="ffffff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主题​​">
  <a:themeElements>
    <a:clrScheme name="自定义 6">
      <a:dk1>
        <a:srgbClr val="ffffff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主题​​">
  <a:themeElements>
    <a:clrScheme name="自定义 6">
      <a:dk1>
        <a:srgbClr val="ffffff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主题​​">
  <a:themeElements>
    <a:clrScheme name="自定义 6">
      <a:dk1>
        <a:srgbClr val="ffffff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  <Words>145</Words>
  <Paragraphs>23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2-06-27T07:36:29Z</dcterms:created>
  <dc:creator>果因PPT工作室</dc:creator>
  <dc:description/>
  <cp:keywords>XS-普屏 4：3 SC-多彩色 BG-浅色 DH-静态</cp:keywords>
  <dc:language>en-US</dc:language>
  <cp:lastModifiedBy>王玉清</cp:lastModifiedBy>
  <dcterms:modified xsi:type="dcterms:W3CDTF">2016-02-24T04:00:56Z</dcterms:modified>
  <cp:revision>22</cp:revision>
  <dc:subject>TP-地产物业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8</vt:r8>
  </property>
</Properties>
</file>