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CE714-5A25-4C13-8EB9-031AD175BBFF}" type="slidenum">
              <a:rPr b="0" lang="de-DE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4BF12-8884-4536-8333-3C85BFC410C3}" type="slidenum">
              <a:rPr b="0" lang="de-DE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887640" y="869004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E95854A-AB91-430F-B8F8-D43CBC45061F}" type="slidenum">
              <a:rPr b="0" lang="en-GB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F5676-13F1-4F4E-A2B3-FE6F469D5031}" type="slidenum">
              <a:rPr b="0" lang="de-DE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99520" y="22032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9520" y="22032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99520" y="22032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7736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5988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520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7736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5988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9520" y="22032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99520" y="22032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99520" y="22032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99520" y="22032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99520" y="220320"/>
            <a:ext cx="85201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99520" y="22032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99520" y="22032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99520" y="22032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99520" y="22032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9520" y="22032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99520" y="22032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9520" y="22032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7736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5988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9520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7736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5988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9520" y="22032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99520" y="22032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99520" y="22032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99520" y="220320"/>
            <a:ext cx="85201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9520" y="22032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9520" y="22032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99520" y="22032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746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87480" indent="-265320"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124080" y="636588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219240" y="6365880"/>
            <a:ext cx="13428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fld id="{64E67CAE-933A-40E6-8C47-E6AAE97F5FAB}" type="slidenum">
              <a:rPr b="0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299520" y="22032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746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87480" indent="-265320"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299520" y="22032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63640" y="1160280"/>
            <a:ext cx="748512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Arial"/>
              </a:rPr>
              <a:t>Insert the title of your </a:t>
            </a:r>
            <a:br>
              <a:rPr sz="3200"/>
            </a:br>
            <a:r>
              <a:rPr b="1" sz="3200" spc="-1" strike="noStrike">
                <a:solidFill>
                  <a:srgbClr val="ffffff"/>
                </a:solidFill>
                <a:latin typeface="Arial"/>
              </a:rPr>
              <a:t>presentation he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863640" y="2195640"/>
            <a:ext cx="7510320" cy="799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Arial"/>
              </a:rPr>
              <a:t>Enter your subtitle or main author‘s nam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"/>
          <p:cNvSpPr/>
          <p:nvPr/>
        </p:nvSpPr>
        <p:spPr>
          <a:xfrm>
            <a:off x="-187200" y="2995560"/>
            <a:ext cx="961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底纹灰色质感简约商务通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The text demonstrates how your own text will look when </a:t>
            </a:r>
            <a:br>
              <a:rPr sz="2000"/>
            </a:br>
            <a:r>
              <a:rPr b="1" sz="2000" spc="-1" strike="noStrike">
                <a:solidFill>
                  <a:srgbClr val="000000"/>
                </a:solidFill>
                <a:latin typeface="Arial"/>
              </a:rPr>
              <a:t>you replace the placeholder with your own t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This is a placeholder text. This text can be replaced with </a:t>
            </a:r>
            <a:br>
              <a:rPr sz="2000"/>
            </a:br>
            <a:r>
              <a:rPr b="1" sz="2000" spc="-1" strike="noStrike">
                <a:solidFill>
                  <a:srgbClr val="000000"/>
                </a:solidFill>
                <a:latin typeface="Arial"/>
              </a:rPr>
              <a:t>your own tex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If you don’t want to use the style and size of the fonts as used in this placeholder it is possible to replace it by selecting different op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For replacing the placeholder text you need to click on </a:t>
            </a:r>
            <a:br>
              <a:rPr sz="1800"/>
            </a:br>
            <a:r>
              <a:rPr b="0" sz="1800" spc="-1" strike="noStrike">
                <a:solidFill>
                  <a:srgbClr val="000000"/>
                </a:solidFill>
                <a:latin typeface="Arial"/>
              </a:rPr>
              <a:t>the placeholder text and insert your own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The text that you insert will retain the same style </a:t>
            </a:r>
            <a:br>
              <a:rPr sz="1800"/>
            </a:br>
            <a:r>
              <a:rPr b="0" sz="1800" spc="-1" strike="noStrike">
                <a:solidFill>
                  <a:srgbClr val="000000"/>
                </a:solidFill>
                <a:latin typeface="Arial"/>
              </a:rPr>
              <a:t>and format as the placeholder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299520" y="22032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600" spc="-1" strike="noStrike">
                <a:solidFill>
                  <a:srgbClr val="ffffff"/>
                </a:solidFill>
                <a:latin typeface="Arial"/>
              </a:rPr>
              <a:t>Sample Slide </a:t>
            </a:r>
            <a:r>
              <a:rPr b="1" sz="26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1" sz="2600" spc="-1" strike="noStrike">
                <a:solidFill>
                  <a:srgbClr val="ffffff"/>
                </a:solidFill>
                <a:latin typeface="Arial"/>
              </a:rPr>
              <a:t> Bullet Point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23:54:21Z</dcterms:created>
  <dc:creator/>
  <dc:description>PresentationLoad.com</dc:description>
  <dc:language>en-US</dc:language>
  <cp:lastModifiedBy>王玉清</cp:lastModifiedBy>
  <dcterms:modified xsi:type="dcterms:W3CDTF">2016-03-02T10:31:29Z</dcterms:modified>
  <cp:revision>75</cp:revision>
  <dc:subject/>
  <dc:title>PowerPoint Template</dc:title>
</cp:coreProperties>
</file>