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98E-8770-4F86-9FA6-B3EE3B1D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2C4-AE39-4AD6-85A3-79590ED7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CC4-6D65-45D4-81F8-92EC8D66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5C0E-74D4-4D89-973A-A32405D0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B3D-F68F-42A7-ABC8-224A85EE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29D-B14B-47AE-8505-554C5A59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507-5281-4A93-9C68-6701908E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E84-DF1A-48F8-A7ED-2EF27632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BA1-5993-48DC-BDC6-D7CDE0C2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A93-CF49-4E64-A252-C5BF0F7B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7C5-AFF8-44FF-9AFE-245BFDDC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9D4-AE6A-473D-9334-03B5421C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0930-3D91-4445-AD8D-6C6ED07D7F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hyperlink" Target="http://www.eeppt.com/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357880" y="657216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2207520" y="1698480"/>
            <a:ext cx="51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冠军金牌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1"/>
          <p:cNvSpPr/>
          <p:nvPr/>
        </p:nvSpPr>
        <p:spPr>
          <a:xfrm>
            <a:off x="3786120" y="1643040"/>
            <a:ext cx="3578400" cy="1057320"/>
          </a:xfrm>
          <a:prstGeom prst="rect">
            <a:avLst/>
          </a:prstGeom>
          <a:solidFill>
            <a:srgbClr val="3081c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9"/>
          <p:cNvSpPr/>
          <p:nvPr/>
        </p:nvSpPr>
        <p:spPr>
          <a:xfrm>
            <a:off x="2182680" y="1643040"/>
            <a:ext cx="1764000" cy="1057320"/>
          </a:xfrm>
          <a:custGeom>
            <a:avLst/>
            <a:gdLst>
              <a:gd name="textAreaLeft" fmla="*/ 0 w 1764000"/>
              <a:gd name="textAreaRight" fmla="*/ 1764360 w 176400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801608" h="1080120">
                <a:moveTo>
                  <a:pt x="566538" y="144016"/>
                </a:moveTo>
                <a:cubicBezTo>
                  <a:pt x="347809" y="144016"/>
                  <a:pt x="170494" y="321331"/>
                  <a:pt x="170494" y="540060"/>
                </a:cubicBezTo>
                <a:cubicBezTo>
                  <a:pt x="170494" y="758789"/>
                  <a:pt x="347809" y="936104"/>
                  <a:pt x="566538" y="936104"/>
                </a:cubicBezTo>
                <a:cubicBezTo>
                  <a:pt x="785267" y="936104"/>
                  <a:pt x="962582" y="758789"/>
                  <a:pt x="962582" y="540060"/>
                </a:cubicBezTo>
                <a:cubicBezTo>
                  <a:pt x="962582" y="321331"/>
                  <a:pt x="785267" y="144016"/>
                  <a:pt x="566538" y="144016"/>
                </a:cubicBezTo>
                <a:close/>
                <a:moveTo>
                  <a:pt x="0" y="0"/>
                </a:moveTo>
                <a:lnTo>
                  <a:pt x="1649800" y="0"/>
                </a:lnTo>
                <a:lnTo>
                  <a:pt x="1649800" y="376201"/>
                </a:lnTo>
                <a:lnTo>
                  <a:pt x="1801608" y="550380"/>
                </a:lnTo>
                <a:lnTo>
                  <a:pt x="1649800" y="703920"/>
                </a:lnTo>
                <a:lnTo>
                  <a:pt x="1649800" y="1080120"/>
                </a:lnTo>
                <a:lnTo>
                  <a:pt x="0" y="1080120"/>
                </a:lnTo>
                <a:lnTo>
                  <a:pt x="0" y="0"/>
                </a:lnTo>
                <a:close/>
              </a:path>
            </a:pathLst>
          </a:custGeom>
          <a:solidFill>
            <a:srgbClr val="d6302e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3"/>
          <p:cNvSpPr/>
          <p:nvPr/>
        </p:nvSpPr>
        <p:spPr>
          <a:xfrm>
            <a:off x="5286240" y="1865160"/>
            <a:ext cx="27000" cy="6145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50000">
                <a:srgbClr val="f2f2f2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2"/>
          <p:cNvSpPr/>
          <p:nvPr/>
        </p:nvSpPr>
        <p:spPr>
          <a:xfrm>
            <a:off x="3946680" y="2006640"/>
            <a:ext cx="13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opperplate Gothic Bold"/>
                <a:ea typeface="微软雅黑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4"/>
          <p:cNvSpPr/>
          <p:nvPr/>
        </p:nvSpPr>
        <p:spPr>
          <a:xfrm>
            <a:off x="3786120" y="2800440"/>
            <a:ext cx="3578400" cy="1057320"/>
          </a:xfrm>
          <a:prstGeom prst="rect">
            <a:avLst/>
          </a:prstGeom>
          <a:solidFill>
            <a:srgbClr val="3081c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9"/>
          <p:cNvSpPr/>
          <p:nvPr/>
        </p:nvSpPr>
        <p:spPr>
          <a:xfrm>
            <a:off x="2182680" y="2800440"/>
            <a:ext cx="1764000" cy="1057320"/>
          </a:xfrm>
          <a:custGeom>
            <a:avLst/>
            <a:gdLst>
              <a:gd name="textAreaLeft" fmla="*/ 0 w 1764000"/>
              <a:gd name="textAreaRight" fmla="*/ 1764360 w 176400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801608" h="1080120">
                <a:moveTo>
                  <a:pt x="566538" y="144016"/>
                </a:moveTo>
                <a:cubicBezTo>
                  <a:pt x="347809" y="144016"/>
                  <a:pt x="170494" y="321331"/>
                  <a:pt x="170494" y="540060"/>
                </a:cubicBezTo>
                <a:cubicBezTo>
                  <a:pt x="170494" y="758789"/>
                  <a:pt x="347809" y="936104"/>
                  <a:pt x="566538" y="936104"/>
                </a:cubicBezTo>
                <a:cubicBezTo>
                  <a:pt x="785267" y="936104"/>
                  <a:pt x="962582" y="758789"/>
                  <a:pt x="962582" y="540060"/>
                </a:cubicBezTo>
                <a:cubicBezTo>
                  <a:pt x="962582" y="321331"/>
                  <a:pt x="785267" y="144016"/>
                  <a:pt x="566538" y="144016"/>
                </a:cubicBezTo>
                <a:close/>
                <a:moveTo>
                  <a:pt x="0" y="0"/>
                </a:moveTo>
                <a:lnTo>
                  <a:pt x="1649800" y="0"/>
                </a:lnTo>
                <a:lnTo>
                  <a:pt x="1649800" y="376201"/>
                </a:lnTo>
                <a:lnTo>
                  <a:pt x="1801608" y="550380"/>
                </a:lnTo>
                <a:lnTo>
                  <a:pt x="1649800" y="703920"/>
                </a:lnTo>
                <a:lnTo>
                  <a:pt x="1649800" y="1080120"/>
                </a:lnTo>
                <a:lnTo>
                  <a:pt x="0" y="1080120"/>
                </a:lnTo>
                <a:lnTo>
                  <a:pt x="0" y="0"/>
                </a:lnTo>
                <a:close/>
              </a:path>
            </a:pathLst>
          </a:custGeom>
          <a:solidFill>
            <a:srgbClr val="d6302e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6"/>
          <p:cNvSpPr/>
          <p:nvPr/>
        </p:nvSpPr>
        <p:spPr>
          <a:xfrm>
            <a:off x="5286240" y="3021120"/>
            <a:ext cx="27000" cy="61596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50000">
                <a:srgbClr val="f2f2f2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1"/>
          <p:cNvSpPr/>
          <p:nvPr/>
        </p:nvSpPr>
        <p:spPr>
          <a:xfrm>
            <a:off x="3946680" y="3164040"/>
            <a:ext cx="13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opperplate Gothic Bold"/>
                <a:ea typeface="微软雅黑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7"/>
          <p:cNvSpPr/>
          <p:nvPr/>
        </p:nvSpPr>
        <p:spPr>
          <a:xfrm>
            <a:off x="3786120" y="3957480"/>
            <a:ext cx="3578400" cy="1057320"/>
          </a:xfrm>
          <a:prstGeom prst="rect">
            <a:avLst/>
          </a:prstGeom>
          <a:solidFill>
            <a:srgbClr val="3081c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9"/>
          <p:cNvSpPr/>
          <p:nvPr/>
        </p:nvSpPr>
        <p:spPr>
          <a:xfrm>
            <a:off x="2182680" y="3957480"/>
            <a:ext cx="1764000" cy="1057320"/>
          </a:xfrm>
          <a:custGeom>
            <a:avLst/>
            <a:gdLst>
              <a:gd name="textAreaLeft" fmla="*/ 0 w 1764000"/>
              <a:gd name="textAreaRight" fmla="*/ 1764360 w 176400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801608" h="1080120">
                <a:moveTo>
                  <a:pt x="566538" y="144016"/>
                </a:moveTo>
                <a:cubicBezTo>
                  <a:pt x="347809" y="144016"/>
                  <a:pt x="170494" y="321331"/>
                  <a:pt x="170494" y="540060"/>
                </a:cubicBezTo>
                <a:cubicBezTo>
                  <a:pt x="170494" y="758789"/>
                  <a:pt x="347809" y="936104"/>
                  <a:pt x="566538" y="936104"/>
                </a:cubicBezTo>
                <a:cubicBezTo>
                  <a:pt x="785267" y="936104"/>
                  <a:pt x="962582" y="758789"/>
                  <a:pt x="962582" y="540060"/>
                </a:cubicBezTo>
                <a:cubicBezTo>
                  <a:pt x="962582" y="321331"/>
                  <a:pt x="785267" y="144016"/>
                  <a:pt x="566538" y="144016"/>
                </a:cubicBezTo>
                <a:close/>
                <a:moveTo>
                  <a:pt x="0" y="0"/>
                </a:moveTo>
                <a:lnTo>
                  <a:pt x="1649800" y="0"/>
                </a:lnTo>
                <a:lnTo>
                  <a:pt x="1649800" y="376201"/>
                </a:lnTo>
                <a:lnTo>
                  <a:pt x="1801608" y="550380"/>
                </a:lnTo>
                <a:lnTo>
                  <a:pt x="1649800" y="703920"/>
                </a:lnTo>
                <a:lnTo>
                  <a:pt x="1649800" y="1080120"/>
                </a:lnTo>
                <a:lnTo>
                  <a:pt x="0" y="1080120"/>
                </a:lnTo>
                <a:lnTo>
                  <a:pt x="0" y="0"/>
                </a:lnTo>
                <a:close/>
              </a:path>
            </a:pathLst>
          </a:custGeom>
          <a:solidFill>
            <a:srgbClr val="d6302e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9"/>
          <p:cNvSpPr/>
          <p:nvPr/>
        </p:nvSpPr>
        <p:spPr>
          <a:xfrm>
            <a:off x="5286240" y="4178160"/>
            <a:ext cx="27000" cy="6145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50000">
                <a:srgbClr val="f2f2f2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0"/>
          <p:cNvSpPr/>
          <p:nvPr/>
        </p:nvSpPr>
        <p:spPr>
          <a:xfrm>
            <a:off x="3946680" y="4319640"/>
            <a:ext cx="13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opperplate Gothic Bold"/>
                <a:ea typeface="微软雅黑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5752080" y="200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5823360" y="422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5752080" y="314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等腰三角形 47"/>
          <p:cNvGrpSpPr/>
          <p:nvPr/>
        </p:nvGrpSpPr>
        <p:grpSpPr>
          <a:xfrm>
            <a:off x="55440" y="1865160"/>
            <a:ext cx="2840040" cy="2792520"/>
            <a:chOff x="55440" y="1865160"/>
            <a:chExt cx="2840040" cy="2792520"/>
          </a:xfrm>
        </p:grpSpPr>
        <p:pic>
          <p:nvPicPr>
            <p:cNvPr id="70" name="等腰三角形 47" descr=""/>
            <p:cNvPicPr/>
            <p:nvPr/>
          </p:nvPicPr>
          <p:blipFill>
            <a:blip r:embed="rId1"/>
            <a:stretch/>
          </p:blipFill>
          <p:spPr>
            <a:xfrm>
              <a:off x="55440" y="1865160"/>
              <a:ext cx="284004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rot="7771800">
              <a:off x="567720" y="2190240"/>
              <a:ext cx="181440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椭圆 48"/>
          <p:cNvSpPr/>
          <p:nvPr/>
        </p:nvSpPr>
        <p:spPr>
          <a:xfrm>
            <a:off x="579600" y="2376360"/>
            <a:ext cx="1565280" cy="1554120"/>
          </a:xfrm>
          <a:custGeom>
            <a:avLst/>
            <a:gdLst/>
            <a:ahLst/>
            <a:rect l="l" t="t" r="r" b="b"/>
            <a:pathLst>
              <a:path w="1440160" h="1429374">
                <a:moveTo>
                  <a:pt x="600143" y="0"/>
                </a:moveTo>
                <a:lnTo>
                  <a:pt x="1418911" y="542848"/>
                </a:lnTo>
                <a:cubicBezTo>
                  <a:pt x="1433434" y="595976"/>
                  <a:pt x="1440160" y="651849"/>
                  <a:pt x="1440160" y="709294"/>
                </a:cubicBezTo>
                <a:cubicBezTo>
                  <a:pt x="1440160" y="1106983"/>
                  <a:pt x="1117769" y="1429374"/>
                  <a:pt x="720080" y="1429374"/>
                </a:cubicBezTo>
                <a:cubicBezTo>
                  <a:pt x="322391" y="1429374"/>
                  <a:pt x="0" y="1106983"/>
                  <a:pt x="0" y="709294"/>
                </a:cubicBezTo>
                <a:cubicBezTo>
                  <a:pt x="0" y="352516"/>
                  <a:pt x="259472" y="56341"/>
                  <a:pt x="6001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48"/>
          <p:cNvSpPr/>
          <p:nvPr/>
        </p:nvSpPr>
        <p:spPr>
          <a:xfrm rot="20473800">
            <a:off x="1287360" y="2244600"/>
            <a:ext cx="701640" cy="830520"/>
          </a:xfrm>
          <a:custGeom>
            <a:avLst/>
            <a:gdLst/>
            <a:ahLst/>
            <a:rect l="l" t="t" r="r" b="b"/>
            <a:pathLst>
              <a:path w="865829" h="1022492">
                <a:moveTo>
                  <a:pt x="69377" y="0"/>
                </a:moveTo>
                <a:cubicBezTo>
                  <a:pt x="46542" y="68499"/>
                  <a:pt x="35912" y="141754"/>
                  <a:pt x="35912" y="217490"/>
                </a:cubicBezTo>
                <a:cubicBezTo>
                  <a:pt x="35912" y="654948"/>
                  <a:pt x="390542" y="1009578"/>
                  <a:pt x="828000" y="1009578"/>
                </a:cubicBezTo>
                <a:cubicBezTo>
                  <a:pt x="840698" y="1009578"/>
                  <a:pt x="853325" y="1009279"/>
                  <a:pt x="865829" y="1007668"/>
                </a:cubicBezTo>
                <a:cubicBezTo>
                  <a:pt x="818768" y="1017409"/>
                  <a:pt x="770018" y="1022492"/>
                  <a:pt x="720080" y="1022492"/>
                </a:cubicBezTo>
                <a:cubicBezTo>
                  <a:pt x="322391" y="1022492"/>
                  <a:pt x="0" y="700101"/>
                  <a:pt x="0" y="302412"/>
                </a:cubicBezTo>
                <a:cubicBezTo>
                  <a:pt x="0" y="193949"/>
                  <a:pt x="23981" y="91087"/>
                  <a:pt x="69377" y="0"/>
                </a:cubicBezTo>
                <a:close/>
              </a:path>
            </a:pathLst>
          </a:custGeom>
          <a:solidFill>
            <a:srgbClr val="929e9f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等腰三角形 47"/>
          <p:cNvGrpSpPr/>
          <p:nvPr/>
        </p:nvGrpSpPr>
        <p:grpSpPr>
          <a:xfrm>
            <a:off x="2189160" y="1816200"/>
            <a:ext cx="2833560" cy="2792160"/>
            <a:chOff x="2189160" y="1816200"/>
            <a:chExt cx="2833560" cy="2792160"/>
          </a:xfrm>
        </p:grpSpPr>
        <p:pic>
          <p:nvPicPr>
            <p:cNvPr id="75" name="等腰三角形 47" descr=""/>
            <p:cNvPicPr/>
            <p:nvPr/>
          </p:nvPicPr>
          <p:blipFill>
            <a:blip r:embed="rId2"/>
            <a:stretch/>
          </p:blipFill>
          <p:spPr>
            <a:xfrm>
              <a:off x="2189160" y="1816200"/>
              <a:ext cx="283356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 rot="7771800">
              <a:off x="2698920" y="2140560"/>
              <a:ext cx="18144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椭圆 48"/>
          <p:cNvSpPr/>
          <p:nvPr/>
        </p:nvSpPr>
        <p:spPr>
          <a:xfrm>
            <a:off x="2711520" y="2328840"/>
            <a:ext cx="1563480" cy="1552680"/>
          </a:xfrm>
          <a:custGeom>
            <a:avLst/>
            <a:gdLst/>
            <a:ahLst/>
            <a:rect l="l" t="t" r="r" b="b"/>
            <a:pathLst>
              <a:path w="1440160" h="1429374">
                <a:moveTo>
                  <a:pt x="600143" y="0"/>
                </a:moveTo>
                <a:lnTo>
                  <a:pt x="1418911" y="542848"/>
                </a:lnTo>
                <a:cubicBezTo>
                  <a:pt x="1433434" y="595976"/>
                  <a:pt x="1440160" y="651849"/>
                  <a:pt x="1440160" y="709294"/>
                </a:cubicBezTo>
                <a:cubicBezTo>
                  <a:pt x="1440160" y="1106983"/>
                  <a:pt x="1117769" y="1429374"/>
                  <a:pt x="720080" y="1429374"/>
                </a:cubicBezTo>
                <a:cubicBezTo>
                  <a:pt x="322391" y="1429374"/>
                  <a:pt x="0" y="1106983"/>
                  <a:pt x="0" y="709294"/>
                </a:cubicBezTo>
                <a:cubicBezTo>
                  <a:pt x="0" y="352516"/>
                  <a:pt x="259472" y="56341"/>
                  <a:pt x="6001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48"/>
          <p:cNvSpPr/>
          <p:nvPr/>
        </p:nvSpPr>
        <p:spPr>
          <a:xfrm rot="20473800">
            <a:off x="3417840" y="2197080"/>
            <a:ext cx="703440" cy="828720"/>
          </a:xfrm>
          <a:custGeom>
            <a:avLst/>
            <a:gdLst/>
            <a:ahLst/>
            <a:rect l="l" t="t" r="r" b="b"/>
            <a:pathLst>
              <a:path w="865829" h="1022492">
                <a:moveTo>
                  <a:pt x="69377" y="0"/>
                </a:moveTo>
                <a:cubicBezTo>
                  <a:pt x="46542" y="68499"/>
                  <a:pt x="35912" y="141754"/>
                  <a:pt x="35912" y="217490"/>
                </a:cubicBezTo>
                <a:cubicBezTo>
                  <a:pt x="35912" y="654948"/>
                  <a:pt x="390542" y="1009578"/>
                  <a:pt x="828000" y="1009578"/>
                </a:cubicBezTo>
                <a:cubicBezTo>
                  <a:pt x="840698" y="1009578"/>
                  <a:pt x="853325" y="1009279"/>
                  <a:pt x="865829" y="1007668"/>
                </a:cubicBezTo>
                <a:cubicBezTo>
                  <a:pt x="818768" y="1017409"/>
                  <a:pt x="770018" y="1022492"/>
                  <a:pt x="720080" y="1022492"/>
                </a:cubicBezTo>
                <a:cubicBezTo>
                  <a:pt x="322391" y="1022492"/>
                  <a:pt x="0" y="700101"/>
                  <a:pt x="0" y="302412"/>
                </a:cubicBezTo>
                <a:cubicBezTo>
                  <a:pt x="0" y="193949"/>
                  <a:pt x="23981" y="91087"/>
                  <a:pt x="69377" y="0"/>
                </a:cubicBezTo>
                <a:close/>
              </a:path>
            </a:pathLst>
          </a:custGeom>
          <a:solidFill>
            <a:srgbClr val="c1310e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等腰三角形 47"/>
          <p:cNvGrpSpPr/>
          <p:nvPr/>
        </p:nvGrpSpPr>
        <p:grpSpPr>
          <a:xfrm>
            <a:off x="4340160" y="1792440"/>
            <a:ext cx="2841840" cy="2792160"/>
            <a:chOff x="4340160" y="1792440"/>
            <a:chExt cx="2841840" cy="2792160"/>
          </a:xfrm>
        </p:grpSpPr>
        <p:pic>
          <p:nvPicPr>
            <p:cNvPr id="80" name="等腰三角形 47" descr=""/>
            <p:cNvPicPr/>
            <p:nvPr/>
          </p:nvPicPr>
          <p:blipFill>
            <a:blip r:embed="rId3"/>
            <a:stretch/>
          </p:blipFill>
          <p:spPr>
            <a:xfrm>
              <a:off x="4340160" y="1792440"/>
              <a:ext cx="284184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 rot="7771800">
              <a:off x="4854240" y="2116080"/>
              <a:ext cx="1814760" cy="21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椭圆 48"/>
          <p:cNvSpPr/>
          <p:nvPr/>
        </p:nvSpPr>
        <p:spPr>
          <a:xfrm>
            <a:off x="4865760" y="2301840"/>
            <a:ext cx="1565280" cy="1554120"/>
          </a:xfrm>
          <a:custGeom>
            <a:avLst/>
            <a:gdLst/>
            <a:ahLst/>
            <a:rect l="l" t="t" r="r" b="b"/>
            <a:pathLst>
              <a:path w="1440160" h="1429374">
                <a:moveTo>
                  <a:pt x="600143" y="0"/>
                </a:moveTo>
                <a:lnTo>
                  <a:pt x="1418911" y="542848"/>
                </a:lnTo>
                <a:cubicBezTo>
                  <a:pt x="1433434" y="595976"/>
                  <a:pt x="1440160" y="651849"/>
                  <a:pt x="1440160" y="709294"/>
                </a:cubicBezTo>
                <a:cubicBezTo>
                  <a:pt x="1440160" y="1106983"/>
                  <a:pt x="1117769" y="1429374"/>
                  <a:pt x="720080" y="1429374"/>
                </a:cubicBezTo>
                <a:cubicBezTo>
                  <a:pt x="322391" y="1429374"/>
                  <a:pt x="0" y="1106983"/>
                  <a:pt x="0" y="709294"/>
                </a:cubicBezTo>
                <a:cubicBezTo>
                  <a:pt x="0" y="352516"/>
                  <a:pt x="259472" y="56341"/>
                  <a:pt x="6001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48"/>
          <p:cNvSpPr/>
          <p:nvPr/>
        </p:nvSpPr>
        <p:spPr>
          <a:xfrm rot="20473800">
            <a:off x="5573880" y="2170080"/>
            <a:ext cx="701640" cy="830160"/>
          </a:xfrm>
          <a:custGeom>
            <a:avLst/>
            <a:gdLst/>
            <a:ahLst/>
            <a:rect l="l" t="t" r="r" b="b"/>
            <a:pathLst>
              <a:path w="865829" h="1022492">
                <a:moveTo>
                  <a:pt x="69377" y="0"/>
                </a:moveTo>
                <a:cubicBezTo>
                  <a:pt x="46542" y="68499"/>
                  <a:pt x="35912" y="141754"/>
                  <a:pt x="35912" y="217490"/>
                </a:cubicBezTo>
                <a:cubicBezTo>
                  <a:pt x="35912" y="654948"/>
                  <a:pt x="390542" y="1009578"/>
                  <a:pt x="828000" y="1009578"/>
                </a:cubicBezTo>
                <a:cubicBezTo>
                  <a:pt x="840698" y="1009578"/>
                  <a:pt x="853325" y="1009279"/>
                  <a:pt x="865829" y="1007668"/>
                </a:cubicBezTo>
                <a:cubicBezTo>
                  <a:pt x="818768" y="1017409"/>
                  <a:pt x="770018" y="1022492"/>
                  <a:pt x="720080" y="1022492"/>
                </a:cubicBezTo>
                <a:cubicBezTo>
                  <a:pt x="322391" y="1022492"/>
                  <a:pt x="0" y="700101"/>
                  <a:pt x="0" y="302412"/>
                </a:cubicBezTo>
                <a:cubicBezTo>
                  <a:pt x="0" y="193949"/>
                  <a:pt x="23981" y="91087"/>
                  <a:pt x="69377" y="0"/>
                </a:cubicBezTo>
                <a:close/>
              </a:path>
            </a:pathLst>
          </a:custGeom>
          <a:solidFill>
            <a:srgbClr val="929e9f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等腰三角形 47"/>
          <p:cNvGrpSpPr/>
          <p:nvPr/>
        </p:nvGrpSpPr>
        <p:grpSpPr>
          <a:xfrm>
            <a:off x="6473880" y="1743120"/>
            <a:ext cx="2835360" cy="2792520"/>
            <a:chOff x="6473880" y="1743120"/>
            <a:chExt cx="2835360" cy="2792520"/>
          </a:xfrm>
        </p:grpSpPr>
        <p:pic>
          <p:nvPicPr>
            <p:cNvPr id="85" name="等腰三角形 47" descr=""/>
            <p:cNvPicPr/>
            <p:nvPr/>
          </p:nvPicPr>
          <p:blipFill>
            <a:blip r:embed="rId4"/>
            <a:stretch/>
          </p:blipFill>
          <p:spPr>
            <a:xfrm>
              <a:off x="6473880" y="1743120"/>
              <a:ext cx="283536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rot="7771800">
              <a:off x="6985440" y="2066040"/>
              <a:ext cx="18144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椭圆 48"/>
          <p:cNvSpPr/>
          <p:nvPr/>
        </p:nvSpPr>
        <p:spPr>
          <a:xfrm>
            <a:off x="6997680" y="2254320"/>
            <a:ext cx="1563840" cy="1552680"/>
          </a:xfrm>
          <a:custGeom>
            <a:avLst/>
            <a:gdLst/>
            <a:ahLst/>
            <a:rect l="l" t="t" r="r" b="b"/>
            <a:pathLst>
              <a:path w="1440160" h="1429374">
                <a:moveTo>
                  <a:pt x="600143" y="0"/>
                </a:moveTo>
                <a:lnTo>
                  <a:pt x="1418911" y="542848"/>
                </a:lnTo>
                <a:cubicBezTo>
                  <a:pt x="1433434" y="595976"/>
                  <a:pt x="1440160" y="651849"/>
                  <a:pt x="1440160" y="709294"/>
                </a:cubicBezTo>
                <a:cubicBezTo>
                  <a:pt x="1440160" y="1106983"/>
                  <a:pt x="1117769" y="1429374"/>
                  <a:pt x="720080" y="1429374"/>
                </a:cubicBezTo>
                <a:cubicBezTo>
                  <a:pt x="322391" y="1429374"/>
                  <a:pt x="0" y="1106983"/>
                  <a:pt x="0" y="709294"/>
                </a:cubicBezTo>
                <a:cubicBezTo>
                  <a:pt x="0" y="352516"/>
                  <a:pt x="259472" y="56341"/>
                  <a:pt x="6001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48"/>
          <p:cNvSpPr/>
          <p:nvPr/>
        </p:nvSpPr>
        <p:spPr>
          <a:xfrm rot="20473800">
            <a:off x="7704000" y="2122560"/>
            <a:ext cx="703440" cy="828720"/>
          </a:xfrm>
          <a:custGeom>
            <a:avLst/>
            <a:gdLst/>
            <a:ahLst/>
            <a:rect l="l" t="t" r="r" b="b"/>
            <a:pathLst>
              <a:path w="865829" h="1022492">
                <a:moveTo>
                  <a:pt x="69377" y="0"/>
                </a:moveTo>
                <a:cubicBezTo>
                  <a:pt x="46542" y="68499"/>
                  <a:pt x="35912" y="141754"/>
                  <a:pt x="35912" y="217490"/>
                </a:cubicBezTo>
                <a:cubicBezTo>
                  <a:pt x="35912" y="654948"/>
                  <a:pt x="390542" y="1009578"/>
                  <a:pt x="828000" y="1009578"/>
                </a:cubicBezTo>
                <a:cubicBezTo>
                  <a:pt x="840698" y="1009578"/>
                  <a:pt x="853325" y="1009279"/>
                  <a:pt x="865829" y="1007668"/>
                </a:cubicBezTo>
                <a:cubicBezTo>
                  <a:pt x="818768" y="1017409"/>
                  <a:pt x="770018" y="1022492"/>
                  <a:pt x="720080" y="1022492"/>
                </a:cubicBezTo>
                <a:cubicBezTo>
                  <a:pt x="322391" y="1022492"/>
                  <a:pt x="0" y="700101"/>
                  <a:pt x="0" y="302412"/>
                </a:cubicBezTo>
                <a:cubicBezTo>
                  <a:pt x="0" y="193949"/>
                  <a:pt x="23981" y="91087"/>
                  <a:pt x="69377" y="0"/>
                </a:cubicBezTo>
                <a:close/>
              </a:path>
            </a:pathLst>
          </a:custGeom>
          <a:solidFill>
            <a:srgbClr val="c1310e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85464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299772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51408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7283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空心弧 2"/>
          <p:cNvSpPr/>
          <p:nvPr/>
        </p:nvSpPr>
        <p:spPr>
          <a:xfrm flipH="1" flipV="1" rot="5400000">
            <a:off x="4822920" y="1528560"/>
            <a:ext cx="4003920" cy="3645000"/>
          </a:xfrm>
          <a:custGeom>
            <a:avLst/>
            <a:gdLst/>
            <a:ahLst/>
            <a:rect l="l" t="t" r="r" b="b"/>
            <a:pathLst>
              <a:path w="4003675" h="3644900">
                <a:moveTo>
                  <a:pt x="574150" y="544963"/>
                </a:moveTo>
                <a:cubicBezTo>
                  <a:pt x="953700" y="193403"/>
                  <a:pt x="1473494" y="-3189"/>
                  <a:pt x="2014946" y="39"/>
                </a:cubicBezTo>
                <a:cubicBezTo>
                  <a:pt x="2557367" y="3273"/>
                  <a:pt x="3075126" y="206763"/>
                  <a:pt x="3449710" y="563932"/>
                </a:cubicBezTo>
                <a:lnTo>
                  <a:pt x="2782311" y="1144047"/>
                </a:lnTo>
                <a:cubicBezTo>
                  <a:pt x="2574604" y="975337"/>
                  <a:pt x="2297507" y="880379"/>
                  <a:pt x="2008624" y="878912"/>
                </a:cubicBezTo>
                <a:cubicBezTo>
                  <a:pt x="1720671" y="877450"/>
                  <a:pt x="1443053" y="968992"/>
                  <a:pt x="1233138" y="1134622"/>
                </a:cubicBezTo>
                <a:lnTo>
                  <a:pt x="574150" y="544963"/>
                </a:lnTo>
                <a:close/>
              </a:path>
            </a:pathLst>
          </a:custGeom>
          <a:solidFill>
            <a:srgbClr val="d6302e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空心弧 24"/>
          <p:cNvSpPr/>
          <p:nvPr/>
        </p:nvSpPr>
        <p:spPr>
          <a:xfrm flipV="1" rot="16200000">
            <a:off x="749160" y="1513800"/>
            <a:ext cx="4003560" cy="3644640"/>
          </a:xfrm>
          <a:custGeom>
            <a:avLst/>
            <a:gdLst/>
            <a:ahLst/>
            <a:rect l="l" t="t" r="r" b="b"/>
            <a:pathLst>
              <a:path w="4003675" h="3644900">
                <a:moveTo>
                  <a:pt x="556644" y="561383"/>
                </a:moveTo>
                <a:cubicBezTo>
                  <a:pt x="934625" y="202369"/>
                  <a:pt x="1457341" y="-434"/>
                  <a:pt x="2003586" y="1"/>
                </a:cubicBezTo>
                <a:cubicBezTo>
                  <a:pt x="2549962" y="435"/>
                  <a:pt x="3072401" y="204166"/>
                  <a:pt x="3449709" y="563932"/>
                </a:cubicBezTo>
                <a:lnTo>
                  <a:pt x="2782311" y="1144047"/>
                </a:lnTo>
                <a:cubicBezTo>
                  <a:pt x="2573142" y="974150"/>
                  <a:pt x="2293665" y="879092"/>
                  <a:pt x="2002743" y="878895"/>
                </a:cubicBezTo>
                <a:cubicBezTo>
                  <a:pt x="1711947" y="878698"/>
                  <a:pt x="1432398" y="973295"/>
                  <a:pt x="1222929" y="1142779"/>
                </a:cubicBezTo>
                <a:lnTo>
                  <a:pt x="556644" y="561383"/>
                </a:lnTo>
                <a:close/>
              </a:path>
            </a:pathLst>
          </a:custGeom>
          <a:solidFill>
            <a:srgbClr val="d6302e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空心弧 25"/>
          <p:cNvSpPr/>
          <p:nvPr/>
        </p:nvSpPr>
        <p:spPr>
          <a:xfrm flipH="1" flipV="1">
            <a:off x="2800800" y="-597960"/>
            <a:ext cx="4003560" cy="3644640"/>
          </a:xfrm>
          <a:custGeom>
            <a:avLst/>
            <a:gdLst/>
            <a:ahLst/>
            <a:rect l="l" t="t" r="r" b="b"/>
            <a:pathLst>
              <a:path w="4003675" h="3644901">
                <a:moveTo>
                  <a:pt x="561221" y="557050"/>
                </a:moveTo>
                <a:cubicBezTo>
                  <a:pt x="939628" y="199996"/>
                  <a:pt x="1461582" y="-1168"/>
                  <a:pt x="2006568" y="5"/>
                </a:cubicBezTo>
                <a:cubicBezTo>
                  <a:pt x="2551908" y="1178"/>
                  <a:pt x="3073117" y="204848"/>
                  <a:pt x="3449710" y="563932"/>
                </a:cubicBezTo>
                <a:lnTo>
                  <a:pt x="2782311" y="1144048"/>
                </a:lnTo>
                <a:cubicBezTo>
                  <a:pt x="2573526" y="974462"/>
                  <a:pt x="2294674" y="879429"/>
                  <a:pt x="2004286" y="878897"/>
                </a:cubicBezTo>
                <a:cubicBezTo>
                  <a:pt x="1714237" y="878365"/>
                  <a:pt x="1435194" y="972156"/>
                  <a:pt x="1225600" y="1140624"/>
                </a:cubicBezTo>
                <a:lnTo>
                  <a:pt x="561221" y="557050"/>
                </a:lnTo>
                <a:close/>
              </a:path>
            </a:pathLst>
          </a:custGeom>
          <a:solidFill>
            <a:srgbClr val="3081c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空心弧 26"/>
          <p:cNvSpPr/>
          <p:nvPr/>
        </p:nvSpPr>
        <p:spPr>
          <a:xfrm>
            <a:off x="2774880" y="3641760"/>
            <a:ext cx="4005360" cy="3645000"/>
          </a:xfrm>
          <a:custGeom>
            <a:avLst/>
            <a:gdLst/>
            <a:ahLst/>
            <a:rect l="l" t="t" r="r" b="b"/>
            <a:pathLst>
              <a:path w="4005263" h="3644900">
                <a:moveTo>
                  <a:pt x="561719" y="556790"/>
                </a:moveTo>
                <a:cubicBezTo>
                  <a:pt x="940258" y="199896"/>
                  <a:pt x="1462298" y="-1166"/>
                  <a:pt x="2007362" y="5"/>
                </a:cubicBezTo>
                <a:cubicBezTo>
                  <a:pt x="2552781" y="1177"/>
                  <a:pt x="3074078" y="204745"/>
                  <a:pt x="3450804" y="563671"/>
                </a:cubicBezTo>
                <a:lnTo>
                  <a:pt x="2783371" y="1143816"/>
                </a:lnTo>
                <a:cubicBezTo>
                  <a:pt x="2574465" y="974372"/>
                  <a:pt x="2295536" y="879429"/>
                  <a:pt x="2005080" y="878898"/>
                </a:cubicBezTo>
                <a:cubicBezTo>
                  <a:pt x="1714964" y="878367"/>
                  <a:pt x="1435845" y="972069"/>
                  <a:pt x="1226132" y="1140395"/>
                </a:cubicBezTo>
                <a:lnTo>
                  <a:pt x="561719" y="556790"/>
                </a:lnTo>
                <a:close/>
              </a:path>
            </a:pathLst>
          </a:custGeom>
          <a:solidFill>
            <a:srgbClr val="3081c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7"/>
          <p:cNvSpPr/>
          <p:nvPr/>
        </p:nvSpPr>
        <p:spPr>
          <a:xfrm rot="19142400">
            <a:off x="2602080" y="2023560"/>
            <a:ext cx="196848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15"/>
          <p:cNvGrpSpPr/>
          <p:nvPr/>
        </p:nvGrpSpPr>
        <p:grpSpPr>
          <a:xfrm>
            <a:off x="5091840" y="1570680"/>
            <a:ext cx="1419120" cy="1280520"/>
            <a:chOff x="5091840" y="1570680"/>
            <a:chExt cx="1419120" cy="1280520"/>
          </a:xfrm>
        </p:grpSpPr>
        <p:pic>
          <p:nvPicPr>
            <p:cNvPr id="104" name="Picture 3" descr=""/>
            <p:cNvPicPr/>
            <p:nvPr/>
          </p:nvPicPr>
          <p:blipFill>
            <a:blip r:embed="rId1"/>
            <a:srcRect l="2775" t="0" r="7215" b="57688"/>
            <a:stretch/>
          </p:blipFill>
          <p:spPr>
            <a:xfrm flipH="1" rot="13318200">
              <a:off x="4860720" y="219564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矩形 17"/>
            <p:cNvGrpSpPr/>
            <p:nvPr/>
          </p:nvGrpSpPr>
          <p:grpSpPr>
            <a:xfrm>
              <a:off x="5382360" y="1818000"/>
              <a:ext cx="881640" cy="781200"/>
              <a:chOff x="5382360" y="1818000"/>
              <a:chExt cx="881640" cy="781200"/>
            </a:xfrm>
          </p:grpSpPr>
          <p:pic>
            <p:nvPicPr>
              <p:cNvPr id="106" name="矩形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5382360" y="2114280"/>
                <a:ext cx="881640" cy="18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13317600">
                <a:off x="5240160" y="2206800"/>
                <a:ext cx="116460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组合 18"/>
          <p:cNvGrpSpPr/>
          <p:nvPr/>
        </p:nvGrpSpPr>
        <p:grpSpPr>
          <a:xfrm>
            <a:off x="3091320" y="1553040"/>
            <a:ext cx="1419120" cy="1280520"/>
            <a:chOff x="3091320" y="1553040"/>
            <a:chExt cx="1419120" cy="1280520"/>
          </a:xfrm>
        </p:grpSpPr>
        <p:pic>
          <p:nvPicPr>
            <p:cNvPr id="109" name="Picture 3" descr=""/>
            <p:cNvPicPr/>
            <p:nvPr/>
          </p:nvPicPr>
          <p:blipFill>
            <a:blip r:embed="rId3"/>
            <a:srcRect l="2775" t="0" r="7215" b="57688"/>
            <a:stretch/>
          </p:blipFill>
          <p:spPr>
            <a:xfrm rot="8281800">
              <a:off x="2860200" y="217800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矩形 33"/>
            <p:cNvGrpSpPr/>
            <p:nvPr/>
          </p:nvGrpSpPr>
          <p:grpSpPr>
            <a:xfrm>
              <a:off x="3335760" y="1801080"/>
              <a:ext cx="881640" cy="781920"/>
              <a:chOff x="3335760" y="1801080"/>
              <a:chExt cx="881640" cy="781920"/>
            </a:xfrm>
          </p:grpSpPr>
          <p:pic>
            <p:nvPicPr>
              <p:cNvPr id="111" name="矩形 33" descr=""/>
              <p:cNvPicPr/>
              <p:nvPr/>
            </p:nvPicPr>
            <p:blipFill>
              <a:blip r:embed="rId4"/>
              <a:stretch/>
            </p:blipFill>
            <p:spPr>
              <a:xfrm rot="21598800">
                <a:off x="3335760" y="2098800"/>
                <a:ext cx="881640" cy="1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8281200">
                <a:off x="3195000" y="2189880"/>
                <a:ext cx="1164600" cy="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组合 21"/>
          <p:cNvGrpSpPr/>
          <p:nvPr/>
        </p:nvGrpSpPr>
        <p:grpSpPr>
          <a:xfrm>
            <a:off x="5119560" y="3805200"/>
            <a:ext cx="1419120" cy="1280520"/>
            <a:chOff x="5119560" y="3805200"/>
            <a:chExt cx="1419120" cy="1280520"/>
          </a:xfrm>
        </p:grpSpPr>
        <p:pic>
          <p:nvPicPr>
            <p:cNvPr id="114" name="Picture 3" descr=""/>
            <p:cNvPicPr/>
            <p:nvPr/>
          </p:nvPicPr>
          <p:blipFill>
            <a:blip r:embed="rId5"/>
            <a:srcRect l="2775" t="0" r="7215" b="57688"/>
            <a:stretch/>
          </p:blipFill>
          <p:spPr>
            <a:xfrm rot="19081800">
              <a:off x="4888080" y="443016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矩形 36"/>
            <p:cNvGrpSpPr/>
            <p:nvPr/>
          </p:nvGrpSpPr>
          <p:grpSpPr>
            <a:xfrm>
              <a:off x="5407200" y="4057560"/>
              <a:ext cx="881640" cy="781560"/>
              <a:chOff x="5407200" y="4057560"/>
              <a:chExt cx="881640" cy="781560"/>
            </a:xfrm>
          </p:grpSpPr>
          <p:pic>
            <p:nvPicPr>
              <p:cNvPr id="116" name="矩形 36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5407200" y="4354200"/>
                <a:ext cx="881640" cy="18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 rot="19081200">
                <a:off x="5267520" y="4446360"/>
                <a:ext cx="116460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组合 24"/>
          <p:cNvGrpSpPr/>
          <p:nvPr/>
        </p:nvGrpSpPr>
        <p:grpSpPr>
          <a:xfrm>
            <a:off x="3025080" y="3780720"/>
            <a:ext cx="1419120" cy="1280520"/>
            <a:chOff x="3025080" y="3780720"/>
            <a:chExt cx="1419120" cy="1280520"/>
          </a:xfrm>
        </p:grpSpPr>
        <p:pic>
          <p:nvPicPr>
            <p:cNvPr id="119" name="Picture 3" descr=""/>
            <p:cNvPicPr/>
            <p:nvPr/>
          </p:nvPicPr>
          <p:blipFill>
            <a:blip r:embed="rId7"/>
            <a:srcRect l="2775" t="0" r="7215" b="57688"/>
            <a:stretch/>
          </p:blipFill>
          <p:spPr>
            <a:xfrm flipH="1" rot="2518200">
              <a:off x="2793600" y="440568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矩形 39"/>
            <p:cNvGrpSpPr/>
            <p:nvPr/>
          </p:nvGrpSpPr>
          <p:grpSpPr>
            <a:xfrm>
              <a:off x="3269520" y="4032000"/>
              <a:ext cx="881640" cy="781200"/>
              <a:chOff x="3269520" y="4032000"/>
              <a:chExt cx="881640" cy="781200"/>
            </a:xfrm>
          </p:grpSpPr>
          <p:pic>
            <p:nvPicPr>
              <p:cNvPr id="121" name="矩形 39" descr=""/>
              <p:cNvPicPr/>
              <p:nvPr/>
            </p:nvPicPr>
            <p:blipFill>
              <a:blip r:embed="rId8"/>
              <a:stretch/>
            </p:blipFill>
            <p:spPr>
              <a:xfrm>
                <a:off x="3269520" y="4329720"/>
                <a:ext cx="881640" cy="18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 rot="2518200">
                <a:off x="3129480" y="4420800"/>
                <a:ext cx="116460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矩形 12"/>
          <p:cNvSpPr/>
          <p:nvPr/>
        </p:nvSpPr>
        <p:spPr>
          <a:xfrm>
            <a:off x="614088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2211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59266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5"/>
          <p:cNvSpPr/>
          <p:nvPr/>
        </p:nvSpPr>
        <p:spPr>
          <a:xfrm>
            <a:off x="2283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43080" y="6234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左箭头 14"/>
          <p:cNvSpPr/>
          <p:nvPr/>
        </p:nvSpPr>
        <p:spPr>
          <a:xfrm rot="2332200">
            <a:off x="2776320" y="1742760"/>
            <a:ext cx="582480" cy="577800"/>
          </a:xfrm>
          <a:custGeom>
            <a:avLst/>
            <a:gdLst/>
            <a:ahLst/>
            <a:rect l="l" t="t" r="r" b="b"/>
            <a:pathLst>
              <a:path w="493385" h="489674">
                <a:moveTo>
                  <a:pt x="0" y="244837"/>
                </a:moveTo>
                <a:lnTo>
                  <a:pt x="238539" y="0"/>
                </a:lnTo>
                <a:lnTo>
                  <a:pt x="238539" y="122419"/>
                </a:lnTo>
                <a:lnTo>
                  <a:pt x="493385" y="118859"/>
                </a:lnTo>
                <a:cubicBezTo>
                  <a:pt x="493009" y="203970"/>
                  <a:pt x="492634" y="289082"/>
                  <a:pt x="492258" y="374193"/>
                </a:cubicBezTo>
                <a:lnTo>
                  <a:pt x="238539" y="367256"/>
                </a:lnTo>
                <a:lnTo>
                  <a:pt x="238539" y="489674"/>
                </a:lnTo>
                <a:lnTo>
                  <a:pt x="0" y="244837"/>
                </a:lnTo>
                <a:close/>
              </a:path>
            </a:pathLst>
          </a:cu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左箭头 14"/>
          <p:cNvSpPr/>
          <p:nvPr/>
        </p:nvSpPr>
        <p:spPr>
          <a:xfrm rot="19241400">
            <a:off x="2760840" y="4278240"/>
            <a:ext cx="582480" cy="576360"/>
          </a:xfrm>
          <a:custGeom>
            <a:avLst/>
            <a:gdLst/>
            <a:ahLst/>
            <a:rect l="l" t="t" r="r" b="b"/>
            <a:pathLst>
              <a:path w="493385" h="489674">
                <a:moveTo>
                  <a:pt x="0" y="244837"/>
                </a:moveTo>
                <a:lnTo>
                  <a:pt x="238539" y="0"/>
                </a:lnTo>
                <a:lnTo>
                  <a:pt x="238539" y="122419"/>
                </a:lnTo>
                <a:lnTo>
                  <a:pt x="493385" y="118859"/>
                </a:lnTo>
                <a:cubicBezTo>
                  <a:pt x="493009" y="203970"/>
                  <a:pt x="492634" y="289082"/>
                  <a:pt x="492258" y="374193"/>
                </a:cubicBezTo>
                <a:lnTo>
                  <a:pt x="238539" y="367256"/>
                </a:lnTo>
                <a:lnTo>
                  <a:pt x="238539" y="489674"/>
                </a:lnTo>
                <a:lnTo>
                  <a:pt x="0" y="244837"/>
                </a:lnTo>
                <a:close/>
              </a:path>
            </a:pathLst>
          </a:cu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左箭头 14"/>
          <p:cNvSpPr/>
          <p:nvPr/>
        </p:nvSpPr>
        <p:spPr>
          <a:xfrm rot="8750400">
            <a:off x="6019560" y="1847520"/>
            <a:ext cx="582480" cy="579240"/>
          </a:xfrm>
          <a:custGeom>
            <a:avLst/>
            <a:gdLst/>
            <a:ahLst/>
            <a:rect l="l" t="t" r="r" b="b"/>
            <a:pathLst>
              <a:path w="493385" h="489674">
                <a:moveTo>
                  <a:pt x="0" y="244837"/>
                </a:moveTo>
                <a:lnTo>
                  <a:pt x="238539" y="0"/>
                </a:lnTo>
                <a:lnTo>
                  <a:pt x="238539" y="122419"/>
                </a:lnTo>
                <a:lnTo>
                  <a:pt x="493385" y="118859"/>
                </a:lnTo>
                <a:cubicBezTo>
                  <a:pt x="493009" y="203970"/>
                  <a:pt x="492634" y="289082"/>
                  <a:pt x="492258" y="374193"/>
                </a:cubicBezTo>
                <a:lnTo>
                  <a:pt x="238539" y="367256"/>
                </a:lnTo>
                <a:lnTo>
                  <a:pt x="238539" y="489674"/>
                </a:lnTo>
                <a:lnTo>
                  <a:pt x="0" y="244837"/>
                </a:lnTo>
                <a:close/>
              </a:path>
            </a:pathLst>
          </a:cu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左箭头 14"/>
          <p:cNvSpPr/>
          <p:nvPr/>
        </p:nvSpPr>
        <p:spPr>
          <a:xfrm rot="13088400">
            <a:off x="5997600" y="4263480"/>
            <a:ext cx="582480" cy="577800"/>
          </a:xfrm>
          <a:custGeom>
            <a:avLst/>
            <a:gdLst/>
            <a:ahLst/>
            <a:rect l="l" t="t" r="r" b="b"/>
            <a:pathLst>
              <a:path w="493385" h="489674">
                <a:moveTo>
                  <a:pt x="0" y="244837"/>
                </a:moveTo>
                <a:lnTo>
                  <a:pt x="238539" y="0"/>
                </a:lnTo>
                <a:lnTo>
                  <a:pt x="238539" y="122419"/>
                </a:lnTo>
                <a:lnTo>
                  <a:pt x="493385" y="118859"/>
                </a:lnTo>
                <a:cubicBezTo>
                  <a:pt x="493009" y="203970"/>
                  <a:pt x="492634" y="289082"/>
                  <a:pt x="492258" y="374193"/>
                </a:cubicBezTo>
                <a:lnTo>
                  <a:pt x="238539" y="367256"/>
                </a:lnTo>
                <a:lnTo>
                  <a:pt x="238539" y="489674"/>
                </a:lnTo>
                <a:lnTo>
                  <a:pt x="0" y="244837"/>
                </a:lnTo>
                <a:close/>
              </a:path>
            </a:pathLst>
          </a:cu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10"/>
          <p:cNvSpPr/>
          <p:nvPr/>
        </p:nvSpPr>
        <p:spPr>
          <a:xfrm>
            <a:off x="2900520" y="1546200"/>
            <a:ext cx="3525840" cy="3525840"/>
          </a:xfrm>
          <a:prstGeom prst="ellips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1"/>
          <p:cNvSpPr/>
          <p:nvPr/>
        </p:nvSpPr>
        <p:spPr>
          <a:xfrm>
            <a:off x="4633920" y="1546200"/>
            <a:ext cx="128520" cy="35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 rot="5400000">
            <a:off x="4597560" y="1611000"/>
            <a:ext cx="131760" cy="35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13"/>
          <p:cNvSpPr/>
          <p:nvPr/>
        </p:nvSpPr>
        <p:spPr>
          <a:xfrm>
            <a:off x="3848040" y="2516040"/>
            <a:ext cx="1692360" cy="169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1854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62838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67838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"/>
          <p:cNvSpPr/>
          <p:nvPr/>
        </p:nvSpPr>
        <p:spPr>
          <a:xfrm>
            <a:off x="156888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 6"/>
          <p:cNvSpPr/>
          <p:nvPr/>
        </p:nvSpPr>
        <p:spPr>
          <a:xfrm>
            <a:off x="795240" y="1717560"/>
            <a:ext cx="1852560" cy="3854520"/>
          </a:xfrm>
          <a:custGeom>
            <a:avLst/>
            <a:gdLst>
              <a:gd name="textAreaLeft" fmla="*/ 90360 w 1852560"/>
              <a:gd name="textAreaRight" fmla="*/ 1762200 w 1852560"/>
              <a:gd name="textAreaTop" fmla="*/ 90360 h 3854520"/>
              <a:gd name="textAreaBottom" fmla="*/ 3764160 h 3854520"/>
            </a:gdLst>
            <a:ahLst/>
            <a:rect l="textAreaLeft" t="textAreaTop" r="textAreaRight" b="textAreaBottom"/>
            <a:pathLst>
              <a:path w="21600" h="44937">
                <a:moveTo>
                  <a:pt x="3600" y="0"/>
                </a:moveTo>
                <a:arcTo wR="3600" hR="3600" stAng="16200000" swAng="-5400000"/>
                <a:lnTo>
                  <a:pt x="0" y="41337"/>
                </a:lnTo>
                <a:arcTo wR="3600" hR="3600" stAng="10800000" swAng="-5400000"/>
                <a:lnTo>
                  <a:pt x="18000" y="449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d63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圆角矩形 7"/>
          <p:cNvSpPr/>
          <p:nvPr/>
        </p:nvSpPr>
        <p:spPr>
          <a:xfrm>
            <a:off x="988920" y="2747880"/>
            <a:ext cx="1465200" cy="301680"/>
          </a:xfrm>
          <a:prstGeom prst="roundRect">
            <a:avLst>
              <a:gd name="adj" fmla="val 16667"/>
            </a:avLst>
          </a:pr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 8"/>
          <p:cNvSpPr/>
          <p:nvPr/>
        </p:nvSpPr>
        <p:spPr>
          <a:xfrm>
            <a:off x="3552840" y="1717560"/>
            <a:ext cx="1852560" cy="3854520"/>
          </a:xfrm>
          <a:custGeom>
            <a:avLst/>
            <a:gdLst>
              <a:gd name="textAreaLeft" fmla="*/ 90360 w 1852560"/>
              <a:gd name="textAreaRight" fmla="*/ 1762200 w 1852560"/>
              <a:gd name="textAreaTop" fmla="*/ 90360 h 3854520"/>
              <a:gd name="textAreaBottom" fmla="*/ 3764160 h 3854520"/>
            </a:gdLst>
            <a:ahLst/>
            <a:rect l="textAreaLeft" t="textAreaTop" r="textAreaRight" b="textAreaBottom"/>
            <a:pathLst>
              <a:path w="21600" h="44937">
                <a:moveTo>
                  <a:pt x="3600" y="0"/>
                </a:moveTo>
                <a:arcTo wR="3600" hR="3600" stAng="16200000" swAng="-5400000"/>
                <a:lnTo>
                  <a:pt x="0" y="41337"/>
                </a:lnTo>
                <a:arcTo wR="3600" hR="3600" stAng="10800000" swAng="-5400000"/>
                <a:lnTo>
                  <a:pt x="18000" y="449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08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 9"/>
          <p:cNvSpPr/>
          <p:nvPr/>
        </p:nvSpPr>
        <p:spPr>
          <a:xfrm>
            <a:off x="3746520" y="2747880"/>
            <a:ext cx="1465200" cy="301680"/>
          </a:xfrm>
          <a:prstGeom prst="roundRect">
            <a:avLst>
              <a:gd name="adj" fmla="val 16667"/>
            </a:avLst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10"/>
          <p:cNvSpPr/>
          <p:nvPr/>
        </p:nvSpPr>
        <p:spPr>
          <a:xfrm>
            <a:off x="6434280" y="1717560"/>
            <a:ext cx="1852560" cy="3854520"/>
          </a:xfrm>
          <a:custGeom>
            <a:avLst/>
            <a:gdLst>
              <a:gd name="textAreaLeft" fmla="*/ 90360 w 1852560"/>
              <a:gd name="textAreaRight" fmla="*/ 1762200 w 1852560"/>
              <a:gd name="textAreaTop" fmla="*/ 90360 h 3854520"/>
              <a:gd name="textAreaBottom" fmla="*/ 3764160 h 3854520"/>
            </a:gdLst>
            <a:ahLst/>
            <a:rect l="textAreaLeft" t="textAreaTop" r="textAreaRight" b="textAreaBottom"/>
            <a:pathLst>
              <a:path w="21600" h="44937">
                <a:moveTo>
                  <a:pt x="3600" y="0"/>
                </a:moveTo>
                <a:arcTo wR="3600" hR="3600" stAng="16200000" swAng="-5400000"/>
                <a:lnTo>
                  <a:pt x="0" y="41337"/>
                </a:lnTo>
                <a:arcTo wR="3600" hR="3600" stAng="10800000" swAng="-5400000"/>
                <a:lnTo>
                  <a:pt x="18000" y="449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d63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 11"/>
          <p:cNvSpPr/>
          <p:nvPr/>
        </p:nvSpPr>
        <p:spPr>
          <a:xfrm>
            <a:off x="6627960" y="2747880"/>
            <a:ext cx="1465200" cy="301680"/>
          </a:xfrm>
          <a:prstGeom prst="roundRect">
            <a:avLst>
              <a:gd name="adj" fmla="val 16667"/>
            </a:avLst>
          </a:pr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2"/>
          <p:cNvSpPr/>
          <p:nvPr/>
        </p:nvSpPr>
        <p:spPr>
          <a:xfrm>
            <a:off x="4008960" y="393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3"/>
          <p:cNvSpPr/>
          <p:nvPr/>
        </p:nvSpPr>
        <p:spPr>
          <a:xfrm>
            <a:off x="6936120" y="400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4"/>
          <p:cNvSpPr/>
          <p:nvPr/>
        </p:nvSpPr>
        <p:spPr>
          <a:xfrm>
            <a:off x="4007160" y="2146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5"/>
          <p:cNvSpPr/>
          <p:nvPr/>
        </p:nvSpPr>
        <p:spPr>
          <a:xfrm>
            <a:off x="1221120" y="400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43080" y="6234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角三角形 6"/>
          <p:cNvSpPr/>
          <p:nvPr/>
        </p:nvSpPr>
        <p:spPr>
          <a:xfrm flipH="1">
            <a:off x="403920" y="1862280"/>
            <a:ext cx="327240" cy="315720"/>
          </a:xfrm>
          <a:prstGeom prst="rtTriangl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"/>
          <p:cNvSpPr/>
          <p:nvPr/>
        </p:nvSpPr>
        <p:spPr>
          <a:xfrm rot="5400000">
            <a:off x="411480" y="2178720"/>
            <a:ext cx="2749680" cy="2106720"/>
          </a:xfrm>
          <a:prstGeom prst="rect">
            <a:avLst/>
          </a:prstGeom>
          <a:solidFill>
            <a:srgbClr val="3081c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角三角形 8"/>
          <p:cNvSpPr/>
          <p:nvPr/>
        </p:nvSpPr>
        <p:spPr>
          <a:xfrm flipH="1" flipV="1">
            <a:off x="403920" y="4286160"/>
            <a:ext cx="327240" cy="316080"/>
          </a:xfrm>
          <a:prstGeom prst="rtTriangl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角三角形 9"/>
          <p:cNvSpPr/>
          <p:nvPr/>
        </p:nvSpPr>
        <p:spPr>
          <a:xfrm>
            <a:off x="2840040" y="1862280"/>
            <a:ext cx="326880" cy="315720"/>
          </a:xfrm>
          <a:prstGeom prst="rtTriangl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角三角形 10"/>
          <p:cNvSpPr/>
          <p:nvPr/>
        </p:nvSpPr>
        <p:spPr>
          <a:xfrm flipV="1">
            <a:off x="2840040" y="4286160"/>
            <a:ext cx="326880" cy="316080"/>
          </a:xfrm>
          <a:prstGeom prst="rtTriangl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角三角形 11"/>
          <p:cNvSpPr/>
          <p:nvPr/>
        </p:nvSpPr>
        <p:spPr>
          <a:xfrm flipH="1">
            <a:off x="3166200" y="1862280"/>
            <a:ext cx="327240" cy="315720"/>
          </a:xfrm>
          <a:prstGeom prst="rtTriangle">
            <a:avLst/>
          </a:pr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2"/>
          <p:cNvSpPr/>
          <p:nvPr/>
        </p:nvSpPr>
        <p:spPr>
          <a:xfrm rot="5400000">
            <a:off x="3174120" y="2178720"/>
            <a:ext cx="2749680" cy="2106720"/>
          </a:xfrm>
          <a:prstGeom prst="rect">
            <a:avLst/>
          </a:prstGeom>
          <a:solidFill>
            <a:srgbClr val="d6302e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角三角形 13"/>
          <p:cNvSpPr/>
          <p:nvPr/>
        </p:nvSpPr>
        <p:spPr>
          <a:xfrm flipH="1" flipV="1">
            <a:off x="3166200" y="4286160"/>
            <a:ext cx="327240" cy="316080"/>
          </a:xfrm>
          <a:prstGeom prst="rtTriangle">
            <a:avLst/>
          </a:pr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角三角形 14"/>
          <p:cNvSpPr/>
          <p:nvPr/>
        </p:nvSpPr>
        <p:spPr>
          <a:xfrm>
            <a:off x="5602320" y="1862280"/>
            <a:ext cx="326880" cy="315720"/>
          </a:xfrm>
          <a:prstGeom prst="rtTriangle">
            <a:avLst/>
          </a:pr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角三角形 15"/>
          <p:cNvSpPr/>
          <p:nvPr/>
        </p:nvSpPr>
        <p:spPr>
          <a:xfrm flipV="1">
            <a:off x="5602320" y="4286160"/>
            <a:ext cx="326880" cy="316080"/>
          </a:xfrm>
          <a:prstGeom prst="rtTriangle">
            <a:avLst/>
          </a:pr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角三角形 16"/>
          <p:cNvSpPr/>
          <p:nvPr/>
        </p:nvSpPr>
        <p:spPr>
          <a:xfrm flipH="1">
            <a:off x="5881680" y="1862280"/>
            <a:ext cx="326880" cy="315720"/>
          </a:xfrm>
          <a:prstGeom prst="rtTriangl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7"/>
          <p:cNvSpPr/>
          <p:nvPr/>
        </p:nvSpPr>
        <p:spPr>
          <a:xfrm rot="5400000">
            <a:off x="5888880" y="2178720"/>
            <a:ext cx="2749680" cy="2106720"/>
          </a:xfrm>
          <a:prstGeom prst="rect">
            <a:avLst/>
          </a:prstGeom>
          <a:solidFill>
            <a:srgbClr val="3081c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角三角形 18"/>
          <p:cNvSpPr/>
          <p:nvPr/>
        </p:nvSpPr>
        <p:spPr>
          <a:xfrm flipH="1" flipV="1">
            <a:off x="5881680" y="4286160"/>
            <a:ext cx="326880" cy="316080"/>
          </a:xfrm>
          <a:prstGeom prst="rtTriangl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角三角形 19"/>
          <p:cNvSpPr/>
          <p:nvPr/>
        </p:nvSpPr>
        <p:spPr>
          <a:xfrm>
            <a:off x="8317080" y="1862280"/>
            <a:ext cx="326880" cy="315720"/>
          </a:xfrm>
          <a:prstGeom prst="rtTriangl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角三角形 20"/>
          <p:cNvSpPr/>
          <p:nvPr/>
        </p:nvSpPr>
        <p:spPr>
          <a:xfrm flipV="1">
            <a:off x="8317080" y="4286160"/>
            <a:ext cx="326880" cy="316080"/>
          </a:xfrm>
          <a:prstGeom prst="rtTriangl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6855120" y="3071880"/>
            <a:ext cx="1003680" cy="368280"/>
          </a:xfrm>
          <a:prstGeom prst="rect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4"/>
          <p:cNvSpPr/>
          <p:nvPr/>
        </p:nvSpPr>
        <p:spPr>
          <a:xfrm>
            <a:off x="4142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5"/>
          <p:cNvSpPr/>
          <p:nvPr/>
        </p:nvSpPr>
        <p:spPr>
          <a:xfrm>
            <a:off x="1284840" y="2928960"/>
            <a:ext cx="1003680" cy="368280"/>
          </a:xfrm>
          <a:prstGeom prst="rect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王玉清</cp:lastModifiedBy>
  <dcterms:modified xsi:type="dcterms:W3CDTF">2016-03-05T09:16:31Z</dcterms:modified>
  <cp:revision>286</cp:revision>
  <dc:subject/>
  <dc:title>www.pptbz.com</dc:title>
</cp:coreProperties>
</file>