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7F190-6252-4207-AD5B-7378BA3F4FA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D4447-DC3C-4373-8F88-633FC753A7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C1BB4-B4F6-44DF-AD01-3EDEF451AD7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628ED9-6E33-4DD9-9E2E-65031842774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9F921-4754-4063-A222-FCCC78B35B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10748-505A-427C-8413-4D041699480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256A8-905C-4414-B35D-990DDB15CE6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602EA-4A8E-4101-8AF0-BB202C2D40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0E2B7-215C-4E82-A166-6BB780E07F2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88EEA-C358-43EC-A76E-8DF86F7AA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73B96-AC36-4BE4-9495-6FB673DA578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B10D2-9045-4DA9-9A2E-1DB4F2C330B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D56E0-C550-4177-B6F2-683436EA2E7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7AF8C-1C5B-4D93-BA0A-C297C8729DD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53A68-D6B0-40FC-8B2D-E3C441D05F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730C9-F45C-4464-B308-59D7F89F021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D579F-2013-4A11-B4C8-28027C162A9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004E3-9F3F-414C-AB03-AC43F305CF9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00883-FF42-46DA-97EA-B23513DD35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200E5-3579-4E35-9AA0-64A18D9E8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B060D-A1A0-4575-BB2C-B05F8391DE6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700E-1F59-4A43-B24D-F2ED4CE1A5E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746A-9B8C-45B4-930B-5A57BCCA775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215C-F404-40EB-AB7A-7D82FFC53B3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978E-F2CB-41BC-A6C3-54C04CD707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0402-1D1B-4D2D-9960-446EB7CDD3F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BD07-04B3-40EE-9B27-FA89A991C3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61A3-9895-4144-AB00-532329C7B94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2FC1-0698-4AEE-B73B-C42005B2557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369C-F5AF-45D0-80F5-A3AE1D2E1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67DA-D1FF-4BC9-8CA2-2729E5A2D8A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D18E-C2DC-4DA4-B1F7-1A67D23E70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88DA-6388-4AF8-9DC3-A54FDA7D888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83796-ADC1-4B03-8C91-D5A7950C96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20E84-0BEA-40B9-9EBC-AF1E208ECEE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7F85A-0105-45B5-B3AB-E78E90C398C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EB063D-A5BA-43C5-9FD5-FA1C747D9DA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82C59-E7AE-40FC-A4F1-7C9057E1B8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5F043-D49F-4FA6-8E57-3E5556739C3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9DE17-FEAD-4FEE-8DB1-05D8F46146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2A1DA-C2CC-424E-82D2-69DC0EECEE0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1CC0D-FB36-438C-BBDC-A9FC89DE7F0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29A22-189B-49B1-8879-CDE9FA62421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287EC-E7D4-408C-BFEC-B372708C93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4FDCB4-FDDF-458E-B876-ABFA0F68DC8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149101-6521-4BAC-8D68-7F9C5E98EBD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EE8C7-CD62-4C9B-8F79-0BEEDB5ECCC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40AE4-3FB6-435B-87E3-3D398B97CE5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359B9-71DF-48E9-8877-E2AE27042FE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E0CB3-5FBD-447A-969B-2D1D57F833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6FA7F-E2CB-4F76-9528-18D7BB144F4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7B87C-94EA-486F-8BB1-2810343394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CB1EB-41B3-4D18-9312-BF85782CF54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B5279-E05A-49BF-9CA2-CCB3B3571E4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B0F15-DDF4-4F61-B5D1-6B1587CD4FA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3C7F5-ACF5-4E60-A08C-029C85BC9BF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0E2FB-F821-458A-9967-393DE3DE25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0FD0-A470-44D4-841C-C0D66D199B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90CD-5681-4D00-AFA9-949D592EBF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6FE0-8E2B-450D-883E-A3CEEA592B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222D-13C0-43FA-A4C6-2B4090568C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6B83-0EE3-4C9F-B581-B8F611971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3097-D1B9-4335-95DC-7EF775F3C5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027A-3B85-437D-8FB4-2A2905D076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D5B6-96A0-4239-B13F-6403E05AD5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9144-10B1-4440-A408-9DB74FEE64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3C0A-8C31-411B-BCD7-803FC6D100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FE64-E4E6-4DDF-908E-2981C5C15B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0709-A248-41CA-9A0D-FD1DAD2E6C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D017-58F2-4EA0-B25D-88005B0242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385A-CAC1-44A1-8220-EDFE7C4B73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DE36-11F4-4405-8968-0B3393355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3011-2005-490C-839C-83C624847D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2B1B-12A3-4C8D-815F-945BA86114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FBFD-0B1B-4187-ABE9-FD7C51FB81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B31C-6E72-4FE8-BE99-F29B24CBB6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EC54-6289-4DBA-BF35-8BEDCD4534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828E-180D-45A0-A5FC-4826A11077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9F20-9168-420C-B30B-9215A82AC4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7266-414B-452A-AF4D-3FD013C310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E229-3D14-42FB-802C-4AF3E58F1D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405-F3A9-466F-860D-9153C3099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C32-11BA-4308-9007-C4BD8422A9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5E8-5487-4E3F-8F69-54446E7BAEB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8BE-78D4-4E50-8326-708360B74A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7C7-A6AF-48B5-B71B-AF003D5C2E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BF9-A632-40FB-9426-99A4CA91682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517-867D-444F-B8CE-5B0C035734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4AF-CCBC-4597-B4AA-C56BE3000C9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8FD-E926-484A-9F82-AC94847595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7B3-9839-4A85-8CCA-A6D05D7B56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4EB-C8EB-4F8A-8FF0-F37EB8545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163-682C-4BEB-B11C-40ACEF09CE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65269-1BE5-41D0-A34E-7E50193161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6397E-53C0-4F01-9EA9-CF06A1CA5B5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D3A6B-41CB-41D1-AF2A-3D3DAC26F4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55B69-F3DC-4E69-8F1B-7E84961ED85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A7F9D-7BAB-4F30-99C0-B12AC66919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8E719-5D6F-4341-A45E-279F4DDF17A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B7C52-6538-4B10-A30F-E81849144CB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3C2AD-EC00-48B7-921E-8B2C91BB423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790A4-1050-4CA1-960F-13AF61C92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CB08F-3DB4-4B78-899E-3F94F4273E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FC24F-2001-434D-8D5A-55E31905081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D74BF-AD0D-41C2-AF7B-5D1271C1B2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5FE3A-4F8A-4244-BECB-693DFD949F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ADF7-6A12-4F93-B3FD-41DEE7AE34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13DF7-4CA7-4136-8043-57E52BBC73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A0723-3995-4579-968D-5BEE40C938E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AE09D-F178-4EBF-826E-4E8D0C5841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76BF7-89E8-4D67-98E3-B124D26048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E3932-6D51-42F7-9C37-03323BA5C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A68C0-9F79-45D6-9A06-692391670A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140F0-4C1A-411D-B9B2-A32086E190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0725B-4F2B-44A9-8D14-DFF1F82339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4BE57-D818-4563-B586-A7831A46CF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7D48B-DE52-4C93-972A-72EB0C11DDF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B293-E1DC-43C1-9686-DCABF1D267C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D04-FB73-4458-9A6D-3B827B42FF6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329B-A736-486F-BA3F-DA13D1C0541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D3E2-FBD1-4F2E-802F-A9588C772B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D957-4194-4999-AB90-71C5665A4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A260-05B6-42AD-9DAE-2D9C3055402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61FF-3ADE-460E-9404-79D1D458BCF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95F9-D5B9-4272-B58E-1AB42BCAB73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DE89-1C8E-4C89-81E5-7B0EAB8F535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2077-B624-4F1C-9B57-3870CDF2AF7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A1E5-5259-4E4B-B356-E482736C6B6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37EF-ED3A-4EDE-8847-ADF9931DB7B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C26720-781F-43BA-91D8-56D51FE799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62D8B-3B6E-41B0-8FE6-B709C59937B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557BD-4FF6-4691-B0BA-B9968BA39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1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8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466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473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sldNum" idx="8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E1B3-8948-4B7B-8E1D-0C1EE289F4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517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3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524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sldNum" idx="9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580A-5A07-4CBC-953F-9BDC15E0A9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568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4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575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6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7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8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9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0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sldNum" idx="10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42A2-DFD7-490A-8A83-405691024B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619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25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626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7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8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9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0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1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sldNum" idx="11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6435-4EAE-469B-9579-1F27F0979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3" descr="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Freeform 24"/>
          <p:cNvSpPr/>
          <p:nvPr/>
        </p:nvSpPr>
        <p:spPr>
          <a:xfrm>
            <a:off x="-17640" y="3429000"/>
            <a:ext cx="9172800" cy="172728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Freeform 25"/>
          <p:cNvSpPr/>
          <p:nvPr/>
        </p:nvSpPr>
        <p:spPr>
          <a:xfrm>
            <a:off x="-19080" y="1168560"/>
            <a:ext cx="9163080" cy="2965320"/>
          </a:xfrm>
          <a:custGeom>
            <a:avLst/>
            <a:gdLst/>
            <a:ahLst/>
            <a:rect l="l" t="t" r="r" b="b"/>
            <a:pathLst>
              <a:path w="5790" h="1868">
                <a:moveTo>
                  <a:pt x="12" y="50"/>
                </a:moveTo>
                <a:lnTo>
                  <a:pt x="1632" y="44"/>
                </a:lnTo>
                <a:lnTo>
                  <a:pt x="1632" y="0"/>
                </a:lnTo>
                <a:lnTo>
                  <a:pt x="5790" y="0"/>
                </a:lnTo>
                <a:lnTo>
                  <a:pt x="5790" y="1820"/>
                </a:lnTo>
                <a:lnTo>
                  <a:pt x="4194" y="1820"/>
                </a:lnTo>
                <a:lnTo>
                  <a:pt x="4194" y="1868"/>
                </a:lnTo>
                <a:lnTo>
                  <a:pt x="0" y="1856"/>
                </a:lnTo>
                <a:lnTo>
                  <a:pt x="12" y="50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-7920" y="1844640"/>
            <a:ext cx="9151920" cy="157176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" name="Group 27"/>
          <p:cNvGrpSpPr/>
          <p:nvPr/>
        </p:nvGrpSpPr>
        <p:grpSpPr>
          <a:xfrm>
            <a:off x="895320" y="-6480"/>
            <a:ext cx="7327800" cy="6864480"/>
            <a:chOff x="895320" y="-6480"/>
            <a:chExt cx="7327800" cy="6864480"/>
          </a:xfrm>
        </p:grpSpPr>
        <p:sp>
          <p:nvSpPr>
            <p:cNvPr id="55" name="Line 28"/>
            <p:cNvSpPr/>
            <p:nvPr/>
          </p:nvSpPr>
          <p:spPr>
            <a:xfrm>
              <a:off x="8953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Line 29"/>
            <p:cNvSpPr/>
            <p:nvPr/>
          </p:nvSpPr>
          <p:spPr>
            <a:xfrm>
              <a:off x="2577960" y="-324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>
              <a:off x="663264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>
              <a:off x="701352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>
              <a:off x="731844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>
              <a:off x="822312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" name="Line 34"/>
          <p:cNvSpPr/>
          <p:nvPr/>
        </p:nvSpPr>
        <p:spPr>
          <a:xfrm>
            <a:off x="0" y="3108240"/>
            <a:ext cx="9144000" cy="0"/>
          </a:xfrm>
          <a:prstGeom prst="line">
            <a:avLst/>
          </a:prstGeom>
          <a:ln w="9360">
            <a:solidFill>
              <a:srgbClr val="dddddd">
                <a:alpha val="7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Line 35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Group 36"/>
          <p:cNvGrpSpPr/>
          <p:nvPr/>
        </p:nvGrpSpPr>
        <p:grpSpPr>
          <a:xfrm>
            <a:off x="0" y="-39600"/>
            <a:ext cx="9144000" cy="4068720"/>
            <a:chOff x="0" y="-39600"/>
            <a:chExt cx="9144000" cy="4068720"/>
          </a:xfrm>
        </p:grpSpPr>
        <p:sp>
          <p:nvSpPr>
            <p:cNvPr id="64" name="Oval 37"/>
            <p:cNvSpPr/>
            <p:nvPr/>
          </p:nvSpPr>
          <p:spPr>
            <a:xfrm>
              <a:off x="1085760" y="3032280"/>
              <a:ext cx="978120" cy="97776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Oval 38"/>
            <p:cNvSpPr/>
            <p:nvPr/>
          </p:nvSpPr>
          <p:spPr>
            <a:xfrm>
              <a:off x="1816200" y="1203480"/>
              <a:ext cx="2793960" cy="279396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0" y="-360"/>
              <a:ext cx="7456320" cy="40100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Arc 40"/>
            <p:cNvSpPr/>
            <p:nvPr/>
          </p:nvSpPr>
          <p:spPr>
            <a:xfrm>
              <a:off x="4324320" y="-39600"/>
              <a:ext cx="4811760" cy="4019400"/>
            </a:xfrm>
            <a:custGeom>
              <a:avLst/>
              <a:gdLst/>
              <a:ahLst/>
              <a:rect l="l" t="t" r="r" b="b"/>
              <a:pathLst>
                <a:path fill="none" w="35010" h="29252">
                  <a:moveTo>
                    <a:pt x="35010" y="24585"/>
                  </a:moveTo>
                  <a:cubicBezTo>
                    <a:pt x="31193" y="27607"/>
                    <a:pt x="26468" y="29251"/>
                    <a:pt x="21600" y="29252"/>
                  </a:cubicBezTo>
                  <a:cubicBezTo>
                    <a:pt x="9670" y="29252"/>
                    <a:pt x="0" y="19581"/>
                    <a:pt x="0" y="7652"/>
                  </a:cubicBezTo>
                  <a:cubicBezTo>
                    <a:pt x="-1" y="5037"/>
                    <a:pt x="474" y="2444"/>
                    <a:pt x="1400" y="-1"/>
                  </a:cubicBezTo>
                </a:path>
                <a:path stroke="0" w="35010" h="29252">
                  <a:moveTo>
                    <a:pt x="35010" y="24585"/>
                  </a:moveTo>
                  <a:cubicBezTo>
                    <a:pt x="31193" y="27607"/>
                    <a:pt x="26468" y="29251"/>
                    <a:pt x="21600" y="29252"/>
                  </a:cubicBezTo>
                  <a:cubicBezTo>
                    <a:pt x="9670" y="29252"/>
                    <a:pt x="0" y="19581"/>
                    <a:pt x="0" y="7652"/>
                  </a:cubicBezTo>
                  <a:cubicBezTo>
                    <a:pt x="-1" y="5037"/>
                    <a:pt x="474" y="2444"/>
                    <a:pt x="1400" y="-1"/>
                  </a:cubicBezTo>
                  <a:lnTo>
                    <a:pt x="21600" y="7652"/>
                  </a:lnTo>
                  <a:lnTo>
                    <a:pt x="35010" y="2458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>
              <a:off x="0" y="40100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Oval 42"/>
            <p:cNvSpPr/>
            <p:nvPr/>
          </p:nvSpPr>
          <p:spPr>
            <a:xfrm>
              <a:off x="619200" y="3505320"/>
              <a:ext cx="523800" cy="52380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116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sldNum" idx="1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9EBD-EDB8-4705-BA82-483BF2E179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167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sldNum" idx="2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DDB8-CFB3-4EF4-AE3E-620DB06D1E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7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218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sldNum" idx="3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3761-451F-46E3-9ED8-573A34EE80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269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FD22-C98D-46F6-AD6E-A0CD508F7A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313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6">
            <a:hlinkClick r:id="rId4"/>
          </p:cNvPr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19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320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sldNum" idx="5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B9F6-F100-4824-AD40-45878E9ACF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0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371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2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sldNum" idx="6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0562-F5B6-4001-BB51-3720130277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8" descr="green"/>
          <p:cNvPicPr/>
          <p:nvPr/>
        </p:nvPicPr>
        <p:blipFill>
          <a:blip r:embed="rId2"/>
          <a:stretch/>
        </p:blipFill>
        <p:spPr>
          <a:xfrm>
            <a:off x="0" y="-3240"/>
            <a:ext cx="9163080" cy="3146400"/>
          </a:xfrm>
          <a:prstGeom prst="rect">
            <a:avLst/>
          </a:prstGeom>
          <a:ln w="0">
            <a:noFill/>
          </a:ln>
        </p:spPr>
      </p:pic>
      <p:sp>
        <p:nvSpPr>
          <p:cNvPr id="415" name="Freeform 3"/>
          <p:cNvSpPr/>
          <p:nvPr/>
        </p:nvSpPr>
        <p:spPr>
          <a:xfrm>
            <a:off x="-9360" y="476280"/>
            <a:ext cx="917244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7448400" y="650880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99ff33">
                  <a:alpha val="80000"/>
                </a:srgbClr>
              </a:gs>
              <a:gs pos="100000">
                <a:srgbClr val="2b56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1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422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sldNum" idx="7"/>
          </p:nvPr>
        </p:nvSpPr>
        <p:spPr>
          <a:xfrm>
            <a:off x="4098960" y="6538680"/>
            <a:ext cx="98280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3B3E-992C-4172-B1F0-14BA03C66D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2"/>
          <p:cNvSpPr/>
          <p:nvPr/>
        </p:nvSpPr>
        <p:spPr>
          <a:xfrm>
            <a:off x="3997080" y="3429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4.0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16000" y="2112480"/>
            <a:ext cx="75470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国外经典绿色风格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1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7:31:07Z</dcterms:created>
  <dc:creator>ARTCOM PT</dc:creator>
  <dc:description>본 디자인은 ARTCOM PT연구소에 저작권이 있습니다. </dc:description>
  <dc:language>en-US</dc:language>
  <cp:lastModifiedBy>王玉清</cp:lastModifiedBy>
  <dcterms:modified xsi:type="dcterms:W3CDTF">2016-02-21T05:01:31Z</dcterms:modified>
  <cp:revision>20</cp:revision>
  <dc:subject/>
  <dc:title>슬라이드 1</dc:title>
</cp:coreProperties>
</file>