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02D-655C-4897-BD51-19864CD2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F56-AEEE-423D-9466-657072BE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EFA14-F344-49C7-80E6-0FFB2A48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0AD50-979C-4E44-95C5-2F72713D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6B9F6-9D58-4866-8D9B-46DC5607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5EFE9-52A9-4AC9-9032-AA7BE141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77E29-C737-4CC0-8378-C232DE0D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8F43D-CAD4-4F68-926E-1FD78880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A6915-EB6F-4876-879F-A120F458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A9332-B800-4FD2-822C-40AF0F05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97816-07F6-4241-8C44-A44E6134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50143-75EC-47C7-82B9-95F0AF75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489-C4A4-4C4A-B665-5A3FF926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701C2-2E2E-4CBE-ABE4-261BBF97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01CF0-A665-4B7A-B3BF-CEA9DB1F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3875F-B240-4094-9F42-DE245B18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9D050-573F-487A-AE0B-A4F38D42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7AB51-66FB-47A7-89DB-711DADC3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CC1AB-DC1A-4802-BC95-83ED6D2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D41FF-64E4-4261-9560-FBFD3B7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F60E0-7261-49EB-94CE-6F243125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6CBE1-3401-40FC-BFE9-1068B85B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C479F-E54B-4EEC-B89F-2CE2516F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983-936B-441F-AB7D-B3F8D4E7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BB941-4FD3-4943-9153-E47D0627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DF83A-CAAD-48D0-A194-39DC7F4B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3D3A5-412B-479D-AD8D-93314DEA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33FA5-94A8-4CB0-A097-AB500147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D1CD5-D443-4BF9-A83E-ED2DD0B1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FAD7C-5FF4-4301-A297-9DF3A998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2B9CF-7CF1-4661-B337-FD8318DB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77011-D6E8-48BF-A12A-D1C85BC0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0FCB7-F86B-44D1-A439-88554BF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12397-3B1B-42DC-8CB2-5AB0825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62FB-F935-4720-A559-4A0D3B10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AE384-69D2-4A20-B52A-459E45D1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BCAC2-336F-4D57-8DDB-B151F3BB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1CB9E-9868-48F3-9339-CAB09491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3E84F-2A35-4ABB-9603-6A0B4C31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D5083-D8BE-445E-95A8-DC76BA89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F71A1-2AC4-4C71-8C88-737E3C61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718AD-81F8-4DFA-BAA0-F1DB34D8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4C3E9-2A97-4503-A88D-5E8301AA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04ADB-E78A-45A7-92AA-DE605F9F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AA899-622F-4254-BC68-207BFF5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CF85-B450-4FA5-B245-E9D3B02F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8F629-D626-4AB1-B6FE-2C66ABAE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62F9C-4E61-4627-822E-A0F0AE88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2F6E2-FA5C-4B58-A694-5AAB1FC8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F12BE-F2A6-402A-BAD7-F7C7AE30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34411-EF01-4FF2-A095-F992870C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4CE42-414D-4E97-86DE-3D93BBAE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119DB-DEF0-4A51-9A9D-AC01E1A6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89855-DF3A-4554-898A-186118FF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9AB86-42D4-46FF-AB99-C5731E25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53259-62F5-4D87-962F-81D1E587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55B2-5B3C-42B9-844E-F8A03B94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95079-BF4A-4023-889A-844F8F5A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C1F4C-D2EA-453E-B9FF-DBD9002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C6580-0677-4922-8292-65CCE86A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743DE-F75D-4E15-AEE9-27ADBDD3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B7A57-D9B7-4D67-BC25-C74295D3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0D99D-742A-47FC-A38D-2032C7EA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312D0-4702-4D88-89A4-B2CCF754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758B-52AF-46FD-8FAF-32E13F35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15F1-BEC0-428B-B631-5BC2C66F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2B22-9BEF-47F5-9DFE-A8D7732C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8B7B-8B3A-49E0-8AD8-62058CEA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4F4-C14D-4A34-A0F2-28330AF3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23A8-5A50-43F9-9BF4-41B990FE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535E-363C-44C8-B6E0-6F85D2F6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F12B-C558-4FCE-BA00-04146A57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28B6-C600-4A97-8A38-1936F927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6844-97BB-46CD-B3E8-2E0CF0BA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E72F-038F-4C77-ACA1-9E491422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140D-2788-4B35-848C-1C71E5DA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BFEF-B72B-4D0E-8780-12640BB9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6C40F-02E4-41F4-BD2F-E679EB83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6D64-6821-4BD9-82D6-8E9B236C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FCB-5E16-4821-821C-D0D2B8F7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954A5-BD13-4CD9-8387-27641EE5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EA8B-FF91-4C44-AD73-0FC4A81D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4E4B-C942-4EAE-8E09-D2CB568F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3E3C-D490-461E-932B-FCDF5D94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F034A-5E58-4A44-AC5B-B608A6A7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C1D9-42AE-4FC0-BC7F-A3A95C33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A317C-BBD5-4795-A90F-24879222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1046B-0566-4FCA-820E-97245311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2DED-75BF-442F-B105-4C541019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37FC-EC2E-4C85-A9BC-0831D707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492-41DD-4775-9A16-506398A8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FE6B-59C3-43DC-9862-D824222C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DAAF3-DEEB-424F-8416-72E0E24C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54F7-719D-47FC-8BC4-3CA486F6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D3783-FD09-4DCC-A45A-FD0A2A2A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A511-0451-49DA-BACA-9150FCA0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3957-B4AC-4CFD-8DBE-4B7D9B5E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D383-5F56-4F94-8F9E-34BE6C95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790F1-CAD6-4B3F-AEC9-365104C8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B64EF-635C-4844-BB75-3FB4EF29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2FE34-CF01-4077-92A1-A28E56A4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099-9F96-4F64-946E-17466297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3518-0C34-4FBE-AF62-FD9F017E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14B01-775D-4E1A-A351-E158BDAA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D44E-64A6-4944-B5ED-466A263E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A33D3-D142-4FF3-B0D3-905F5F8F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7D88-7040-43C7-832F-3BF4D0D2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ADDDC-663B-4865-A9E9-39EB199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61716-72A0-4EAA-A322-AB746C5E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62F93-D87F-4F55-942B-8982D53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3C40E-D434-4C02-ACB0-476A035C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F12D0-2700-4C5E-841C-09707AA0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039-3D1E-42BC-A4A6-3F9C64A5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9F819-E6D7-4343-B515-5D450D19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E17FC-6805-4580-84B5-72C50C61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25A3A-6103-4746-8B71-355E5A1A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EFE6B-9339-47B4-8B48-A8CE226B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A861C-746F-4DBA-8ACE-D3CB606B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59744-A40B-4AA3-A109-3CEEE55A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569D3-2688-4D50-8D87-56D54683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DA900-1214-45E2-9993-73CC7619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6CB10-A1C9-42B0-BF50-07751C5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E75A0-87C8-4804-94C0-F63C93BC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388-91AA-4174-9594-2A141B3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F9CE1-7F56-4588-90C8-CF798589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05C7-1476-4C36-B7F5-2C46B693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1EC41-721C-4EF5-983B-8AC2A5BB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D37BC-9504-46CF-8ABA-3F4A5F2C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6E4BA-B99E-4EDF-9E54-42158CD6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0E4A4-322F-4745-B3F9-FD2635AA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7F940-9D13-486A-8121-58012BCE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A512D-834F-441B-B98A-E71C6832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305E9-32D9-44BD-AB53-3212D924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DE082-6E9A-4C83-A2AB-10112395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E17-3A02-48A0-AAF2-FCF566C5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EB51F-955A-4C6C-BB46-CA72240A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57531-B1C8-4A8A-877F-C38FCC13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A6CB-080E-4ADC-99DD-65780DCB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84777-609F-43AA-8569-02054729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C8408-C53B-44EE-B137-50EDF8C8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534BF-91E2-41B3-9556-9F3129D7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0357-6031-4016-8454-A1601110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C40CC-8A2D-4453-8EC0-413B5F77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DFB3-3168-4787-A40C-5CD04282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58C23-D6FF-4C6D-AC9E-43D7EC3C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ADC-887E-4145-A44F-CA8A21C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FC17E-11E8-4EA8-A895-F644BD17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9D0DE-15D0-435F-A2DD-CB24505C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8ADA7-9E36-47F4-8AB8-E3D65755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17D6D-2BA5-425C-A7D4-83A9ADE7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D2E5C-3948-494B-85E8-D7BF4D0B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F997C-2CF3-41E4-BFE0-D2669F39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2B018-375B-47F1-B866-E88EE000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A9B2A-B80F-496F-8F92-CDC01645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32384-E2FA-4F7E-8A0C-355B934E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04FE9-99BE-4947-ABE0-85D35577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F015-EF1A-4E4C-9376-27F4A9B336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E7D7-E790-4BF5-BD27-BB33E89F90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7AE2-45BE-4DAC-8EDE-ED13F99DE8E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6944-D079-422A-B959-A9A03DFC5F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67C4-2E6D-4395-893E-E899DE97597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3AE4-6B49-46FF-A8F5-0395639A0E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6C25-41FC-46F3-8087-8E115E9FA6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B551-9E26-4244-AE3D-D46BD5DD7E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BC2F-CDA4-4AFB-B3CE-5EDA2EEF81B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CB00-EFE6-4A5B-836A-E6603A36B3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FC77-FCA3-470F-94C0-963298A1AA3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7755-108D-4C0D-A9BC-7EAE7847A0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6A4C-846F-445C-A498-196ED54E08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4816-1C13-432B-9839-49248488D7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877B-9922-48A4-AC7A-3377587D19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509E-5592-4C95-80E2-79FCE4D05F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398E-C818-430A-91C8-3FA521E0ED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6C04-E6C7-404B-BFB7-EF6745AC9E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8B35-A7B5-4723-B55D-075B4C4153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80EF-8FDD-4C81-9EEE-C3CEC45717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FA2D-ECCD-4D44-A62D-A02E528613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471A-F451-4F81-AC37-481829EBCD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319C-29E9-4373-869C-DB705C6549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F1F3-6CD0-4802-AFA9-BBF3916D0C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E966-9031-45A2-99E5-9AA08E6680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FD9D-C5E9-4C0B-8A99-60CB26AB1E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rcRect l="13575" t="9752" r="16476" b="15029"/>
          <a:stretch/>
        </p:blipFill>
        <p:spPr>
          <a:xfrm>
            <a:off x="-4680" y="-12600"/>
            <a:ext cx="9180360" cy="6870600"/>
          </a:xfrm>
          <a:prstGeom prst="rect">
            <a:avLst/>
          </a:prstGeom>
          <a:ln w="0">
            <a:noFill/>
          </a:ln>
        </p:spPr>
      </p:pic>
      <p:sp>
        <p:nvSpPr>
          <p:cNvPr id="534" name="TextBox 4"/>
          <p:cNvSpPr/>
          <p:nvPr/>
        </p:nvSpPr>
        <p:spPr>
          <a:xfrm>
            <a:off x="466560" y="476280"/>
            <a:ext cx="208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6"/>
          <p:cNvSpPr/>
          <p:nvPr/>
        </p:nvSpPr>
        <p:spPr>
          <a:xfrm>
            <a:off x="5616720" y="3422520"/>
            <a:ext cx="26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矩形 5" descr=""/>
          <p:cNvPicPr/>
          <p:nvPr/>
        </p:nvPicPr>
        <p:blipFill>
          <a:blip r:embed="rId2"/>
          <a:stretch/>
        </p:blipFill>
        <p:spPr>
          <a:xfrm>
            <a:off x="2041560" y="901800"/>
            <a:ext cx="6950160" cy="5157720"/>
          </a:xfrm>
          <a:prstGeom prst="rect">
            <a:avLst/>
          </a:prstGeom>
          <a:ln w="0">
            <a:noFill/>
          </a:ln>
        </p:spPr>
      </p:pic>
      <p:sp>
        <p:nvSpPr>
          <p:cNvPr id="537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2"/>
          <a:srcRect l="0" t="0" r="36927" b="24689"/>
          <a:stretch/>
        </p:blipFill>
        <p:spPr>
          <a:xfrm>
            <a:off x="7373880" y="522288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"/>
          <p:cNvPicPr/>
          <p:nvPr/>
        </p:nvPicPr>
        <p:blipFill>
          <a:blip r:embed="rId3"/>
          <a:srcRect l="36927" t="24689" r="0" b="0"/>
          <a:stretch/>
        </p:blipFill>
        <p:spPr>
          <a:xfrm>
            <a:off x="-14400" y="-1440"/>
            <a:ext cx="1782720" cy="1633320"/>
          </a:xfrm>
          <a:prstGeom prst="rect">
            <a:avLst/>
          </a:prstGeom>
          <a:ln w="0">
            <a:noFill/>
          </a:ln>
        </p:spPr>
      </p:pic>
      <p:grpSp>
        <p:nvGrpSpPr>
          <p:cNvPr id="541" name="Group 5"/>
          <p:cNvGrpSpPr/>
          <p:nvPr/>
        </p:nvGrpSpPr>
        <p:grpSpPr>
          <a:xfrm>
            <a:off x="2843280" y="2411280"/>
            <a:ext cx="3816360" cy="513000"/>
            <a:chOff x="2843280" y="2411280"/>
            <a:chExt cx="3816360" cy="513000"/>
          </a:xfrm>
        </p:grpSpPr>
        <p:grpSp>
          <p:nvGrpSpPr>
            <p:cNvPr id="542" name="Group 6"/>
            <p:cNvGrpSpPr/>
            <p:nvPr/>
          </p:nvGrpSpPr>
          <p:grpSpPr>
            <a:xfrm>
              <a:off x="2843280" y="2492280"/>
              <a:ext cx="3816360" cy="432000"/>
              <a:chOff x="2843280" y="2492280"/>
              <a:chExt cx="3816360" cy="432000"/>
            </a:xfrm>
          </p:grpSpPr>
          <p:sp>
            <p:nvSpPr>
              <p:cNvPr id="543" name="矩形 3"/>
              <p:cNvSpPr/>
              <p:nvPr/>
            </p:nvSpPr>
            <p:spPr>
              <a:xfrm>
                <a:off x="2843280" y="2492280"/>
                <a:ext cx="3816360" cy="43200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4" name="Picture 2" descr=""/>
              <p:cNvPicPr/>
              <p:nvPr/>
            </p:nvPicPr>
            <p:blipFill>
              <a:blip r:embed="rId4"/>
              <a:srcRect l="0" t="20491" r="36927" b="24689"/>
              <a:stretch/>
            </p:blipFill>
            <p:spPr>
              <a:xfrm rot="10800000">
                <a:off x="2843280" y="2492280"/>
                <a:ext cx="936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TextBox 5"/>
              <p:cNvSpPr/>
              <p:nvPr/>
            </p:nvSpPr>
            <p:spPr>
              <a:xfrm>
                <a:off x="3779280" y="252360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Box 7"/>
            <p:cNvSpPr/>
            <p:nvPr/>
          </p:nvSpPr>
          <p:spPr>
            <a:xfrm>
              <a:off x="2843280" y="2411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1"/>
          <p:cNvGrpSpPr/>
          <p:nvPr/>
        </p:nvGrpSpPr>
        <p:grpSpPr>
          <a:xfrm>
            <a:off x="2843280" y="3954600"/>
            <a:ext cx="3816360" cy="512640"/>
            <a:chOff x="2843280" y="3954600"/>
            <a:chExt cx="3816360" cy="512640"/>
          </a:xfrm>
        </p:grpSpPr>
        <p:grpSp>
          <p:nvGrpSpPr>
            <p:cNvPr id="548" name="Group 12"/>
            <p:cNvGrpSpPr/>
            <p:nvPr/>
          </p:nvGrpSpPr>
          <p:grpSpPr>
            <a:xfrm>
              <a:off x="2843280" y="4035240"/>
              <a:ext cx="3816360" cy="432000"/>
              <a:chOff x="2843280" y="4035240"/>
              <a:chExt cx="3816360" cy="432000"/>
            </a:xfrm>
          </p:grpSpPr>
          <p:sp>
            <p:nvSpPr>
              <p:cNvPr id="549" name="矩形 13"/>
              <p:cNvSpPr/>
              <p:nvPr/>
            </p:nvSpPr>
            <p:spPr>
              <a:xfrm>
                <a:off x="2843280" y="4035600"/>
                <a:ext cx="3816360" cy="43164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0" name="Picture 2" descr=""/>
              <p:cNvPicPr/>
              <p:nvPr/>
            </p:nvPicPr>
            <p:blipFill>
              <a:blip r:embed="rId5"/>
              <a:srcRect l="0" t="20491" r="36927" b="24689"/>
              <a:stretch/>
            </p:blipFill>
            <p:spPr>
              <a:xfrm rot="10800000">
                <a:off x="2843280" y="4035240"/>
                <a:ext cx="936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Box 15"/>
              <p:cNvSpPr/>
              <p:nvPr/>
            </p:nvSpPr>
            <p:spPr>
              <a:xfrm>
                <a:off x="3779280" y="406692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12"/>
            <p:cNvSpPr/>
            <p:nvPr/>
          </p:nvSpPr>
          <p:spPr>
            <a:xfrm>
              <a:off x="2843280" y="39546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7"/>
          <p:cNvGrpSpPr/>
          <p:nvPr/>
        </p:nvGrpSpPr>
        <p:grpSpPr>
          <a:xfrm>
            <a:off x="2843280" y="3182760"/>
            <a:ext cx="3816360" cy="513000"/>
            <a:chOff x="2843280" y="3182760"/>
            <a:chExt cx="3816360" cy="513000"/>
          </a:xfrm>
        </p:grpSpPr>
        <p:grpSp>
          <p:nvGrpSpPr>
            <p:cNvPr id="554" name="Group 18"/>
            <p:cNvGrpSpPr/>
            <p:nvPr/>
          </p:nvGrpSpPr>
          <p:grpSpPr>
            <a:xfrm>
              <a:off x="2843280" y="3263760"/>
              <a:ext cx="3816360" cy="432000"/>
              <a:chOff x="2843280" y="3263760"/>
              <a:chExt cx="3816360" cy="432000"/>
            </a:xfrm>
          </p:grpSpPr>
          <p:sp>
            <p:nvSpPr>
              <p:cNvPr id="555" name="矩形 19"/>
              <p:cNvSpPr/>
              <p:nvPr/>
            </p:nvSpPr>
            <p:spPr>
              <a:xfrm>
                <a:off x="2843280" y="3263760"/>
                <a:ext cx="3816360" cy="43200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6" name="Picture 2" descr=""/>
              <p:cNvPicPr/>
              <p:nvPr/>
            </p:nvPicPr>
            <p:blipFill>
              <a:blip r:embed="rId6"/>
              <a:srcRect l="0" t="20491" r="36927" b="24689"/>
              <a:stretch/>
            </p:blipFill>
            <p:spPr>
              <a:xfrm rot="10800000">
                <a:off x="2843280" y="3263760"/>
                <a:ext cx="936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TextBox 21"/>
              <p:cNvSpPr/>
              <p:nvPr/>
            </p:nvSpPr>
            <p:spPr>
              <a:xfrm>
                <a:off x="3779280" y="329508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TextBox 18"/>
            <p:cNvSpPr/>
            <p:nvPr/>
          </p:nvSpPr>
          <p:spPr>
            <a:xfrm>
              <a:off x="2843280" y="31827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23"/>
          <p:cNvGrpSpPr/>
          <p:nvPr/>
        </p:nvGrpSpPr>
        <p:grpSpPr>
          <a:xfrm>
            <a:off x="2843280" y="4724280"/>
            <a:ext cx="3816360" cy="514440"/>
            <a:chOff x="2843280" y="4724280"/>
            <a:chExt cx="3816360" cy="514440"/>
          </a:xfrm>
        </p:grpSpPr>
        <p:grpSp>
          <p:nvGrpSpPr>
            <p:cNvPr id="560" name="Group 24"/>
            <p:cNvGrpSpPr/>
            <p:nvPr/>
          </p:nvGrpSpPr>
          <p:grpSpPr>
            <a:xfrm>
              <a:off x="2843280" y="4805280"/>
              <a:ext cx="3816360" cy="433440"/>
              <a:chOff x="2843280" y="4805280"/>
              <a:chExt cx="3816360" cy="433440"/>
            </a:xfrm>
          </p:grpSpPr>
          <p:sp>
            <p:nvSpPr>
              <p:cNvPr id="561" name="矩形 25"/>
              <p:cNvSpPr/>
              <p:nvPr/>
            </p:nvSpPr>
            <p:spPr>
              <a:xfrm>
                <a:off x="2843280" y="4805640"/>
                <a:ext cx="3816360" cy="433080"/>
              </a:xfrm>
              <a:prstGeom prst="rect">
                <a:avLst/>
              </a:pr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2" name="Picture 2" descr=""/>
              <p:cNvPicPr/>
              <p:nvPr/>
            </p:nvPicPr>
            <p:blipFill>
              <a:blip r:embed="rId7"/>
              <a:srcRect l="0" t="20491" r="36927" b="24689"/>
              <a:stretch/>
            </p:blipFill>
            <p:spPr>
              <a:xfrm rot="10800000">
                <a:off x="2843280" y="4805280"/>
                <a:ext cx="93600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Box 27"/>
              <p:cNvSpPr/>
              <p:nvPr/>
            </p:nvSpPr>
            <p:spPr>
              <a:xfrm>
                <a:off x="3779280" y="4836960"/>
                <a:ext cx="23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TextBox 24"/>
            <p:cNvSpPr/>
            <p:nvPr/>
          </p:nvSpPr>
          <p:spPr>
            <a:xfrm>
              <a:off x="2843280" y="4724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9"/>
          <p:cNvSpPr/>
          <p:nvPr/>
        </p:nvSpPr>
        <p:spPr>
          <a:xfrm>
            <a:off x="880920" y="7351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7f00"/>
                </a:solidFill>
                <a:latin typeface="微软雅黑"/>
                <a:ea typeface="微软雅黑"/>
              </a:rPr>
              <a:t>目录｜</a:t>
            </a:r>
            <a:r>
              <a:rPr b="0" lang="en-US" sz="2400" spc="-1" strike="noStrike">
                <a:solidFill>
                  <a:srgbClr val="ff7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29"/>
          <p:cNvSpPr/>
          <p:nvPr/>
        </p:nvSpPr>
        <p:spPr>
          <a:xfrm>
            <a:off x="108000" y="1298520"/>
            <a:ext cx="4319640" cy="0"/>
          </a:xfrm>
          <a:prstGeom prst="line">
            <a:avLst/>
          </a:prstGeom>
          <a:ln w="9360">
            <a:solidFill>
              <a:srgbClr val="ff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"/>
          <p:cNvPicPr/>
          <p:nvPr/>
        </p:nvPicPr>
        <p:blipFill>
          <a:blip r:embed="rId2"/>
          <a:srcRect l="0" t="0" r="36927" b="24689"/>
          <a:stretch/>
        </p:blipFill>
        <p:spPr>
          <a:xfrm>
            <a:off x="7373880" y="5222880"/>
            <a:ext cx="1784520" cy="163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3"/>
          <a:srcRect l="36927" t="24689" r="0" b="0"/>
          <a:stretch/>
        </p:blipFill>
        <p:spPr>
          <a:xfrm>
            <a:off x="-14400" y="-1440"/>
            <a:ext cx="1782720" cy="163332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1:41:00Z</dcterms:created>
  <dc:creator>ppt宝藏</dc:creator>
  <dc:description/>
  <cp:keywords/>
  <dc:language>en-US</dc:language>
  <cp:lastModifiedBy>a</cp:lastModifiedBy>
  <cp:lastPrinted>1899-12-30T00:00:00Z</cp:lastPrinted>
  <dcterms:modified xsi:type="dcterms:W3CDTF">2015-07-25T12:29:53Z</dcterms:modified>
  <cp:revision>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