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56CD-B490-43FE-94C1-F42828DC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8DA-A07F-4C4E-BC6D-0A3BA859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262-DB81-4496-B90C-BE1E92F6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F2C-875A-43B2-8270-83BD2013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D57-BE4E-41C3-983C-E3AE1326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7BF-4836-473B-BA1C-36961EB6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3C34-7254-4895-9A6D-4152D9C2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A97-373D-487B-A609-A856FB94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DA1-8606-4DE4-9AAC-561AA831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8C7-BF79-483C-8BE2-DB61A847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4DA9-2EA0-4047-B103-1E0BCA8B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403-5BAE-44B9-A2AD-D988F3CD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2596-F5A0-4189-B373-6A470F50F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1badb"/>
              </a:gs>
              <a:gs pos="100000">
                <a:srgbClr val="2556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3"/>
          <p:cNvSpPr/>
          <p:nvPr/>
        </p:nvSpPr>
        <p:spPr>
          <a:xfrm>
            <a:off x="0" y="2514600"/>
            <a:ext cx="9144000" cy="0"/>
          </a:xfrm>
          <a:prstGeom prst="line">
            <a:avLst/>
          </a:prstGeom>
          <a:ln w="165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165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1447920" y="0"/>
            <a:ext cx="0" cy="6858000"/>
          </a:xfrm>
          <a:prstGeom prst="line">
            <a:avLst/>
          </a:prstGeom>
          <a:ln w="165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2438280" y="0"/>
            <a:ext cx="0" cy="6858000"/>
          </a:xfrm>
          <a:prstGeom prst="line">
            <a:avLst/>
          </a:prstGeom>
          <a:ln w="165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a5f697ee5124e8082df5349b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019920"/>
          </a:xfrm>
          <a:prstGeom prst="rect">
            <a:avLst/>
          </a:prstGeom>
          <a:ln w="0">
            <a:noFill/>
          </a:ln>
        </p:spPr>
      </p:pic>
      <p:sp>
        <p:nvSpPr>
          <p:cNvPr id="47" name="矩形 12"/>
          <p:cNvSpPr/>
          <p:nvPr/>
        </p:nvSpPr>
        <p:spPr>
          <a:xfrm>
            <a:off x="1923120" y="65232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蝴蝶飞舞水墨动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3.33333E-006 L 0 -0.32223 E">
                                      <p:cBhvr>
                                        <p:cTn id="24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-3.33333E-006 L 0 0.41111 E">
                                      <p:cBhvr>
                                        <p:cTn id="2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0 L 0.7 0 E">
                                      <p:cBhvr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33333E-006 0 L -0.125 0 E">
                                      <p:cBhvr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6T07:17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