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9A1-B1EB-4604-B994-A9D12287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BFA-BAC7-4848-BE13-180AD455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1A726-0294-4BB9-B6A0-2CFEBDAF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44CEE-3F94-4886-A233-A6458E90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67899-2C61-4BF6-A132-B7C015F9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FF1E9-58A6-4DF9-9361-0D3859D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5ECD3-FD08-4E07-89BE-EB6DB895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D86C2-2491-4FFC-8777-B7070135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B949D-5E1F-4086-8533-BB50FF55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66825-7597-469F-B6F9-3B9C8191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65364-F93D-4405-AE5B-722E60AD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9BC4F-D555-49BC-896F-4628F10F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33E-EECC-4359-9773-14986658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66CED-FA9A-45EE-BBFA-A9791AC2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584DD-888C-4E4E-8578-44A22139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48D18-0C0C-49CB-BE5A-C88F41DF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D86F3-04BC-45AB-B5C3-434AE927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A340A-40F6-4ED8-8CCF-6ABD51C5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741CA-C52D-41C9-B36C-EF86203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B37A5-61F3-4616-BA76-9EB2DDCE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C5A05-B945-4D63-AF4A-A4A9A3A9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A1E5C-118E-47EC-9D51-1E397F59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F9A3F-9986-46F4-84CF-2D38209F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37A-E7F0-47CB-85C7-5891C3C9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B2095-36EE-4803-BD01-C3F1172A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36EE1-587E-42F5-9E83-9E6133FE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1DAA6-3A11-4B1C-89C4-41F5CA74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0E1D2-6661-4E9D-89BC-2277A18B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EBF4C-E2BC-4585-B0D3-4097D551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9FF5B-490D-4C59-A3C7-68F47BA8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E400F-F415-4CC8-9C5B-C2BA3853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D9E1B-4AA9-4E4B-9B85-90D5D460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706EE-5230-40D3-B667-7690AF2C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71544-6E18-43BB-8C40-C8C42B8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EBD7-2354-4EFA-A70E-ACEBF398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DD8FC-ED8A-417D-8596-E0B22822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3CAC0-45F6-4803-8C21-19F51118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3D633-7FA4-426A-BA7E-BBE5E11C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C840B-15B6-4791-BDF3-383AE7F4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D1478-0991-40CA-98BC-D3F7101A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72DEF-D039-43E9-B1B9-1DD5D615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A6244-986A-428A-8345-B017E790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492FA-BB48-4398-A710-F5DFF07C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F9B1A-F4BD-45A3-B030-BEDA1D3F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342D5-C40A-4E69-9D88-E0AD7C42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C131-AA01-4B2B-A85C-4D129513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9EE85-0D0D-4329-98A9-6DD84F21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ECC58-D450-41F4-B096-5BB8E097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B38D7-CD2E-43AA-907A-A24FA908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29272-0EA3-4490-B36E-D4AF9DA4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2171F-E666-47C5-974C-1F0683BA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CB97B-D187-45BA-B048-403B6D92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968BE-C845-481F-A030-E7B8C15A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79077-EC35-4CCE-952E-A3AECFC5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44735-2442-48F3-BECE-E556BD5F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843A8-F53B-4D25-A614-81230AA6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92CC-8333-43DC-9D1C-92AFE610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FE89B-868B-4D5D-BC63-2EF489CC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9324D-7002-49BF-9C94-E26773A3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0AA45-75E5-4909-B965-AB31340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C169F-5CC9-4D6E-80D3-6496D5B6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87163-D1D2-46F5-87FD-46EDB35C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A8505-0F5A-46A6-940F-DA82A5CA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CA6F9-878C-4F6B-91A8-4125B9AB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5D37-D660-4F2C-BFF7-667D9458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28F6-8C5E-4F5E-975D-62957056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EF76-C00C-4865-ADD6-082FA5F6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CAD9-DA71-4A8D-B270-554225EB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AF3-9E22-48E5-969C-79EBEAFF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8568-472D-4961-A35A-9ED3B977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016E-EFA4-46AC-BEA5-1BECB5FE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B0C7-D489-4BC9-AA8C-3299F643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9089-CF63-45DD-A7BF-AC213262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F5EB-C248-4C47-BDCA-15D28638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4BAB-2478-4D3B-BFCC-4AE6906F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7C8C-C9B8-4A65-B1F5-948360D0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3023-41E9-434E-9E6E-6B2B43A9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81C7-5577-41F0-8D7E-5DC23E40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66946-E78A-4E8F-AD5F-491342FE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E99-D5FD-406B-9773-8993FE3A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C74D-5DA0-407C-8B60-ADCF7867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6E9D-3F77-4C30-A77D-8472ADFA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606E-0675-4A19-ABC4-3DFC91E6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5B78-2CF8-438C-89C9-977221D7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A1D6-E20A-4C72-BC39-83374C9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EE03-F143-4182-855C-2999EBCA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4A2C-5BA8-4027-973D-64479EAA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3C5C1-48BE-4F01-8FF9-9091B2DD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4506-422C-44AA-AED2-1DCBD2FF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D46F-4FEE-4BFE-9BF4-BCD0B9B7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753-E552-48F6-A5B6-0924CDF5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0DCB5-F420-425C-BAFD-10FF0A1A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CB9E0-497A-4B51-91F3-D3DC57F4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71C5C-B681-4C2A-A9CB-0A71469D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C00B-DA66-4A09-BFCE-69877C7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0765-A2AC-447C-A6CB-9B8234D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EF1A1-FD36-479A-9DE3-A40AC8F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3041-3A5D-4AD5-9BB6-8A389F32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83C6-B920-475A-9188-ED0961A9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ED444-D008-4DD5-BD15-3C7D38A0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38BC1-4C64-4D5B-A568-00B9BD61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1E6-370C-48E7-BE10-8CE5AE48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6C5E3-14E4-4312-8931-44134B1D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B14AB-F0C2-4443-AF07-D03AD62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A62C4-CCC1-49F5-94D0-DBECE537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3A9FE-2716-476F-9B71-69E79A42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E4A84-C2B3-4D86-ADA1-891C6F88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9698-E6A2-4A1B-B078-52CFDCB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9F228-ED81-4454-87AD-E430EB00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39996-31AA-4B2E-B36A-0DA64A10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76D17-EDB3-47F1-82B4-F7D9F078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B85F4-87E0-4894-BF94-28DA3111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AF2-79E7-4A9C-BA9F-9600773C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46D3-F27E-46A9-9BEF-D93E734E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A73C-FFDE-43A2-A254-0B2F977F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CAB35-D775-47C9-A56D-60901321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11A3A-B54D-4CCB-AFCA-4C2745D7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58572-53C2-441B-B22B-05112BEB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DA6B4-C765-4668-B87F-8B43649D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A80A4-5B4A-46DC-9775-9DD738BC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83F78-DD5C-427C-88A6-32613914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85C8-21C1-4D03-8AB4-F2737ED7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FD0A7-7D25-4D88-B778-ED49B69A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5B2-3D42-405C-AE43-1AC0777B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5906-7FD6-494C-90B6-ADEB1F2E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28AC2-929A-42D6-8E05-7BBFBE5A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577C1-FCDE-4B04-BFEE-F7440E7E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ECB31-7C4C-4011-9B76-EF1ED06A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D4F74-D602-4A37-BA75-56CF4307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3D4B1-A6ED-4F6F-8C9E-4AE009A8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3E596-5C5E-4F0B-8655-51376AC0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BB32C-CADC-483C-8185-D289D6D8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DC710-C4E5-489D-8C59-B0789CA2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6025B-C89D-4515-B1A4-177511D4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F74-01E4-4EA2-BF59-D5754724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9E49-7D20-4115-B8B7-C5C1D49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DE197-89EF-4F76-AC19-9B42427B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9A596-868E-4790-B06C-E8822108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63979-794C-47CE-9AA2-B92F3313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51615-3F83-44D3-BD6A-79C85733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62B57-9FFA-4851-873C-59DF3B17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11815-8761-48E5-8C7E-BF3FBE82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00197-A01C-4E92-94E5-39628243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16854-8FAA-4F09-AD6B-E035D6EA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03173-E0E5-4B09-AF49-2B7D4B18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021-045B-4AB6-93D1-CE8D9446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8350-6E2C-499B-8BAA-402C8751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74C20-3BAC-44B7-8621-B8B108DD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C0BE0-8011-4781-B4B1-6958E7F8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563AE-E7F9-46C3-B769-ABBEAD68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2E624-5AD9-4ECE-974E-B4ECDEEF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4D286-4356-4F2F-AB41-5444F69D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5F7C4-BAAA-4EB2-B284-C78531F8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BE10B-E739-489D-8213-6C85A9E5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D11C6-83A7-4338-A09D-312DFD79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E8FF5-EFE3-4C5E-8C73-A2C605E9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0EF1-BFE8-4F79-AA27-372268C132A9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A2FA-522D-4DED-B839-360C4DF810C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69A7-B0B3-45C4-841B-A1B288EF07B2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EF51-475D-4885-8EE7-1AA191E4A4A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CE0D-8440-4299-B488-5E8F14E1E7E6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0EEC-080D-4568-8AE2-EB319D1C75E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99AF-C4AE-453A-B71C-F69FDCC06582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341F-32C0-4E34-AC2A-C874A1BBB3A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4C8D-9B0C-408D-8684-BCC5BC797771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5CFA-CD20-4C05-980D-CB562BE5C59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93C7-3975-4B43-A4D0-F7CBF20D0792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751B-86E1-4E31-9677-17B14F48749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418A-5256-4828-BB38-FF98FEC5C391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8061-BB13-418F-BE89-EFCD49EDEDD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BA09-A455-4B16-B5BD-5CA64851493F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56D1-1774-4656-83C8-33D8AED86C5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468F-1578-41A2-8686-4CF9530513EC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81B7-6E7B-4C45-9E3A-05FAD043A50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1D13-D1AF-4468-B844-4E59AD50148E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0B87-A352-454B-902A-2C89451ADB7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6BC0-D318-42DC-8FB5-512FC2CFC1CA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C6F0-2BA8-4293-A1F7-328F1502315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0654-58D7-4D1C-BCAE-5E1965495F95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E5C7-9BA4-4011-83A1-B90ED9FBD35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9E16-34F9-45B5-9B9F-18798A23706C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C561-A021-43A1-BDE3-8E9EE7C6B82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직사각형 6"/>
          <p:cNvSpPr/>
          <p:nvPr/>
        </p:nvSpPr>
        <p:spPr>
          <a:xfrm>
            <a:off x="424440" y="3146400"/>
            <a:ext cx="8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나눔고딕"/>
              </a:rPr>
              <a:t>소속 </a:t>
            </a:r>
            <a:r>
              <a:rPr b="1" lang="en-US" sz="1200" spc="-1" strike="noStrike">
                <a:solidFill>
                  <a:srgbClr val="000000"/>
                </a:solidFill>
                <a:latin typeface="나눔고딕"/>
              </a:rPr>
              <a:t>/ </a:t>
            </a:r>
            <a:r>
              <a:rPr b="1" lang="zh-CN" sz="1200" spc="-1" strike="noStrike">
                <a:solidFill>
                  <a:srgbClr val="000000"/>
                </a:solidFill>
                <a:latin typeface="나눔고딕"/>
              </a:rPr>
              <a:t>작성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선 연결선 9"/>
          <p:cNvSpPr/>
          <p:nvPr/>
        </p:nvSpPr>
        <p:spPr>
          <a:xfrm flipH="1">
            <a:off x="431280" y="55404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선 연결선 10"/>
          <p:cNvSpPr/>
          <p:nvPr/>
        </p:nvSpPr>
        <p:spPr>
          <a:xfrm flipH="1" flipV="1">
            <a:off x="431280" y="3071880"/>
            <a:ext cx="1320840" cy="144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19"/>
          <p:cNvSpPr/>
          <p:nvPr/>
        </p:nvSpPr>
        <p:spPr>
          <a:xfrm>
            <a:off x="6900120" y="6345360"/>
            <a:ext cx="16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7f7f7f"/>
                </a:solidFill>
                <a:latin typeface="나눔고딕"/>
              </a:rPr>
              <a:t>.  </a:t>
            </a:r>
            <a:r>
              <a:rPr b="0" lang="zh-CN" sz="800" spc="-1" strike="noStrike" u="sng">
                <a:solidFill>
                  <a:srgbClr val="f2f2f2"/>
                </a:solidFill>
                <a:uFillTx/>
                <a:latin typeface="나눔고딕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9018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"/>
              </a:rPr>
              <a:t>韩国简约通用</a:t>
            </a:r>
            <a:r>
              <a:rPr b="1" lang="en-US" sz="4000" spc="-1" strike="noStrike">
                <a:solidFill>
                  <a:srgbClr val="ffffff"/>
                </a:solidFill>
                <a:latin typeface="나눔고딕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나눔고딕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3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다이어그램 1"/>
          <p:cNvSpPr/>
          <p:nvPr/>
        </p:nvSpPr>
        <p:spPr>
          <a:xfrm>
            <a:off x="2238480" y="1917720"/>
            <a:ext cx="5933880" cy="379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23" name="직선 연결선 5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직선 연결선 6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142720" y="236160"/>
            <a:ext cx="659916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타원 4"/>
          <p:cNvSpPr/>
          <p:nvPr/>
        </p:nvSpPr>
        <p:spPr>
          <a:xfrm>
            <a:off x="6429240" y="3335400"/>
            <a:ext cx="13525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17640" bIns="17640" anchor="ctr">
            <a:norm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내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타원 4"/>
          <p:cNvSpPr/>
          <p:nvPr/>
        </p:nvSpPr>
        <p:spPr>
          <a:xfrm>
            <a:off x="3144960" y="2514600"/>
            <a:ext cx="828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17640" bIns="17640" anchor="ctr">
            <a:norm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95640" y="2924280"/>
            <a:ext cx="617400" cy="21952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314960" y="2844720"/>
            <a:ext cx="617400" cy="21938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580000" y="2924280"/>
            <a:ext cx="617760" cy="21952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7843680" y="2844720"/>
            <a:ext cx="617760" cy="219384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9"/>
          <p:cNvGrpSpPr/>
          <p:nvPr/>
        </p:nvGrpSpPr>
        <p:grpSpPr>
          <a:xfrm>
            <a:off x="6048360" y="2992320"/>
            <a:ext cx="1979640" cy="1979640"/>
            <a:chOff x="6048360" y="2992320"/>
            <a:chExt cx="1979640" cy="1979640"/>
          </a:xfrm>
        </p:grpSpPr>
        <p:sp>
          <p:nvSpPr>
            <p:cNvPr id="634" name="타원 8"/>
            <p:cNvSpPr/>
            <p:nvPr/>
          </p:nvSpPr>
          <p:spPr>
            <a:xfrm>
              <a:off x="6048360" y="2992320"/>
              <a:ext cx="1979640" cy="197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타원 4"/>
            <p:cNvSpPr/>
            <p:nvPr/>
          </p:nvSpPr>
          <p:spPr>
            <a:xfrm>
              <a:off x="6584760" y="3575520"/>
              <a:ext cx="8589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Arial"/>
                  <a:ea typeface="宋体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직사각형 10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1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5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15"/>
          <p:cNvGrpSpPr/>
          <p:nvPr/>
        </p:nvGrpSpPr>
        <p:grpSpPr>
          <a:xfrm>
            <a:off x="2971800" y="4476600"/>
            <a:ext cx="1174680" cy="1173240"/>
            <a:chOff x="2971800" y="4476600"/>
            <a:chExt cx="1174680" cy="1173240"/>
          </a:xfrm>
        </p:grpSpPr>
        <p:sp>
          <p:nvSpPr>
            <p:cNvPr id="640" name="타원 14"/>
            <p:cNvSpPr/>
            <p:nvPr/>
          </p:nvSpPr>
          <p:spPr>
            <a:xfrm>
              <a:off x="2971800" y="4476600"/>
              <a:ext cx="1174680" cy="11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타원 4"/>
            <p:cNvSpPr/>
            <p:nvPr/>
          </p:nvSpPr>
          <p:spPr>
            <a:xfrm>
              <a:off x="3143880" y="4648320"/>
              <a:ext cx="83052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595959"/>
                  </a:solidFill>
                  <a:latin typeface="Arial"/>
                  <a:ea typeface="宋体"/>
                </a:rPr>
                <a:t>내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직선 연결선 16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선 연결선 17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20"/>
          <p:cNvGrpSpPr/>
          <p:nvPr/>
        </p:nvGrpSpPr>
        <p:grpSpPr>
          <a:xfrm>
            <a:off x="2971800" y="2320920"/>
            <a:ext cx="1174680" cy="1173240"/>
            <a:chOff x="2971800" y="2320920"/>
            <a:chExt cx="1174680" cy="1173240"/>
          </a:xfrm>
        </p:grpSpPr>
        <p:sp>
          <p:nvSpPr>
            <p:cNvPr id="645" name="타원 19"/>
            <p:cNvSpPr/>
            <p:nvPr/>
          </p:nvSpPr>
          <p:spPr>
            <a:xfrm>
              <a:off x="2971800" y="2320920"/>
              <a:ext cx="1174680" cy="11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타원 4"/>
            <p:cNvSpPr/>
            <p:nvPr/>
          </p:nvSpPr>
          <p:spPr>
            <a:xfrm>
              <a:off x="3143880" y="2492640"/>
              <a:ext cx="83052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595959"/>
                  </a:solidFill>
                  <a:latin typeface="Arial"/>
                  <a:ea typeface="宋体"/>
                </a:rPr>
                <a:t>내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36240" y="222120"/>
            <a:ext cx="660564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82520" y="6541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2f2f2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타원 1"/>
          <p:cNvSpPr/>
          <p:nvPr/>
        </p:nvSpPr>
        <p:spPr>
          <a:xfrm>
            <a:off x="2644920" y="2174760"/>
            <a:ext cx="3838320" cy="3838680"/>
          </a:xfrm>
          <a:prstGeom prst="ellipse">
            <a:avLst/>
          </a:prstGeom>
          <a:noFill/>
          <a:ln w="648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4"/>
          <p:cNvGrpSpPr/>
          <p:nvPr/>
        </p:nvGrpSpPr>
        <p:grpSpPr>
          <a:xfrm>
            <a:off x="2771640" y="2327400"/>
            <a:ext cx="885960" cy="885600"/>
            <a:chOff x="2771640" y="2327400"/>
            <a:chExt cx="885960" cy="885600"/>
          </a:xfrm>
        </p:grpSpPr>
        <p:sp>
          <p:nvSpPr>
            <p:cNvPr id="652" name="타원 3"/>
            <p:cNvSpPr/>
            <p:nvPr/>
          </p:nvSpPr>
          <p:spPr>
            <a:xfrm>
              <a:off x="2817000" y="2372760"/>
              <a:ext cx="795240" cy="79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타원 4"/>
            <p:cNvSpPr/>
            <p:nvPr/>
          </p:nvSpPr>
          <p:spPr>
            <a:xfrm>
              <a:off x="2771640" y="2327400"/>
              <a:ext cx="88596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37021"/>
                  </a:solidFill>
                  <a:latin typeface="Arial"/>
                  <a:ea typeface="宋体"/>
                </a:rPr>
                <a:t>내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7"/>
          <p:cNvGrpSpPr/>
          <p:nvPr/>
        </p:nvGrpSpPr>
        <p:grpSpPr>
          <a:xfrm>
            <a:off x="2771640" y="4905360"/>
            <a:ext cx="885960" cy="885960"/>
            <a:chOff x="2771640" y="4905360"/>
            <a:chExt cx="885960" cy="885960"/>
          </a:xfrm>
        </p:grpSpPr>
        <p:sp>
          <p:nvSpPr>
            <p:cNvPr id="655" name="타원 6"/>
            <p:cNvSpPr/>
            <p:nvPr/>
          </p:nvSpPr>
          <p:spPr>
            <a:xfrm>
              <a:off x="2817000" y="4950720"/>
              <a:ext cx="795240" cy="79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타원 4"/>
            <p:cNvSpPr/>
            <p:nvPr/>
          </p:nvSpPr>
          <p:spPr>
            <a:xfrm>
              <a:off x="2771640" y="4905360"/>
              <a:ext cx="885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37021"/>
                  </a:solidFill>
                  <a:latin typeface="Arial"/>
                  <a:ea typeface="宋体"/>
                </a:rPr>
                <a:t>내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10"/>
          <p:cNvGrpSpPr/>
          <p:nvPr/>
        </p:nvGrpSpPr>
        <p:grpSpPr>
          <a:xfrm>
            <a:off x="5486400" y="2327400"/>
            <a:ext cx="885960" cy="885600"/>
            <a:chOff x="5486400" y="2327400"/>
            <a:chExt cx="885960" cy="885600"/>
          </a:xfrm>
        </p:grpSpPr>
        <p:sp>
          <p:nvSpPr>
            <p:cNvPr id="658" name="타원 9"/>
            <p:cNvSpPr/>
            <p:nvPr/>
          </p:nvSpPr>
          <p:spPr>
            <a:xfrm>
              <a:off x="5531760" y="2372760"/>
              <a:ext cx="795240" cy="79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타원 4"/>
            <p:cNvSpPr/>
            <p:nvPr/>
          </p:nvSpPr>
          <p:spPr>
            <a:xfrm>
              <a:off x="5486400" y="2327400"/>
              <a:ext cx="88596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37021"/>
                  </a:solidFill>
                  <a:latin typeface="Arial"/>
                  <a:ea typeface="宋体"/>
                </a:rPr>
                <a:t>내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13"/>
          <p:cNvGrpSpPr/>
          <p:nvPr/>
        </p:nvGrpSpPr>
        <p:grpSpPr>
          <a:xfrm>
            <a:off x="5486400" y="4905360"/>
            <a:ext cx="885960" cy="885960"/>
            <a:chOff x="5486400" y="4905360"/>
            <a:chExt cx="885960" cy="885960"/>
          </a:xfrm>
        </p:grpSpPr>
        <p:sp>
          <p:nvSpPr>
            <p:cNvPr id="661" name="타원 12"/>
            <p:cNvSpPr/>
            <p:nvPr/>
          </p:nvSpPr>
          <p:spPr>
            <a:xfrm>
              <a:off x="5531760" y="4950720"/>
              <a:ext cx="795240" cy="79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타원 4"/>
            <p:cNvSpPr/>
            <p:nvPr/>
          </p:nvSpPr>
          <p:spPr>
            <a:xfrm>
              <a:off x="5486400" y="4905360"/>
              <a:ext cx="885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37021"/>
                  </a:solidFill>
                  <a:latin typeface="Arial"/>
                  <a:ea typeface="宋体"/>
                </a:rPr>
                <a:t>내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3767040" y="3191040"/>
            <a:ext cx="1646280" cy="19875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" descr=""/>
          <p:cNvPicPr/>
          <p:nvPr/>
        </p:nvPicPr>
        <p:blipFill>
          <a:blip r:embed="rId2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65" name="직사각형 16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7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직선 연결선 18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직선 연결선 19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134800" y="236520"/>
            <a:ext cx="660708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72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차트 3"/>
          <p:cNvSpPr/>
          <p:nvPr/>
        </p:nvSpPr>
        <p:spPr>
          <a:xfrm>
            <a:off x="2116080" y="2565360"/>
            <a:ext cx="620100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직선 연결선 4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직선 연결선 5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차트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8"/>
          <p:cNvSpPr/>
          <p:nvPr/>
        </p:nvSpPr>
        <p:spPr>
          <a:xfrm>
            <a:off x="2116080" y="1628640"/>
            <a:ext cx="6188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삽입 </a:t>
            </a:r>
            <a:r>
              <a:rPr b="0" lang="en-US" sz="1100" spc="-1" strike="noStrike">
                <a:solidFill>
                  <a:srgbClr val="fabf8e"/>
                </a:solidFill>
                <a:latin typeface="나눔고딕"/>
              </a:rPr>
              <a:t>&gt; </a:t>
            </a: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차트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</a:rPr>
              <a:t>를 이용하여 다양한 차트형태를 구현할 수 있습니다</a:t>
            </a:r>
            <a:r>
              <a:rPr b="0" lang="en-US" sz="1100" spc="-1" strike="noStrike">
                <a:solidFill>
                  <a:srgbClr val="ffffff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나눔고딕"/>
              </a:rPr>
              <a:t>표를 선택한 상태에서 오른클릭을 한 뒤</a:t>
            </a:r>
            <a:r>
              <a:rPr b="0" lang="en-US" sz="1100" spc="-1" strike="noStrike">
                <a:solidFill>
                  <a:srgbClr val="ffffff"/>
                </a:solidFill>
                <a:latin typeface="나눔고딕"/>
              </a:rPr>
              <a:t>, </a:t>
            </a: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데이터 편집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</a:rPr>
              <a:t>을 클릭하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나눔고딕"/>
              </a:rPr>
              <a:t>실제 내용과 수치를 편집해 사용할 수 있습니다</a:t>
            </a:r>
            <a:r>
              <a:rPr b="0" lang="en-US" sz="1100" spc="-1" strike="noStrike">
                <a:solidFill>
                  <a:srgbClr val="ffffff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36240" y="236160"/>
            <a:ext cx="6605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81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직선 연결선 3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직선 연결선 4"/>
          <p:cNvSpPr/>
          <p:nvPr/>
        </p:nvSpPr>
        <p:spPr>
          <a:xfrm flipH="1" flipV="1">
            <a:off x="431280" y="1417680"/>
            <a:ext cx="1320840" cy="144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차트 5"/>
          <p:cNvSpPr/>
          <p:nvPr/>
        </p:nvSpPr>
        <p:spPr>
          <a:xfrm>
            <a:off x="2050920" y="2060640"/>
            <a:ext cx="648180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7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차트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139840" y="23760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89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3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873c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f873c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차트 4"/>
          <p:cNvSpPr/>
          <p:nvPr/>
        </p:nvSpPr>
        <p:spPr>
          <a:xfrm>
            <a:off x="1692360" y="1989000"/>
            <a:ext cx="5316480" cy="439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직선 연결선 6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직선 연결선 7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38400" y="221760"/>
            <a:ext cx="6603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글로벌 비즈니스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96" name="직선 연결선 6"/>
          <p:cNvSpPr/>
          <p:nvPr/>
        </p:nvSpPr>
        <p:spPr>
          <a:xfrm flipH="1">
            <a:off x="431280" y="1419120"/>
            <a:ext cx="1320840" cy="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직사각형 4"/>
          <p:cNvSpPr/>
          <p:nvPr/>
        </p:nvSpPr>
        <p:spPr>
          <a:xfrm>
            <a:off x="6900120" y="6345360"/>
            <a:ext cx="16048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7f7f7f"/>
                </a:solidFill>
                <a:latin typeface="나눔고딕"/>
              </a:rPr>
              <a:t>.  </a:t>
            </a:r>
            <a:r>
              <a:rPr b="0" lang="zh-CN" sz="800" spc="-1" strike="noStrike" u="sng">
                <a:solidFill>
                  <a:srgbClr val="f2f2f2"/>
                </a:solidFill>
                <a:uFillTx/>
                <a:latin typeface="나눔고딕"/>
                <a:hlinkClick r:id="rId2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088720" y="1240920"/>
            <a:ext cx="6653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나눔고딕"/>
              </a:rPr>
              <a:t>감사합니다</a:t>
            </a:r>
            <a:endParaRPr b="0" lang="en-US" sz="42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직선 연결선 7"/>
          <p:cNvSpPr/>
          <p:nvPr/>
        </p:nvSpPr>
        <p:spPr>
          <a:xfrm flipH="1">
            <a:off x="431280" y="1413000"/>
            <a:ext cx="1320840" cy="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직사각형 4"/>
          <p:cNvSpPr/>
          <p:nvPr/>
        </p:nvSpPr>
        <p:spPr>
          <a:xfrm>
            <a:off x="2240640" y="6337440"/>
            <a:ext cx="55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문서의 제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24000" y="1211400"/>
            <a:ext cx="6624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나눔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꼭지제목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나눔고딕"/>
              </a:rPr>
              <a:t>2  </a:t>
            </a: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꼭지제목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나눔고딕"/>
              </a:rPr>
              <a:t>3  </a:t>
            </a: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꼭지제목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나눔고딕"/>
              </a:rPr>
              <a:t>4  </a:t>
            </a: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꼭지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선 연결선 7"/>
          <p:cNvSpPr/>
          <p:nvPr/>
        </p:nvSpPr>
        <p:spPr>
          <a:xfrm flipH="1">
            <a:off x="431280" y="1413000"/>
            <a:ext cx="1320840" cy="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직사각형 4"/>
          <p:cNvSpPr/>
          <p:nvPr/>
        </p:nvSpPr>
        <p:spPr>
          <a:xfrm>
            <a:off x="2240640" y="6337440"/>
            <a:ext cx="55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문서의 제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084400" y="907920"/>
            <a:ext cx="544032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나눔고딕"/>
              </a:rPr>
              <a:t>꼭지 제목</a:t>
            </a:r>
            <a:br>
              <a:rPr sz="4200"/>
            </a:br>
            <a:r>
              <a:rPr b="0" lang="zh-CN" sz="4200" spc="-1" strike="noStrike">
                <a:solidFill>
                  <a:srgbClr val="ffffff"/>
                </a:solidFill>
                <a:latin typeface="나눔고딕"/>
              </a:rPr>
              <a:t>나눔고딕 </a:t>
            </a:r>
            <a:r>
              <a:rPr b="0" lang="en-US" sz="4200" spc="-1" strike="noStrike">
                <a:solidFill>
                  <a:srgbClr val="ffffff"/>
                </a:solidFill>
                <a:latin typeface="나눔고딕"/>
              </a:rPr>
              <a:t>R, 42pt</a:t>
            </a:r>
            <a:r>
              <a:rPr b="0" lang="zh-CN" sz="4200" spc="-1" strike="noStrike">
                <a:solidFill>
                  <a:srgbClr val="ffffff"/>
                </a:solidFill>
                <a:latin typeface="나눔고딕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1139400" y="443700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2f2f2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548" name="직사각형 3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직선 연결선 4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직선 연결선 5"/>
          <p:cNvSpPr/>
          <p:nvPr/>
        </p:nvSpPr>
        <p:spPr>
          <a:xfrm flipH="1">
            <a:off x="431280" y="1420920"/>
            <a:ext cx="1320840" cy="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6"/>
          <p:cNvSpPr/>
          <p:nvPr/>
        </p:nvSpPr>
        <p:spPr>
          <a:xfrm>
            <a:off x="2124000" y="13399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873c"/>
                </a:solidFill>
                <a:latin typeface="나눔고딕"/>
              </a:rPr>
              <a:t>1  </a:t>
            </a:r>
            <a:r>
              <a:rPr b="1" lang="zh-CN" sz="1200" spc="-1" strike="noStrike">
                <a:solidFill>
                  <a:srgbClr val="ff873c"/>
                </a:solidFill>
                <a:latin typeface="나눔고딕"/>
              </a:rPr>
              <a:t>내용 제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"/>
          <p:cNvSpPr/>
          <p:nvPr/>
        </p:nvSpPr>
        <p:spPr>
          <a:xfrm>
            <a:off x="2273400" y="1704960"/>
            <a:ext cx="5178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나눔고딕"/>
              </a:rPr>
              <a:t>내용 요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세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세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2273400" y="2492280"/>
            <a:ext cx="6188040" cy="22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나눔고딕"/>
              </a:rPr>
              <a:t>상세 가이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buClr>
                <a:srgbClr val="fabf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abf8e"/>
                </a:solidFill>
                <a:latin typeface="나눔고딕"/>
              </a:rPr>
              <a:t>본문 내용의 글꼴 크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화면에서의 가독성을 고려하여 최소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10pt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로 권장합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 (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현재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12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캡션으로 사용하는 경우 등 상황에 따라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10pt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미만으로 사용하실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buClr>
                <a:srgbClr val="fabf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abf8e"/>
                </a:solidFill>
                <a:latin typeface="나눔고딕"/>
              </a:rPr>
              <a:t>본문 내용의 줄간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1.15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배를 권장합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buClr>
                <a:srgbClr val="fabf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abf8e"/>
                </a:solidFill>
                <a:latin typeface="나눔고딕"/>
              </a:rPr>
              <a:t>본문 내용의 글자간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좁게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0.2pt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를 권장합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47760" y="212760"/>
            <a:ext cx="242424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557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직선 연결선 3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직선 연결선 4"/>
          <p:cNvSpPr/>
          <p:nvPr/>
        </p:nvSpPr>
        <p:spPr>
          <a:xfrm flipH="1">
            <a:off x="431280" y="1420920"/>
            <a:ext cx="1320840" cy="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직사각형 6"/>
          <p:cNvSpPr/>
          <p:nvPr/>
        </p:nvSpPr>
        <p:spPr>
          <a:xfrm>
            <a:off x="2116080" y="133992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표</a:t>
            </a: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  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2116080" y="1628640"/>
            <a:ext cx="61880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표 안에 내용을 넣을 경우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, 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좌측정렬을 권장합니다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직사각형 8"/>
          <p:cNvSpPr/>
          <p:nvPr/>
        </p:nvSpPr>
        <p:spPr>
          <a:xfrm>
            <a:off x="2178000" y="2228760"/>
            <a:ext cx="44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표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2176560" y="2565360"/>
          <a:ext cx="6265800" cy="2211480"/>
        </p:xfrm>
        <a:graphic>
          <a:graphicData uri="http://schemas.openxmlformats.org/drawingml/2006/table">
            <a:tbl>
              <a:tblPr/>
              <a:tblGrid>
                <a:gridCol w="1252440"/>
                <a:gridCol w="1252440"/>
                <a:gridCol w="1255680"/>
                <a:gridCol w="1252800"/>
                <a:gridCol w="1252440"/>
              </a:tblGrid>
              <a:tr h="320760">
                <a:tc>
                  <a:txBody>
                    <a:bodyPr lIns="36000" rIns="90000" tIns="720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873c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720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나눔고딕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873c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720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873c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720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나눔고딕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873c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720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873c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7000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6964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7144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7000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7000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6964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7000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42720" y="225360"/>
            <a:ext cx="659916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182520" y="6541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2f2f2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타원 1"/>
          <p:cNvSpPr/>
          <p:nvPr/>
        </p:nvSpPr>
        <p:spPr>
          <a:xfrm>
            <a:off x="2238480" y="4822920"/>
            <a:ext cx="1144440" cy="114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타원 2"/>
          <p:cNvSpPr/>
          <p:nvPr/>
        </p:nvSpPr>
        <p:spPr>
          <a:xfrm>
            <a:off x="3587760" y="4822920"/>
            <a:ext cx="1144440" cy="114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타원 3"/>
          <p:cNvSpPr/>
          <p:nvPr/>
        </p:nvSpPr>
        <p:spPr>
          <a:xfrm>
            <a:off x="4898880" y="4822920"/>
            <a:ext cx="1144800" cy="114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직사각형 4"/>
          <p:cNvSpPr/>
          <p:nvPr/>
        </p:nvSpPr>
        <p:spPr>
          <a:xfrm>
            <a:off x="2235240" y="2797200"/>
            <a:ext cx="108252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5"/>
          <p:cNvSpPr/>
          <p:nvPr/>
        </p:nvSpPr>
        <p:spPr>
          <a:xfrm>
            <a:off x="2136600" y="2351160"/>
            <a:ext cx="255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큐브형 ㅣ 그림자 효과 </a:t>
            </a: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+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반사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6"/>
          <p:cNvSpPr/>
          <p:nvPr/>
        </p:nvSpPr>
        <p:spPr>
          <a:xfrm>
            <a:off x="2136600" y="4410000"/>
            <a:ext cx="255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원형ㅣ그림자 효과 </a:t>
            </a: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+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반사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직사각형 7"/>
          <p:cNvSpPr/>
          <p:nvPr/>
        </p:nvSpPr>
        <p:spPr>
          <a:xfrm>
            <a:off x="3579840" y="2797200"/>
            <a:ext cx="108252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직사각형 8"/>
          <p:cNvSpPr/>
          <p:nvPr/>
        </p:nvSpPr>
        <p:spPr>
          <a:xfrm>
            <a:off x="4929120" y="2797200"/>
            <a:ext cx="108288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576" name="직사각형 10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직선 연결선 11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직선 연결선 12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직사각형 13"/>
          <p:cNvSpPr/>
          <p:nvPr/>
        </p:nvSpPr>
        <p:spPr>
          <a:xfrm>
            <a:off x="2116080" y="133992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도형</a:t>
            </a: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  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4"/>
          <p:cNvSpPr/>
          <p:nvPr/>
        </p:nvSpPr>
        <p:spPr>
          <a:xfrm>
            <a:off x="2116080" y="1628640"/>
            <a:ext cx="61880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도형 안에 내용을 넣을 경우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, 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상하좌우 중앙정렬을 권장합니다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52800" y="237960"/>
            <a:ext cx="658944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"/>
          <p:cNvSpPr/>
          <p:nvPr/>
        </p:nvSpPr>
        <p:spPr>
          <a:xfrm>
            <a:off x="2136600" y="2349360"/>
            <a:ext cx="255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큐브형 ㅣ 그림자 효과 </a:t>
            </a: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+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반사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"/>
          <p:cNvSpPr/>
          <p:nvPr/>
        </p:nvSpPr>
        <p:spPr>
          <a:xfrm>
            <a:off x="2136600" y="4408560"/>
            <a:ext cx="255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원형ㅣ그림자 효과 </a:t>
            </a: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+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반사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586" name="직사각형 4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타원 5"/>
          <p:cNvSpPr/>
          <p:nvPr/>
        </p:nvSpPr>
        <p:spPr>
          <a:xfrm>
            <a:off x="2238480" y="481500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타원 6"/>
          <p:cNvSpPr/>
          <p:nvPr/>
        </p:nvSpPr>
        <p:spPr>
          <a:xfrm>
            <a:off x="3568680" y="481500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직사각형 7"/>
          <p:cNvSpPr/>
          <p:nvPr/>
        </p:nvSpPr>
        <p:spPr>
          <a:xfrm>
            <a:off x="2238480" y="2795760"/>
            <a:ext cx="108252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8"/>
          <p:cNvSpPr/>
          <p:nvPr/>
        </p:nvSpPr>
        <p:spPr>
          <a:xfrm>
            <a:off x="3584520" y="2795760"/>
            <a:ext cx="108288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9"/>
          <p:cNvSpPr/>
          <p:nvPr/>
        </p:nvSpPr>
        <p:spPr>
          <a:xfrm>
            <a:off x="4932360" y="2795760"/>
            <a:ext cx="108252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타원 10"/>
          <p:cNvSpPr/>
          <p:nvPr/>
        </p:nvSpPr>
        <p:spPr>
          <a:xfrm>
            <a:off x="4898880" y="4815000"/>
            <a:ext cx="114480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선 연결선 11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선 연결선 12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13"/>
          <p:cNvSpPr/>
          <p:nvPr/>
        </p:nvSpPr>
        <p:spPr>
          <a:xfrm>
            <a:off x="2116080" y="13399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도형 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4"/>
          <p:cNvSpPr/>
          <p:nvPr/>
        </p:nvSpPr>
        <p:spPr>
          <a:xfrm>
            <a:off x="2116080" y="1628640"/>
            <a:ext cx="6188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삽입 </a:t>
            </a:r>
            <a:r>
              <a:rPr b="0" lang="en-US" sz="1100" spc="-1" strike="noStrike">
                <a:solidFill>
                  <a:srgbClr val="fabf8e"/>
                </a:solidFill>
                <a:latin typeface="나눔고딕"/>
              </a:rPr>
              <a:t>&gt; </a:t>
            </a: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도형 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또는 </a:t>
            </a:r>
            <a:r>
              <a:rPr b="0" lang="en-US" sz="1100" spc="-1" strike="noStrike">
                <a:solidFill>
                  <a:srgbClr val="fabf8e"/>
                </a:solidFill>
                <a:latin typeface="나눔고딕"/>
              </a:rPr>
              <a:t>SmartArt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를 이용하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다양한 도형 및 다이어그램을 구현할 수 있습니다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55680" y="237600"/>
            <a:ext cx="658656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1835280" y="2301840"/>
            <a:ext cx="7137360" cy="3287880"/>
            <a:chOff x="1835280" y="2301840"/>
            <a:chExt cx="7137360" cy="3287880"/>
          </a:xfrm>
        </p:grpSpPr>
        <p:sp>
          <p:nvSpPr>
            <p:cNvPr id="600" name="다이어그램 2"/>
            <p:cNvSpPr/>
            <p:nvPr/>
          </p:nvSpPr>
          <p:spPr>
            <a:xfrm>
              <a:off x="1835280" y="2301840"/>
              <a:ext cx="4932360" cy="32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다이어그램 3"/>
            <p:cNvSpPr/>
            <p:nvPr/>
          </p:nvSpPr>
          <p:spPr>
            <a:xfrm>
              <a:off x="5220360" y="2992680"/>
              <a:ext cx="3752280" cy="25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직사각형 4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04" name="직선 연결선 6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직선 연결선 7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2116080" y="1628640"/>
            <a:ext cx="6188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삽입 </a:t>
            </a:r>
            <a:r>
              <a:rPr b="0" lang="en-US" sz="1100" spc="-1" strike="noStrike">
                <a:solidFill>
                  <a:srgbClr val="fabf8e"/>
                </a:solidFill>
                <a:latin typeface="나눔고딕"/>
              </a:rPr>
              <a:t>&gt; </a:t>
            </a: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도형 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또는 </a:t>
            </a:r>
            <a:r>
              <a:rPr b="0" lang="en-US" sz="1100" spc="-1" strike="noStrike">
                <a:solidFill>
                  <a:srgbClr val="fabf8e"/>
                </a:solidFill>
                <a:latin typeface="나눔고딕"/>
              </a:rPr>
              <a:t>SmartArt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를 이용하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다양한 도형 및 다이어그램을 구현할 수 있습니다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43080" y="225000"/>
            <a:ext cx="6562800" cy="11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다이어그램 3"/>
          <p:cNvSpPr/>
          <p:nvPr/>
        </p:nvSpPr>
        <p:spPr>
          <a:xfrm>
            <a:off x="1835280" y="2301840"/>
            <a:ext cx="4930560" cy="32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다이어그램 4"/>
          <p:cNvSpPr/>
          <p:nvPr/>
        </p:nvSpPr>
        <p:spPr>
          <a:xfrm>
            <a:off x="5219640" y="2992320"/>
            <a:ext cx="375300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15" name="직선 연결선 6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직선 연결선 7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45960" y="232920"/>
            <a:ext cx="2871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7:24:00Z</dcterms:created>
  <dc:creator>네이버 한글캠페인</dc:creator>
  <dc:description/>
  <dc:language>en-US</dc:language>
  <cp:lastModifiedBy>王玉清</cp:lastModifiedBy>
  <cp:lastPrinted>1899-12-30T00:00:00Z</cp:lastPrinted>
  <dcterms:modified xsi:type="dcterms:W3CDTF">2016-02-24T03:22:14Z</dcterms:modified>
  <cp:revision>11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