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49A7-B155-4C87-A8AB-F2CBA7F7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5A08-2390-47C5-941B-F03BD305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05FD-6168-42D2-AB59-F79AE6FB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3A4F-1EEF-449E-919B-6851142A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57BB-79D7-4F0B-A64A-C5BC149B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4E68-B9CA-4080-B796-BD0F7430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2DD4-C1C8-4E31-8601-BA950ACE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FAC5-6B1D-4687-BCB0-0B1BECD6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1F52-4517-484A-B0AB-CB6DA19B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D79-46EE-452A-A13E-7F5F9AEE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6173-1E76-4350-9C8B-D8D32AAB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68B3-586B-4279-8C4F-83FAC328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DFC2-F8E4-4829-9242-72BEE3EFB86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A677-C5A4-40E7-862F-8F8F7687D27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6948360" y="6237360"/>
            <a:ext cx="1871640" cy="53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0" y="1628640"/>
            <a:ext cx="9252000" cy="4680000"/>
            <a:chOff x="0" y="1628640"/>
            <a:chExt cx="9252000" cy="4680000"/>
          </a:xfrm>
        </p:grpSpPr>
        <p:pic>
          <p:nvPicPr>
            <p:cNvPr id="44" name="图片 3" descr=""/>
            <p:cNvPicPr/>
            <p:nvPr/>
          </p:nvPicPr>
          <p:blipFill>
            <a:blip r:embed="rId1"/>
            <a:stretch/>
          </p:blipFill>
          <p:spPr>
            <a:xfrm>
              <a:off x="0" y="1700640"/>
              <a:ext cx="9143640" cy="44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矩形 4"/>
            <p:cNvSpPr/>
            <p:nvPr/>
          </p:nvSpPr>
          <p:spPr>
            <a:xfrm>
              <a:off x="0" y="5228640"/>
              <a:ext cx="9180000" cy="1080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5"/>
            <p:cNvSpPr/>
            <p:nvPr/>
          </p:nvSpPr>
          <p:spPr>
            <a:xfrm>
              <a:off x="4715640" y="1628640"/>
              <a:ext cx="4536360" cy="367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图片 16" descr=""/>
          <p:cNvPicPr/>
          <p:nvPr/>
        </p:nvPicPr>
        <p:blipFill>
          <a:blip r:embed="rId2"/>
          <a:stretch/>
        </p:blipFill>
        <p:spPr>
          <a:xfrm>
            <a:off x="2266920" y="4124160"/>
            <a:ext cx="4321080" cy="1936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7" descr=""/>
          <p:cNvPicPr/>
          <p:nvPr/>
        </p:nvPicPr>
        <p:blipFill>
          <a:blip r:embed="rId3"/>
          <a:stretch/>
        </p:blipFill>
        <p:spPr>
          <a:xfrm>
            <a:off x="4861080" y="3076560"/>
            <a:ext cx="2881080" cy="1285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8" descr=""/>
          <p:cNvPicPr/>
          <p:nvPr/>
        </p:nvPicPr>
        <p:blipFill>
          <a:blip r:embed="rId4"/>
          <a:stretch/>
        </p:blipFill>
        <p:spPr>
          <a:xfrm rot="1669800">
            <a:off x="5000400" y="3300480"/>
            <a:ext cx="3632040" cy="20336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9" descr=""/>
          <p:cNvPicPr/>
          <p:nvPr/>
        </p:nvPicPr>
        <p:blipFill>
          <a:blip r:embed="rId5"/>
          <a:stretch/>
        </p:blipFill>
        <p:spPr>
          <a:xfrm rot="10496400">
            <a:off x="4561920" y="2619360"/>
            <a:ext cx="1633320" cy="915840"/>
          </a:xfrm>
          <a:prstGeom prst="rect">
            <a:avLst/>
          </a:prstGeom>
          <a:ln w="0">
            <a:noFill/>
          </a:ln>
        </p:spPr>
      </p:pic>
      <p:sp>
        <p:nvSpPr>
          <p:cNvPr id="51" name="矩形 1"/>
          <p:cNvSpPr/>
          <p:nvPr/>
        </p:nvSpPr>
        <p:spPr>
          <a:xfrm>
            <a:off x="1598400" y="56844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黑灰配色水中花通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3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426520" cy="1443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4" descr=""/>
          <p:cNvPicPr/>
          <p:nvPr/>
        </p:nvPicPr>
        <p:blipFill>
          <a:blip r:embed="rId2"/>
          <a:stretch/>
        </p:blipFill>
        <p:spPr>
          <a:xfrm>
            <a:off x="108000" y="6308640"/>
            <a:ext cx="8424720" cy="1447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6" descr=""/>
          <p:cNvPicPr/>
          <p:nvPr/>
        </p:nvPicPr>
        <p:blipFill>
          <a:blip r:embed="rId3"/>
          <a:stretch/>
        </p:blipFill>
        <p:spPr>
          <a:xfrm rot="11660400">
            <a:off x="221400" y="250920"/>
            <a:ext cx="2078280" cy="11620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7" descr=""/>
          <p:cNvPicPr/>
          <p:nvPr/>
        </p:nvPicPr>
        <p:blipFill>
          <a:blip r:embed="rId4"/>
          <a:stretch/>
        </p:blipFill>
        <p:spPr>
          <a:xfrm>
            <a:off x="457200" y="692280"/>
            <a:ext cx="8075520" cy="54734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5" descr=""/>
          <p:cNvPicPr/>
          <p:nvPr/>
        </p:nvPicPr>
        <p:blipFill>
          <a:blip r:embed="rId5"/>
          <a:stretch/>
        </p:blipFill>
        <p:spPr>
          <a:xfrm rot="1669800">
            <a:off x="5555880" y="3871800"/>
            <a:ext cx="3632040" cy="2032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1"/>
          <p:cNvSpPr/>
          <p:nvPr/>
        </p:nvSpPr>
        <p:spPr>
          <a:xfrm>
            <a:off x="2670480" y="299736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点击此处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3:58:20Z</dcterms:created>
  <dc:creator>无忧PPT</dc:creator>
  <dc:description>_x005F_x000d_
  ☆ 感谢您使用PPT STORE网站平台上发布的免费原创作品，作品仅供个人或公司使用，为了您和PPT STORE以及原创作者的利益，请勿复制、传播、销售，否则将承担法律责任！_x005F_x000d_
_x005F_x000d_
  ☆ 其他网站或个人若进行转载发布PPT STORE平台的免费原创作品，请保留此文件和注释的完整性，并注明来源于 PPT STORE 官方网站：http://www.pptstore.net和PPT STORE 官方微博：http://weibo.com/pptstore</dc:description>
  <cp:keywords>水墨 小鱼 动态</cp:keywords>
  <dc:language>en-US</dc:language>
  <cp:lastModifiedBy>王玉清</cp:lastModifiedBy>
  <cp:lastPrinted>1899-12-30T00:00:00Z</cp:lastPrinted>
  <dcterms:modified xsi:type="dcterms:W3CDTF">2016-03-01T07:29:45Z</dcterms:modified>
  <cp:revision>12</cp:revision>
  <dc:subject>动态PPT模板</dc:subject>
  <dc:title>水墨小鱼动态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