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CA8-FBF7-4291-BED0-2192D82E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59040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721320"/>
            <a:ext cx="59040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77E-9E36-415A-96BB-38A45C2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72132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7440" y="372132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362-8FD3-41F4-A7F6-F34E24CF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8200" y="160020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4400" y="160020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72132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8200" y="372132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4400" y="372132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6CC-F5A7-4BDE-826D-1E80B29A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0100-A734-49CC-9021-AFB6FE29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59040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AEEE-E944-4AD9-9158-0663FD0F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5904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2CE5-A3C1-4B72-87F3-4843CA1E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D82C-74DC-441F-9713-1AC44C9B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F886-7936-460D-AB6A-CCFA9BDB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16000" y="189000"/>
            <a:ext cx="433044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8DAE-EDF3-4CAB-96A9-DEFA944B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32000" y="372132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5076-1239-47E9-AE2D-1CCC0D1D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59040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A66-7508-4B41-B6FF-16A1F55D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57440" y="372132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C41B-9E75-4566-A037-E6A70C7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32000" y="3721320"/>
            <a:ext cx="59040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4A29-7929-4E46-8C9C-B6D84AE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59040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32000" y="3721320"/>
            <a:ext cx="59040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0163-0EEA-4BEB-998B-3E1F51EF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2000" y="372132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57440" y="372132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1134-3280-44CB-998A-577C5CF5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8200" y="160020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4400" y="160020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32000" y="372132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8200" y="372132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4400" y="3721320"/>
            <a:ext cx="1900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52B0-AA3D-4306-B2A3-6F843279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5904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689-BC18-4B00-9360-31E2B1CB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3FE-8001-446F-BAC9-E2B390E9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3B6-8E5C-47BD-9EEC-7CD45AE8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189000"/>
            <a:ext cx="433044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F9F-7D35-4A09-A6F1-DC991E23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72132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D63-B76D-49DA-8A8C-25A0A2F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7440" y="372132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CA1-D3AC-4C32-AAD4-FF48AFF7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7440" y="1600200"/>
            <a:ext cx="288108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721320"/>
            <a:ext cx="59040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D97-32E0-41C7-9B89-74B57B9D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4330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5904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72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6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2B12-F74B-4AAF-9324-86284B778512}" type="slidenum">
              <a:rPr b="0" lang="ru-RU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4330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5904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24000" y="333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C8A7-7CB6-4E93-BF49-BC79F037BD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802188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红色的罗曼蒂克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63480" y="5110200"/>
            <a:ext cx="552924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16000" y="173880"/>
            <a:ext cx="433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cc0000"/>
              </a:solidFill>
              <a:latin typeface="Arial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5904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cc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05:28Z</dcterms:created>
  <dc:creator>Alexey</dc:creator>
  <dc:description/>
  <dc:language>en-US</dc:language>
  <cp:lastModifiedBy>王玉清</cp:lastModifiedBy>
  <dcterms:modified xsi:type="dcterms:W3CDTF">2016-02-20T04:38:40Z</dcterms:modified>
  <cp:revision>8</cp:revision>
  <dc:subject/>
  <dc:title>Слайд 1</dc:title>
</cp:coreProperties>
</file>