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8D2-60C5-44CF-90E2-87F5C4B7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12C-B62B-4C32-A0D3-9C38DA07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D56-588D-47F4-97DC-BF75E7CA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51A-1AA4-461A-8515-D2A1E934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2CCE-035C-4CE1-9F7B-9146D832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B27F-3696-4A95-A85D-D0DA7AE0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A57A-EBBA-4A3E-AB57-EBFAA690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2F71-0B95-437D-AF70-1A0835B6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7D1E-B864-4E79-B7F9-3EF16E14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5C19-323C-4488-BF03-704A3E46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9797-255C-4466-9903-8EEBA2FC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C4D-034D-4751-83CA-DDF41065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2E2B-7346-4D12-92DE-34EBB33E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5062-7FB0-4D13-8E91-A7127317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A604-E9DE-4820-88D8-450547C7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2017-720D-4E90-BF45-645546DF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35BC-1973-43BE-B01D-141A5FA1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76361-99BB-4E3F-A813-123DA733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6B8F0-BACB-4BA4-891E-36EAF000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7E2A1-9409-4980-BA58-346A382C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DD1C6-6D3C-4A4C-A4CD-6EF4BCE9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2517-C58A-495E-B840-37D9D843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7E83-E50C-49AA-ADE5-6C6BC378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29512-E24C-4F78-B619-3930AA8E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1DBB3-C5CC-424A-B91D-A9E18C82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DC327-7AB1-457D-8FCC-F7125503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AAEF-8B51-4EAE-AA0A-C05AB736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4425C-01C8-4FA3-BD32-9D2BE31E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6D37-4A77-45DE-8622-247DC370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BFEA5-1635-4C24-8433-1B9C4E42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EF9E-2F84-4BC8-843B-8924BCBD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666-ECDA-4603-A359-C751B1C6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38D5-C592-446A-9C3A-653F4152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6A0-2810-4452-AD07-7C10A4C6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59F-B3A0-4712-A394-23E47ADB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8AE-86DE-473A-8D8F-8E23F659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演示模板底稿12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8360" y="8456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8360" y="1990800"/>
            <a:ext cx="75610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4BE6-F855-446F-8131-DE40C2F56579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AED9-6CBD-4E73-B83A-CCE6C40381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演示模板底稿11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8360" y="8456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28360" y="1990800"/>
            <a:ext cx="75610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5A24-9ED3-4585-976F-26E763133A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170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含羞草背景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1" lang="en-US" sz="4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40" y="3618000"/>
            <a:ext cx="601848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8360" y="8456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8360" y="1990800"/>
            <a:ext cx="75610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8360" y="8456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8720" y="1990800"/>
            <a:ext cx="37116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640" y="1990800"/>
            <a:ext cx="37098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360" y="8456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28360" y="1990800"/>
            <a:ext cx="756108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68360" y="638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8:52:08Z</dcterms:created>
  <dc:creator>Administrator</dc:creator>
  <dc:description/>
  <dc:language>en-US</dc:language>
  <cp:lastModifiedBy>王玉清</cp:lastModifiedBy>
  <cp:lastPrinted>1899-12-30T00:00:00Z</cp:lastPrinted>
  <dcterms:modified xsi:type="dcterms:W3CDTF">2016-02-22T03:49:02Z</dcterms:modified>
  <cp:revision>3</cp:revision>
  <dc:subject/>
  <dc:title>绿色含羞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87</vt:lpwstr>
  </property>
</Properties>
</file>