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9850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0" y="8805600"/>
            <a:ext cx="53546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5510160" y="8805600"/>
            <a:ext cx="14731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35BAB8-DD56-41C3-918A-BB62BE3CF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698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8805960"/>
            <a:ext cx="535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510160" y="8805960"/>
            <a:ext cx="1473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60E09D-69B5-4607-8FA5-38A4EB94D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698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8805960"/>
            <a:ext cx="535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510160" y="8805960"/>
            <a:ext cx="1473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A96619-3E3E-4FFC-8C0E-11B29AB2E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72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68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04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72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68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C5C0-01B6-41B1-BD7A-595C83D1A1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CF40-04C0-43FE-A258-33AB32B3D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B318-5C4B-4EA1-9167-B39C1A713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08A9-4B08-4B9C-872B-E3D261B1D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1AD6-BF5B-42B6-9DBE-C62E6DDFB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495360"/>
            <a:ext cx="817092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172B-A431-4929-B57A-85B5B2618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B581-DFB7-45E8-A76D-83D11D2D9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5337-67D4-4B81-A2A4-D81B9DE8C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4BD4-7C85-45D6-938D-647463EC0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37B3-6E8F-4675-A49D-9D3094D702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582B-F2F4-4AB1-8825-E9D37C1332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72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68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804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72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68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DC06-8DFA-4538-995B-DDEB8C913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495360"/>
            <a:ext cx="817092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1644480"/>
            <a:ext cx="9145440" cy="356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486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486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600" y="2494080"/>
            <a:ext cx="795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5143680"/>
            <a:ext cx="9144000" cy="45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6480000"/>
            <a:ext cx="9145440" cy="38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3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1420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7560" indent="-17316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9720" indent="-16812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01960" indent="-17316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01960" indent="-173160">
              <a:lnSpc>
                <a:spcPct val="102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01960" indent="-173160">
              <a:lnSpc>
                <a:spcPct val="102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4080" y="6498720"/>
            <a:ext cx="1001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BAF6-5E47-43EF-AEB2-E59DD832877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9"/>
          <p:cNvSpPr/>
          <p:nvPr/>
        </p:nvSpPr>
        <p:spPr>
          <a:xfrm>
            <a:off x="324000" y="210996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719280" y="6129360"/>
            <a:ext cx="313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301760" y="1755720"/>
            <a:ext cx="61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227160"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宋体"/>
              </a:rPr>
              <a:t>IBM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经典通用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3"/>
          <p:cNvSpPr/>
          <p:nvPr/>
        </p:nvSpPr>
        <p:spPr>
          <a:xfrm>
            <a:off x="154080" y="6499080"/>
            <a:ext cx="1001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FA36A-EC74-4BE2-8C63-D7728E7B101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49:37Z</dcterms:created>
  <dc:creator>Roger Best</dc:creator>
  <dc:description/>
  <dc:language>en-US</dc:language>
  <cp:lastModifiedBy>王玉清</cp:lastModifiedBy>
  <dcterms:modified xsi:type="dcterms:W3CDTF">2016-02-21T04:55:00Z</dcterms:modified>
  <cp:revision>126</cp:revision>
  <dc:subject/>
  <dc:title>Slide 1</dc:title>
</cp:coreProperties>
</file>