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wmf" ContentType="image/x-wmf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A44F-C571-4277-9E57-C902AB2B9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2AD8-B690-4281-8C1E-E8F6D506AD4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4400" cy="4670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47680" y="4882680"/>
            <a:ext cx="64324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0BF1-21EB-405B-BE7C-6644D11D6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A5A1-0AC5-4F03-9EE1-DBD3BAB6C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410C-5F41-4B2D-BDEF-69A4C40A9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6EF4-8FAE-4B31-A0E8-4DDF78EDA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BA7C-CA67-4A6A-A21C-877848242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0AA2-630D-45F5-9491-84088D1203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A02D-8930-4C7F-B96E-1AAF7B5C0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4412-B9B0-4580-AFF7-5E5A7B2C9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250D-071E-4921-A7D7-AB78E9FE8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56BB-5047-45BD-A92A-10F82E45F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CE4C-548A-4FFA-9A42-368799FD3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8630-6C7C-499B-8E26-F6FB72680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bg2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1E1FA0C-533A-4A3A-AD53-F9F325131A64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2952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5c1f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13">
            <a:hlinkClick r:id="rId5"/>
          </p:cNvPr>
          <p:cNvSpPr/>
          <p:nvPr/>
        </p:nvSpPr>
        <p:spPr>
          <a:xfrm>
            <a:off x="2369160" y="422028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进行许可。</a:t>
            </a: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png-0056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png-0002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48" name="Picture 9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70828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9000" y="286740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Rectangle 11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60" name="Picture 12" descr="cc"/>
            <p:cNvPicPr/>
            <p:nvPr/>
          </p:nvPicPr>
          <p:blipFill>
            <a:blip r:embed="rId11"/>
            <a:stretch/>
          </p:blipFill>
          <p:spPr>
            <a:xfrm>
              <a:off x="3636000" y="148608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9" descr="logo"/>
            <p:cNvPicPr/>
            <p:nvPr/>
          </p:nvPicPr>
          <p:blipFill>
            <a:blip r:embed="rId12">
              <a:grayscl/>
              <a:lum bright="-12000"/>
            </a:blip>
            <a:stretch/>
          </p:blipFill>
          <p:spPr>
            <a:xfrm>
              <a:off x="1332000" y="1544400"/>
              <a:ext cx="172836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Line 23"/>
            <p:cNvSpPr/>
            <p:nvPr/>
          </p:nvSpPr>
          <p:spPr>
            <a:xfrm>
              <a:off x="3348720" y="1486080"/>
              <a:ext cx="0" cy="576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4" descr="bg1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68000" y="2257200"/>
            <a:ext cx="841356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LOVEYOU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通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4381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c1f00"/>
                </a:solidFill>
                <a:latin typeface="Arial"/>
              </a:rPr>
              <a:t>情人节快乐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78678085-6D0D-43AC-BAB4-FAFE08E7493F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c1f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544400"/>
            <a:ext cx="82072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3EBD2604-C3B2-41E8-90C5-95D6D47B5F9B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5c1f00"/>
              </a:solidFill>
              <a:latin typeface="Arial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679320" y="1319040"/>
          <a:ext cx="8769600" cy="37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319040"/>
                    <a:ext cx="8769600" cy="37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0" descr="bg3"/>
          <p:cNvPicPr/>
          <p:nvPr/>
        </p:nvPicPr>
        <p:blipFill>
          <a:blip r:embed="rId1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468360" y="4219560"/>
            <a:ext cx="820728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3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感谢观赏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王玉清</cp:lastModifiedBy>
  <dcterms:modified xsi:type="dcterms:W3CDTF">2016-02-20T04:36:17Z</dcterms:modified>
  <cp:revision>168</cp:revision>
  <dc:subject/>
  <dc:title>PowerPoint Template</dc:title>
</cp:coreProperties>
</file>