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push.wav" ContentType="audio/x-wav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5AE7-D326-4A33-941C-300F20768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849600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4000" y="3774240"/>
            <a:ext cx="849600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4BED-A55C-4290-B747-A1CBC791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400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48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5369-33BE-4643-95BC-0E8F41ACC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6800" y="155592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9600" y="155592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4000" y="377424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6800" y="377424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9600" y="377424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A15E-684B-4BB8-893B-35D62403E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4000" y="1555920"/>
            <a:ext cx="8496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FAE8-AFC1-4678-9930-8FE589D7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8496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6B0A-F060-4DB3-A1B9-74DF8A74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A378-0DA9-4489-B4D8-FF2C93A9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8C58-382F-46F6-9268-8B5D1287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-360"/>
            <a:ext cx="8496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4240-080A-4AE0-9990-A5047627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400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B036-FA38-45A3-A17D-2B282F5E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48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CFC6-A5C7-4F1F-BBBC-63F0506F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4000" y="3774240"/>
            <a:ext cx="849600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C4BE-E8C7-497E-86A1-EB5229F0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24000" y="1555920"/>
            <a:ext cx="8496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77840" indent="736560">
              <a:spcBef>
                <a:spcPts val="451"/>
              </a:spcBef>
              <a:buClr>
                <a:srgbClr val="000000"/>
              </a:buClr>
              <a:buSzPct val="2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60360" indent="55404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536400" indent="378000">
              <a:spcBef>
                <a:spcPts val="451"/>
              </a:spcBef>
              <a:buClr>
                <a:srgbClr val="000000"/>
              </a:buClr>
              <a:buSzPct val="2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4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57C4-1783-4677-A7F1-D80849662B4A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57360" y="6356520"/>
            <a:ext cx="4229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866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3A20-6339-4874-9A6A-E77CCBF420F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audio" Target="../media/push.wav"/><Relationship Id="rId2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0" y="-14400"/>
            <a:ext cx="9144000" cy="871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43" name="任意多边形 3"/>
          <p:cNvSpPr/>
          <p:nvPr/>
        </p:nvSpPr>
        <p:spPr>
          <a:xfrm>
            <a:off x="1177920" y="1916280"/>
            <a:ext cx="6634080" cy="3319200"/>
          </a:xfrm>
          <a:prstGeom prst="pie">
            <a:avLst/>
          </a:prstGeom>
          <a:solidFill>
            <a:srgbClr val="7f7f7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圆角矩形 97"/>
          <p:cNvSpPr/>
          <p:nvPr/>
        </p:nvSpPr>
        <p:spPr>
          <a:xfrm>
            <a:off x="1211400" y="3240000"/>
            <a:ext cx="664920" cy="935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圆角矩形 97"/>
          <p:cNvSpPr/>
          <p:nvPr/>
        </p:nvSpPr>
        <p:spPr>
          <a:xfrm>
            <a:off x="1944720" y="3129120"/>
            <a:ext cx="727200" cy="1122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圆角矩形 97"/>
          <p:cNvSpPr/>
          <p:nvPr/>
        </p:nvSpPr>
        <p:spPr>
          <a:xfrm>
            <a:off x="2747880" y="2970360"/>
            <a:ext cx="776520" cy="1409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圆角矩形 97"/>
          <p:cNvSpPr/>
          <p:nvPr/>
        </p:nvSpPr>
        <p:spPr>
          <a:xfrm>
            <a:off x="3600360" y="2714760"/>
            <a:ext cx="1279440" cy="18349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圆角矩形 97"/>
          <p:cNvSpPr/>
          <p:nvPr/>
        </p:nvSpPr>
        <p:spPr>
          <a:xfrm>
            <a:off x="5065560" y="2446200"/>
            <a:ext cx="2627640" cy="2310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8"/>
          <p:cNvGrpSpPr/>
          <p:nvPr/>
        </p:nvGrpSpPr>
        <p:grpSpPr>
          <a:xfrm>
            <a:off x="5806800" y="3168720"/>
            <a:ext cx="1162080" cy="912960"/>
            <a:chOff x="5806800" y="3168720"/>
            <a:chExt cx="1162080" cy="912960"/>
          </a:xfrm>
        </p:grpSpPr>
        <p:sp>
          <p:nvSpPr>
            <p:cNvPr id="50" name="TextBox 11"/>
            <p:cNvSpPr/>
            <p:nvPr/>
          </p:nvSpPr>
          <p:spPr>
            <a:xfrm flipH="1">
              <a:off x="5821920" y="3622680"/>
              <a:ext cx="114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Box 11"/>
            <p:cNvSpPr/>
            <p:nvPr/>
          </p:nvSpPr>
          <p:spPr>
            <a:xfrm flipH="1">
              <a:off x="5806440" y="3168720"/>
              <a:ext cx="114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直接连接符 12"/>
          <p:cNvSpPr/>
          <p:nvPr/>
        </p:nvSpPr>
        <p:spPr>
          <a:xfrm>
            <a:off x="3137040" y="2568600"/>
            <a:ext cx="0" cy="860400"/>
          </a:xfrm>
          <a:prstGeom prst="line">
            <a:avLst/>
          </a:prstGeom>
          <a:ln w="9360">
            <a:solidFill>
              <a:srgbClr val="404040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2"/>
          <p:cNvGrpSpPr/>
          <p:nvPr/>
        </p:nvGrpSpPr>
        <p:grpSpPr>
          <a:xfrm>
            <a:off x="3687480" y="3174840"/>
            <a:ext cx="1162080" cy="912240"/>
            <a:chOff x="3687480" y="3174840"/>
            <a:chExt cx="1162080" cy="912240"/>
          </a:xfrm>
        </p:grpSpPr>
        <p:sp>
          <p:nvSpPr>
            <p:cNvPr id="54" name="TextBox 11"/>
            <p:cNvSpPr/>
            <p:nvPr/>
          </p:nvSpPr>
          <p:spPr>
            <a:xfrm flipH="1">
              <a:off x="3702600" y="3628080"/>
              <a:ext cx="114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Box 11"/>
            <p:cNvSpPr/>
            <p:nvPr/>
          </p:nvSpPr>
          <p:spPr>
            <a:xfrm flipH="1">
              <a:off x="3687120" y="3174840"/>
              <a:ext cx="114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直接连接符 16"/>
          <p:cNvSpPr/>
          <p:nvPr/>
        </p:nvSpPr>
        <p:spPr>
          <a:xfrm>
            <a:off x="2308320" y="3808440"/>
            <a:ext cx="0" cy="777960"/>
          </a:xfrm>
          <a:prstGeom prst="line">
            <a:avLst/>
          </a:prstGeom>
          <a:ln w="9360">
            <a:solidFill>
              <a:srgbClr val="404040"/>
            </a:solidFill>
            <a:prstDash val="sys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17"/>
          <p:cNvSpPr/>
          <p:nvPr/>
        </p:nvSpPr>
        <p:spPr>
          <a:xfrm>
            <a:off x="1544760" y="2781360"/>
            <a:ext cx="1440" cy="730080"/>
          </a:xfrm>
          <a:prstGeom prst="line">
            <a:avLst/>
          </a:prstGeom>
          <a:ln w="9360">
            <a:solidFill>
              <a:srgbClr val="404040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1"/>
          <p:cNvSpPr/>
          <p:nvPr/>
        </p:nvSpPr>
        <p:spPr>
          <a:xfrm flipH="1">
            <a:off x="979560" y="225108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1"/>
          <p:cNvSpPr/>
          <p:nvPr/>
        </p:nvSpPr>
        <p:spPr>
          <a:xfrm flipH="1">
            <a:off x="2587680" y="210168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1"/>
          <p:cNvSpPr/>
          <p:nvPr/>
        </p:nvSpPr>
        <p:spPr>
          <a:xfrm flipH="1">
            <a:off x="1727280" y="462132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6237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55560" y="4428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剪裁过的胶卷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split dir="out" orient="horz"/>
    <p:sndAc>
      <p:stSnd>
        <p:snd r:embed="rId3" name="push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6A97-0F7D-45FE-9DAA-15F37AA4322F}" type="slidenum">
              <a:t>2</a:t>
            </a:fld>
          </a:p>
        </p:txBody>
      </p:sp>
    </p:spTree>
  </p:cSld>
  <p:transition spd="med" advTm="2000">
    <p:split dir="out" orient="horz"/>
    <p:sndAc>
      <p:stSnd>
        <p:snd r:embed="rId27" name="push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0T06:04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2:26:04Z</dcterms:modified>
  <cp:revision>12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