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E12-826D-4964-A8FD-ECFD2DC7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54C-9A4B-4BA5-8AAE-452B1DA3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BED-6E30-4097-8B5D-E52D810C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314-68D8-4050-8940-B79BA709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4B5B-9AED-4CD7-8AC7-FEC6A655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24EE-EFAA-4992-9592-7BDFB85D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A840-A0DF-49E9-9FB5-8A71D609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2007-B6FD-4D64-A0ED-E92679CB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C8A9-2B19-4451-AAA0-8D9C5D84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A6EA-AC13-4C22-906A-AE778226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C42C-D1EE-4F91-8120-4BB477D9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FCF-9E82-4B55-B1FE-756B0BE4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86C5-18B5-4498-B0C7-B3553E0C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BF38-859F-4F38-84C6-DD986D0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7DCA-B337-4340-A893-D6EAE171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0222-02F0-44B4-A71A-C9E97F6B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FEF3-0A07-4309-A637-C0A52107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AD0-1FF3-4099-AB17-73E18989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996-AB71-4696-9DAF-5B9E1DBD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C39-F42C-4B2F-B37D-556FF84C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6E4-0790-4F7F-BF22-3FFC1AFB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F57-C02D-4356-A130-8A36ADCD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176-3DB9-4270-867B-C7873598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31D-07B8-4BB5-A83E-14B7151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69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0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1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04C5-F0FE-412A-8F57-F4E778C0A6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1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Line 132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133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134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35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36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37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38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39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40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3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44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45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46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47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150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151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152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153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154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155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156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157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158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159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160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161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162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163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164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165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Line 166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168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169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170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171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172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173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174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175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176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177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178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180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181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182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3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4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3533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8A17-B241-4DB8-AE5E-2A8B0B2E0E40}" type="slidenum">
              <a:rPr b="0" lang="zh-CN" sz="1200" spc="-1" strike="noStrike">
                <a:solidFill>
                  <a:srgbClr val="33533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99640" y="1699920"/>
            <a:ext cx="80708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5338"/>
                </a:solidFill>
                <a:latin typeface="汉仪中圆简"/>
                <a:ea typeface="汉仪中圆简"/>
              </a:rPr>
              <a:t>经典通用</a:t>
            </a:r>
            <a:r>
              <a:rPr b="0" lang="en-US" sz="4000" spc="-1" strike="noStrike">
                <a:solidFill>
                  <a:srgbClr val="335338"/>
                </a:solidFill>
                <a:latin typeface="汉仪中圆简"/>
                <a:ea typeface="汉仪中圆简"/>
              </a:rPr>
              <a:t>PPT</a:t>
            </a:r>
            <a:r>
              <a:rPr b="0" lang="zh-CN" sz="4000" spc="-1" strike="noStrike">
                <a:solidFill>
                  <a:srgbClr val="335338"/>
                </a:solidFill>
                <a:latin typeface="汉仪中圆简"/>
                <a:ea typeface="汉仪中圆简"/>
              </a:rPr>
              <a:t>模板完整版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93d2e"/>
                </a:gs>
                <a:gs pos="100000">
                  <a:srgbClr val="368463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2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52"/>
                </a:gs>
                <a:gs pos="100000">
                  <a:srgbClr val="2f86b1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2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93d2e"/>
                </a:gs>
                <a:gs pos="100000">
                  <a:srgbClr val="368463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2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52"/>
                </a:gs>
                <a:gs pos="100000">
                  <a:srgbClr val="2f86b1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28800" y="1642680"/>
            <a:ext cx="737712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135080" y="2367000"/>
          <a:ext cx="7040520" cy="3124080"/>
        </p:xfrm>
        <a:graphic>
          <a:graphicData uri="http://schemas.openxmlformats.org/drawingml/2006/table">
            <a:tbl>
              <a:tblPr/>
              <a:tblGrid>
                <a:gridCol w="1587600"/>
                <a:gridCol w="1108080"/>
                <a:gridCol w="1085760"/>
                <a:gridCol w="1084320"/>
                <a:gridCol w="1090440"/>
                <a:gridCol w="10843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5338"/>
                      </a:solidFill>
                    </a:lnR>
                    <a:lnT>
                      <a:noFill/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0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52"/>
              </a:gs>
              <a:gs pos="50000">
                <a:srgbClr val="2f86b1"/>
              </a:gs>
              <a:gs pos="100000">
                <a:srgbClr val="163e5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35" name="Group 60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236" name="Oval 45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7" name="Oval 29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8" name="Oval 30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81ece">
                    <a:alpha val="85098"/>
                  </a:srgbClr>
                </a:gs>
                <a:gs pos="100000">
                  <a:srgbClr val="2e13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9" name="Oval 31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481ece"/>
                </a:gs>
                <a:gs pos="100000">
                  <a:srgbClr val="3416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240" name="Picture 32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3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42" name="Group 59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243" name="Oval 50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5" name="Oval 23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85098"/>
                  </a:srgbClr>
                </a:gs>
                <a:gs pos="100000">
                  <a:srgbClr val="1e5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6b1"/>
                </a:gs>
                <a:gs pos="100000">
                  <a:srgbClr val="2261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247" name="Picture 25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26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49" name="Group 58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250" name="Oval 5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2" name="Oval 16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8463">
                    <a:alpha val="85098"/>
                  </a:srgbClr>
                </a:gs>
                <a:gs pos="100000">
                  <a:srgbClr val="2254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760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254" name="Picture 18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19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56" name="Group 5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257" name="Oval 52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8fa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2761a">
                    <a:alpha val="85098"/>
                  </a:srgbClr>
                </a:gs>
                <a:gs pos="100000">
                  <a:srgbClr val="854b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2761a"/>
                </a:gs>
                <a:gs pos="100000">
                  <a:srgbClr val="9856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261" name="Picture 11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2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3"/>
          <p:cNvSpPr txBox="1"/>
          <p:nvPr/>
        </p:nvSpPr>
        <p:spPr>
          <a:xfrm>
            <a:off x="582480" y="4419720"/>
            <a:ext cx="48024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36846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368463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531108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6:26:37Z</dcterms:created>
  <dc:creator>keke</dc:creator>
  <dc:description/>
  <dc:language>en-US</dc:language>
  <cp:lastModifiedBy>王玉清</cp:lastModifiedBy>
  <dcterms:modified xsi:type="dcterms:W3CDTF">2016-02-21T04:51:37Z</dcterms:modified>
  <cp:revision>4</cp:revision>
  <dc:subject/>
  <dc:title>站长站素材 SC.chinaz.COM</dc:title>
</cp:coreProperties>
</file>