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D392-2A88-4164-8C14-56BB36D2F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81348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074-73C8-41FF-B60A-96E983F5F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582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9738-D74C-4945-AA85-0A96457AA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1648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18560" y="131724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1648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18560" y="3813480"/>
            <a:ext cx="24778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5EF5-45DC-4725-8FB2-B6C3D20A8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37CC-FE2A-45E4-8466-27C01DE45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9028-AEE6-4C01-B9CD-3DE44BC85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9C34-2C95-4DE4-8423-D31B0669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DDB0-CB9D-4A3A-ACED-1CE7BB1CB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75248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D665-C6CF-4FD9-AC19-98972A1F1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1CF7-8C62-4E92-87FD-841EE5BC5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58200" y="381348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7913-45A6-4269-896F-A0E89C704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58200" y="1317240"/>
            <a:ext cx="37555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813480"/>
            <a:ext cx="769608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F3F3-E757-44BE-AAE2-1460F72E5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3"/>
          <p:cNvGrpSpPr/>
          <p:nvPr/>
        </p:nvGrpSpPr>
        <p:grpSpPr>
          <a:xfrm>
            <a:off x="225360" y="0"/>
            <a:ext cx="8918640" cy="1373040"/>
            <a:chOff x="225360" y="0"/>
            <a:chExt cx="8918640" cy="1373040"/>
          </a:xfrm>
        </p:grpSpPr>
        <p:sp>
          <p:nvSpPr>
            <p:cNvPr id="1" name="Rectangle 446"/>
            <p:cNvSpPr/>
            <p:nvPr/>
          </p:nvSpPr>
          <p:spPr>
            <a:xfrm>
              <a:off x="912600" y="1440"/>
              <a:ext cx="8231400" cy="102888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2" name="AutoShape 451"/>
            <p:cNvSpPr/>
            <p:nvPr/>
          </p:nvSpPr>
          <p:spPr>
            <a:xfrm>
              <a:off x="225360" y="0"/>
              <a:ext cx="1373040" cy="13730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914400" y="1317240"/>
            <a:ext cx="76960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3846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11980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 u="sng">
                <a:solidFill>
                  <a:srgbClr val="9999ff"/>
                </a:solidFill>
                <a:uFillTx/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5D5F-7EF3-48FA-A9B4-82527F665B29}" type="slidenum">
              <a:rPr b="1" lang="zh-CN" sz="12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&lt;number&gt;</a:t>
            </a:fld>
            <a:endParaRPr b="1" lang="en-US" sz="1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Rectangle 319"/>
          <p:cNvSpPr/>
          <p:nvPr/>
        </p:nvSpPr>
        <p:spPr>
          <a:xfrm>
            <a:off x="1219320" y="6781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7" name="Oval 366"/>
          <p:cNvSpPr/>
          <p:nvPr/>
        </p:nvSpPr>
        <p:spPr>
          <a:xfrm flipH="1" flipV="1">
            <a:off x="11653920" y="75600"/>
            <a:ext cx="92160" cy="918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8" name="Oval 367"/>
          <p:cNvSpPr/>
          <p:nvPr/>
        </p:nvSpPr>
        <p:spPr>
          <a:xfrm flipH="1" flipV="1">
            <a:off x="12011040" y="75600"/>
            <a:ext cx="92160" cy="918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" name="Text Box 426"/>
          <p:cNvSpPr/>
          <p:nvPr/>
        </p:nvSpPr>
        <p:spPr>
          <a:xfrm>
            <a:off x="152280" y="6384960"/>
            <a:ext cx="121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0" name="Group 442"/>
          <p:cNvGrpSpPr/>
          <p:nvPr/>
        </p:nvGrpSpPr>
        <p:grpSpPr>
          <a:xfrm>
            <a:off x="187200" y="68400"/>
            <a:ext cx="955800" cy="945720"/>
            <a:chOff x="187200" y="68400"/>
            <a:chExt cx="955800" cy="945720"/>
          </a:xfrm>
        </p:grpSpPr>
        <p:grpSp>
          <p:nvGrpSpPr>
            <p:cNvPr id="11" name="Group 428"/>
            <p:cNvGrpSpPr/>
            <p:nvPr/>
          </p:nvGrpSpPr>
          <p:grpSpPr>
            <a:xfrm>
              <a:off x="626760" y="154080"/>
              <a:ext cx="516240" cy="860040"/>
              <a:chOff x="626760" y="154080"/>
              <a:chExt cx="516240" cy="860040"/>
            </a:xfrm>
          </p:grpSpPr>
          <p:sp>
            <p:nvSpPr>
              <p:cNvPr id="12" name="Oval 429"/>
              <p:cNvSpPr/>
              <p:nvPr/>
            </p:nvSpPr>
            <p:spPr>
              <a:xfrm>
                <a:off x="626760" y="154080"/>
                <a:ext cx="17208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3" name="Oval 430"/>
              <p:cNvSpPr/>
              <p:nvPr/>
            </p:nvSpPr>
            <p:spPr>
              <a:xfrm>
                <a:off x="798840" y="326160"/>
                <a:ext cx="171720" cy="1717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4" name="Oval 431"/>
              <p:cNvSpPr/>
              <p:nvPr/>
            </p:nvSpPr>
            <p:spPr>
              <a:xfrm>
                <a:off x="970920" y="498240"/>
                <a:ext cx="17208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5" name="Oval 432"/>
              <p:cNvSpPr/>
              <p:nvPr/>
            </p:nvSpPr>
            <p:spPr>
              <a:xfrm>
                <a:off x="798840" y="670320"/>
                <a:ext cx="171720" cy="1720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6" name="Oval 433"/>
              <p:cNvSpPr/>
              <p:nvPr/>
            </p:nvSpPr>
            <p:spPr>
              <a:xfrm>
                <a:off x="626760" y="842400"/>
                <a:ext cx="172080" cy="1717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17" name="Group 434"/>
            <p:cNvGrpSpPr/>
            <p:nvPr/>
          </p:nvGrpSpPr>
          <p:grpSpPr>
            <a:xfrm>
              <a:off x="187200" y="68400"/>
              <a:ext cx="515880" cy="860040"/>
              <a:chOff x="187200" y="68400"/>
              <a:chExt cx="515880" cy="860040"/>
            </a:xfrm>
          </p:grpSpPr>
          <p:sp>
            <p:nvSpPr>
              <p:cNvPr id="18" name="Oval 435"/>
              <p:cNvSpPr/>
              <p:nvPr/>
            </p:nvSpPr>
            <p:spPr>
              <a:xfrm>
                <a:off x="187200" y="68400"/>
                <a:ext cx="17208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" name="Oval 436"/>
              <p:cNvSpPr/>
              <p:nvPr/>
            </p:nvSpPr>
            <p:spPr>
              <a:xfrm>
                <a:off x="359280" y="240480"/>
                <a:ext cx="171720" cy="1717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" name="Oval 437"/>
              <p:cNvSpPr/>
              <p:nvPr/>
            </p:nvSpPr>
            <p:spPr>
              <a:xfrm>
                <a:off x="531000" y="412560"/>
                <a:ext cx="17208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1" name="Oval 438"/>
              <p:cNvSpPr/>
              <p:nvPr/>
            </p:nvSpPr>
            <p:spPr>
              <a:xfrm>
                <a:off x="359280" y="584640"/>
                <a:ext cx="171720" cy="1720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2" name="Oval 439"/>
              <p:cNvSpPr/>
              <p:nvPr/>
            </p:nvSpPr>
            <p:spPr>
              <a:xfrm>
                <a:off x="187200" y="756720"/>
                <a:ext cx="172080" cy="1717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23" name="Line 441"/>
          <p:cNvSpPr/>
          <p:nvPr/>
        </p:nvSpPr>
        <p:spPr>
          <a:xfrm>
            <a:off x="225360" y="6346800"/>
            <a:ext cx="8766360" cy="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rong/" TargetMode="External"/><Relationship Id="rId2" Type="http://schemas.openxmlformats.org/officeDocument/2006/relationships/hyperlink" Target="http://www.eeppt.com/moban/jinrong/" TargetMode="External"/><Relationship Id="rId3" Type="http://schemas.openxmlformats.org/officeDocument/2006/relationships/hyperlink" Target="http://www.eeppt.com/moban/jinron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74"/>
          <p:cNvGrpSpPr/>
          <p:nvPr/>
        </p:nvGrpSpPr>
        <p:grpSpPr>
          <a:xfrm>
            <a:off x="0" y="2882880"/>
            <a:ext cx="9144000" cy="1917720"/>
            <a:chOff x="0" y="2882880"/>
            <a:chExt cx="9144000" cy="1917720"/>
          </a:xfrm>
        </p:grpSpPr>
        <p:sp>
          <p:nvSpPr>
            <p:cNvPr id="61" name="Rectangle 2970"/>
            <p:cNvSpPr/>
            <p:nvPr/>
          </p:nvSpPr>
          <p:spPr>
            <a:xfrm>
              <a:off x="2577960" y="2882880"/>
              <a:ext cx="6566040" cy="12193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62" name="AutoShape 2971"/>
            <p:cNvSpPr/>
            <p:nvPr/>
          </p:nvSpPr>
          <p:spPr>
            <a:xfrm>
              <a:off x="0" y="2882880"/>
              <a:ext cx="4038480" cy="191772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63" name="Rectangle 292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64" name="Text Box 538"/>
          <p:cNvSpPr/>
          <p:nvPr/>
        </p:nvSpPr>
        <p:spPr>
          <a:xfrm>
            <a:off x="274680" y="28908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Company 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65" name="Group 2936"/>
          <p:cNvGrpSpPr/>
          <p:nvPr/>
        </p:nvGrpSpPr>
        <p:grpSpPr>
          <a:xfrm>
            <a:off x="835200" y="1519200"/>
            <a:ext cx="1337760" cy="1274400"/>
            <a:chOff x="835200" y="1519200"/>
            <a:chExt cx="1337760" cy="1274400"/>
          </a:xfrm>
        </p:grpSpPr>
        <p:grpSp>
          <p:nvGrpSpPr>
            <p:cNvPr id="66" name="Group 2922"/>
            <p:cNvGrpSpPr/>
            <p:nvPr/>
          </p:nvGrpSpPr>
          <p:grpSpPr>
            <a:xfrm>
              <a:off x="1408680" y="1519200"/>
              <a:ext cx="764280" cy="1274400"/>
              <a:chOff x="1408680" y="1519200"/>
              <a:chExt cx="764280" cy="1274400"/>
            </a:xfrm>
          </p:grpSpPr>
          <p:sp>
            <p:nvSpPr>
              <p:cNvPr id="67" name="Oval 2917"/>
              <p:cNvSpPr/>
              <p:nvPr/>
            </p:nvSpPr>
            <p:spPr>
              <a:xfrm>
                <a:off x="1408680" y="15192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68" name="Oval 2918"/>
              <p:cNvSpPr/>
              <p:nvPr/>
            </p:nvSpPr>
            <p:spPr>
              <a:xfrm>
                <a:off x="1663560" y="177408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69" name="Oval 2919"/>
              <p:cNvSpPr/>
              <p:nvPr/>
            </p:nvSpPr>
            <p:spPr>
              <a:xfrm>
                <a:off x="1918080" y="202896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0" name="Oval 2920"/>
              <p:cNvSpPr/>
              <p:nvPr/>
            </p:nvSpPr>
            <p:spPr>
              <a:xfrm>
                <a:off x="1663560" y="228384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1" name="Oval 2921"/>
              <p:cNvSpPr/>
              <p:nvPr/>
            </p:nvSpPr>
            <p:spPr>
              <a:xfrm>
                <a:off x="1408680" y="253908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72" name="Group 2923"/>
            <p:cNvGrpSpPr/>
            <p:nvPr/>
          </p:nvGrpSpPr>
          <p:grpSpPr>
            <a:xfrm>
              <a:off x="835200" y="1519200"/>
              <a:ext cx="764280" cy="1274400"/>
              <a:chOff x="835200" y="1519200"/>
              <a:chExt cx="764280" cy="1274400"/>
            </a:xfrm>
          </p:grpSpPr>
          <p:sp>
            <p:nvSpPr>
              <p:cNvPr id="73" name="Oval 2924"/>
              <p:cNvSpPr/>
              <p:nvPr/>
            </p:nvSpPr>
            <p:spPr>
              <a:xfrm>
                <a:off x="835200" y="15192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4" name="Oval 2925"/>
              <p:cNvSpPr/>
              <p:nvPr/>
            </p:nvSpPr>
            <p:spPr>
              <a:xfrm>
                <a:off x="1090080" y="177408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5" name="Oval 2926"/>
              <p:cNvSpPr/>
              <p:nvPr/>
            </p:nvSpPr>
            <p:spPr>
              <a:xfrm>
                <a:off x="1344600" y="202896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6" name="Oval 2927"/>
              <p:cNvSpPr/>
              <p:nvPr/>
            </p:nvSpPr>
            <p:spPr>
              <a:xfrm>
                <a:off x="1090080" y="228384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77" name="Oval 2928"/>
              <p:cNvSpPr/>
              <p:nvPr/>
            </p:nvSpPr>
            <p:spPr>
              <a:xfrm>
                <a:off x="835200" y="253908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grpSp>
        <p:nvGrpSpPr>
          <p:cNvPr id="78" name="Group 2975"/>
          <p:cNvGrpSpPr/>
          <p:nvPr/>
        </p:nvGrpSpPr>
        <p:grpSpPr>
          <a:xfrm>
            <a:off x="1905120" y="2948040"/>
            <a:ext cx="1337760" cy="1274400"/>
            <a:chOff x="1905120" y="2948040"/>
            <a:chExt cx="1337760" cy="1274400"/>
          </a:xfrm>
        </p:grpSpPr>
        <p:grpSp>
          <p:nvGrpSpPr>
            <p:cNvPr id="79" name="Group 2976"/>
            <p:cNvGrpSpPr/>
            <p:nvPr/>
          </p:nvGrpSpPr>
          <p:grpSpPr>
            <a:xfrm>
              <a:off x="2478600" y="2948040"/>
              <a:ext cx="764280" cy="1274400"/>
              <a:chOff x="2478600" y="2948040"/>
              <a:chExt cx="764280" cy="1274400"/>
            </a:xfrm>
          </p:grpSpPr>
          <p:sp>
            <p:nvSpPr>
              <p:cNvPr id="80" name="Oval 2977"/>
              <p:cNvSpPr/>
              <p:nvPr/>
            </p:nvSpPr>
            <p:spPr>
              <a:xfrm>
                <a:off x="2478600" y="294804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1" name="Oval 2978"/>
              <p:cNvSpPr/>
              <p:nvPr/>
            </p:nvSpPr>
            <p:spPr>
              <a:xfrm>
                <a:off x="2733480" y="320292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2" name="Oval 2979"/>
              <p:cNvSpPr/>
              <p:nvPr/>
            </p:nvSpPr>
            <p:spPr>
              <a:xfrm>
                <a:off x="2988000" y="34578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3" name="Oval 2980"/>
              <p:cNvSpPr/>
              <p:nvPr/>
            </p:nvSpPr>
            <p:spPr>
              <a:xfrm>
                <a:off x="2733480" y="371268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4" name="Oval 2981"/>
              <p:cNvSpPr/>
              <p:nvPr/>
            </p:nvSpPr>
            <p:spPr>
              <a:xfrm>
                <a:off x="2478600" y="396792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85" name="Group 2982"/>
            <p:cNvGrpSpPr/>
            <p:nvPr/>
          </p:nvGrpSpPr>
          <p:grpSpPr>
            <a:xfrm>
              <a:off x="1905120" y="2948040"/>
              <a:ext cx="764280" cy="1274400"/>
              <a:chOff x="1905120" y="2948040"/>
              <a:chExt cx="764280" cy="1274400"/>
            </a:xfrm>
          </p:grpSpPr>
          <p:sp>
            <p:nvSpPr>
              <p:cNvPr id="86" name="Oval 2983"/>
              <p:cNvSpPr/>
              <p:nvPr/>
            </p:nvSpPr>
            <p:spPr>
              <a:xfrm>
                <a:off x="1905120" y="294804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7" name="Oval 2984"/>
              <p:cNvSpPr/>
              <p:nvPr/>
            </p:nvSpPr>
            <p:spPr>
              <a:xfrm>
                <a:off x="2160000" y="320292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8" name="Oval 2985"/>
              <p:cNvSpPr/>
              <p:nvPr/>
            </p:nvSpPr>
            <p:spPr>
              <a:xfrm>
                <a:off x="2414520" y="34578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89" name="Oval 2986"/>
              <p:cNvSpPr/>
              <p:nvPr/>
            </p:nvSpPr>
            <p:spPr>
              <a:xfrm>
                <a:off x="2160000" y="371268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90" name="Oval 2987"/>
              <p:cNvSpPr/>
              <p:nvPr/>
            </p:nvSpPr>
            <p:spPr>
              <a:xfrm>
                <a:off x="1905120" y="396792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0280" y="1197000"/>
            <a:ext cx="69879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简洁办公动态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Gulim"/>
              </a:rPr>
              <a:t>PPT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模板在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8640" y="3009960"/>
            <a:ext cx="532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 Title</a:t>
            </a:r>
            <a:r>
              <a:rPr b="1" lang="en-US" sz="2000" spc="-1" strike="noStrike">
                <a:solidFill>
                  <a:srgbClr val="98ecf2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98ecf2"/>
                </a:solidFill>
                <a:latin typeface="Verdana"/>
                <a:ea typeface="Gulim"/>
              </a:rPr>
              <a:t>March 200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lang="en-US" sz="16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9C0-DB79-4C0D-9D0A-3C528FDC5765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Object 1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386A-B690-4DE8-9BCE-CABAA3075B5B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Object 5" descr=""/>
          <p:cNvPicPr/>
          <p:nvPr/>
        </p:nvPicPr>
        <p:blipFill>
          <a:blip r:embed="rId1"/>
          <a:stretch/>
        </p:blipFill>
        <p:spPr>
          <a:xfrm>
            <a:off x="1816200" y="1679400"/>
            <a:ext cx="62402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974"/>
          <p:cNvGrpSpPr/>
          <p:nvPr/>
        </p:nvGrpSpPr>
        <p:grpSpPr>
          <a:xfrm>
            <a:off x="0" y="2882880"/>
            <a:ext cx="9144000" cy="1917720"/>
            <a:chOff x="0" y="2882880"/>
            <a:chExt cx="9144000" cy="1917720"/>
          </a:xfrm>
        </p:grpSpPr>
        <p:sp>
          <p:nvSpPr>
            <p:cNvPr id="177" name="Rectangle 2970"/>
            <p:cNvSpPr/>
            <p:nvPr/>
          </p:nvSpPr>
          <p:spPr>
            <a:xfrm>
              <a:off x="2577960" y="2882880"/>
              <a:ext cx="6566040" cy="121932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78" name="AutoShape 2971"/>
            <p:cNvSpPr/>
            <p:nvPr/>
          </p:nvSpPr>
          <p:spPr>
            <a:xfrm>
              <a:off x="0" y="2882880"/>
              <a:ext cx="4038480" cy="191772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sp>
        <p:nvSpPr>
          <p:cNvPr id="179" name="Rectangle 292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80" name="Text Box 538"/>
          <p:cNvSpPr/>
          <p:nvPr/>
        </p:nvSpPr>
        <p:spPr>
          <a:xfrm>
            <a:off x="274680" y="28908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9999ff"/>
                </a:solidFill>
                <a:uFillTx/>
                <a:latin typeface="Verdana"/>
                <a:ea typeface="Gulim"/>
              </a:rPr>
              <a:t>Company Logo</a:t>
            </a:r>
            <a:endParaRPr b="1" lang="en-US" sz="15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81" name="Group 2936"/>
          <p:cNvGrpSpPr/>
          <p:nvPr/>
        </p:nvGrpSpPr>
        <p:grpSpPr>
          <a:xfrm>
            <a:off x="835200" y="1519200"/>
            <a:ext cx="1337760" cy="1274400"/>
            <a:chOff x="835200" y="1519200"/>
            <a:chExt cx="1337760" cy="1274400"/>
          </a:xfrm>
        </p:grpSpPr>
        <p:grpSp>
          <p:nvGrpSpPr>
            <p:cNvPr id="182" name="Group 2922"/>
            <p:cNvGrpSpPr/>
            <p:nvPr/>
          </p:nvGrpSpPr>
          <p:grpSpPr>
            <a:xfrm>
              <a:off x="1408680" y="1519200"/>
              <a:ext cx="764280" cy="1274400"/>
              <a:chOff x="1408680" y="1519200"/>
              <a:chExt cx="764280" cy="1274400"/>
            </a:xfrm>
          </p:grpSpPr>
          <p:sp>
            <p:nvSpPr>
              <p:cNvPr id="183" name="Oval 2917"/>
              <p:cNvSpPr/>
              <p:nvPr/>
            </p:nvSpPr>
            <p:spPr>
              <a:xfrm>
                <a:off x="1408680" y="15192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4" name="Oval 2918"/>
              <p:cNvSpPr/>
              <p:nvPr/>
            </p:nvSpPr>
            <p:spPr>
              <a:xfrm>
                <a:off x="1663560" y="177408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5" name="Oval 2919"/>
              <p:cNvSpPr/>
              <p:nvPr/>
            </p:nvSpPr>
            <p:spPr>
              <a:xfrm>
                <a:off x="1918080" y="202896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6" name="Oval 2920"/>
              <p:cNvSpPr/>
              <p:nvPr/>
            </p:nvSpPr>
            <p:spPr>
              <a:xfrm>
                <a:off x="1663560" y="228384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87" name="Oval 2921"/>
              <p:cNvSpPr/>
              <p:nvPr/>
            </p:nvSpPr>
            <p:spPr>
              <a:xfrm>
                <a:off x="1408680" y="253908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188" name="Group 2923"/>
            <p:cNvGrpSpPr/>
            <p:nvPr/>
          </p:nvGrpSpPr>
          <p:grpSpPr>
            <a:xfrm>
              <a:off x="835200" y="1519200"/>
              <a:ext cx="764280" cy="1274400"/>
              <a:chOff x="835200" y="1519200"/>
              <a:chExt cx="764280" cy="1274400"/>
            </a:xfrm>
          </p:grpSpPr>
          <p:sp>
            <p:nvSpPr>
              <p:cNvPr id="189" name="Oval 2924"/>
              <p:cNvSpPr/>
              <p:nvPr/>
            </p:nvSpPr>
            <p:spPr>
              <a:xfrm>
                <a:off x="835200" y="15192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0" name="Oval 2925"/>
              <p:cNvSpPr/>
              <p:nvPr/>
            </p:nvSpPr>
            <p:spPr>
              <a:xfrm>
                <a:off x="1090080" y="177408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1" name="Oval 2926"/>
              <p:cNvSpPr/>
              <p:nvPr/>
            </p:nvSpPr>
            <p:spPr>
              <a:xfrm>
                <a:off x="1344600" y="202896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2" name="Oval 2927"/>
              <p:cNvSpPr/>
              <p:nvPr/>
            </p:nvSpPr>
            <p:spPr>
              <a:xfrm>
                <a:off x="1090080" y="228384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3" name="Oval 2928"/>
              <p:cNvSpPr/>
              <p:nvPr/>
            </p:nvSpPr>
            <p:spPr>
              <a:xfrm>
                <a:off x="835200" y="253908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grpSp>
        <p:nvGrpSpPr>
          <p:cNvPr id="194" name="Group 2975"/>
          <p:cNvGrpSpPr/>
          <p:nvPr/>
        </p:nvGrpSpPr>
        <p:grpSpPr>
          <a:xfrm>
            <a:off x="1905120" y="2948040"/>
            <a:ext cx="1337760" cy="1274400"/>
            <a:chOff x="1905120" y="2948040"/>
            <a:chExt cx="1337760" cy="1274400"/>
          </a:xfrm>
        </p:grpSpPr>
        <p:grpSp>
          <p:nvGrpSpPr>
            <p:cNvPr id="195" name="Group 2976"/>
            <p:cNvGrpSpPr/>
            <p:nvPr/>
          </p:nvGrpSpPr>
          <p:grpSpPr>
            <a:xfrm>
              <a:off x="2478600" y="2948040"/>
              <a:ext cx="764280" cy="1274400"/>
              <a:chOff x="2478600" y="2948040"/>
              <a:chExt cx="764280" cy="1274400"/>
            </a:xfrm>
          </p:grpSpPr>
          <p:sp>
            <p:nvSpPr>
              <p:cNvPr id="196" name="Oval 2977"/>
              <p:cNvSpPr/>
              <p:nvPr/>
            </p:nvSpPr>
            <p:spPr>
              <a:xfrm>
                <a:off x="2478600" y="294804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7" name="Oval 2978"/>
              <p:cNvSpPr/>
              <p:nvPr/>
            </p:nvSpPr>
            <p:spPr>
              <a:xfrm>
                <a:off x="2733480" y="3202920"/>
                <a:ext cx="25452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8" name="Oval 2979"/>
              <p:cNvSpPr/>
              <p:nvPr/>
            </p:nvSpPr>
            <p:spPr>
              <a:xfrm>
                <a:off x="2988000" y="3457800"/>
                <a:ext cx="25488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199" name="Oval 2980"/>
              <p:cNvSpPr/>
              <p:nvPr/>
            </p:nvSpPr>
            <p:spPr>
              <a:xfrm>
                <a:off x="2733480" y="3712680"/>
                <a:ext cx="254520" cy="25488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0" name="Oval 2981"/>
              <p:cNvSpPr/>
              <p:nvPr/>
            </p:nvSpPr>
            <p:spPr>
              <a:xfrm>
                <a:off x="2478600" y="3967920"/>
                <a:ext cx="254880" cy="254520"/>
              </a:xfrm>
              <a:prstGeom prst="ellipse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  <p:grpSp>
          <p:nvGrpSpPr>
            <p:cNvPr id="201" name="Group 2982"/>
            <p:cNvGrpSpPr/>
            <p:nvPr/>
          </p:nvGrpSpPr>
          <p:grpSpPr>
            <a:xfrm>
              <a:off x="1905120" y="2948040"/>
              <a:ext cx="764280" cy="1274400"/>
              <a:chOff x="1905120" y="2948040"/>
              <a:chExt cx="764280" cy="1274400"/>
            </a:xfrm>
          </p:grpSpPr>
          <p:sp>
            <p:nvSpPr>
              <p:cNvPr id="202" name="Oval 2983"/>
              <p:cNvSpPr/>
              <p:nvPr/>
            </p:nvSpPr>
            <p:spPr>
              <a:xfrm>
                <a:off x="1905120" y="294804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3" name="Oval 2984"/>
              <p:cNvSpPr/>
              <p:nvPr/>
            </p:nvSpPr>
            <p:spPr>
              <a:xfrm>
                <a:off x="2160000" y="3202920"/>
                <a:ext cx="25452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4" name="Oval 2985"/>
              <p:cNvSpPr/>
              <p:nvPr/>
            </p:nvSpPr>
            <p:spPr>
              <a:xfrm>
                <a:off x="2414520" y="3457800"/>
                <a:ext cx="25488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5" name="Oval 2986"/>
              <p:cNvSpPr/>
              <p:nvPr/>
            </p:nvSpPr>
            <p:spPr>
              <a:xfrm>
                <a:off x="2160000" y="3712680"/>
                <a:ext cx="254520" cy="25488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  <p:sp>
            <p:nvSpPr>
              <p:cNvPr id="206" name="Oval 2987"/>
              <p:cNvSpPr/>
              <p:nvPr/>
            </p:nvSpPr>
            <p:spPr>
              <a:xfrm>
                <a:off x="1905120" y="3967920"/>
                <a:ext cx="254880" cy="254520"/>
              </a:xfrm>
              <a:prstGeom prst="ellipse">
                <a:avLst/>
              </a:prstGeom>
              <a:solidFill>
                <a:srgbClr val="98ec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 u="sng">
                  <a:solidFill>
                    <a:srgbClr val="98ecf2"/>
                  </a:solidFill>
                  <a:uFillTx/>
                  <a:latin typeface="Lucida Sans Unicode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53920" y="2160720"/>
            <a:ext cx="507996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Gulim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896-AA1A-4051-A59F-F53C0A8EE85F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2767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2b2b2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1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360" y="304560"/>
            <a:ext cx="6462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3276720" y="252252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2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32767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3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276720" y="418788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4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3276720" y="50259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nt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itle 5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1" name="Oval 46"/>
          <p:cNvSpPr/>
          <p:nvPr/>
        </p:nvSpPr>
        <p:spPr>
          <a:xfrm>
            <a:off x="2346480" y="166356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1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2" name="Oval 48"/>
          <p:cNvSpPr/>
          <p:nvPr/>
        </p:nvSpPr>
        <p:spPr>
          <a:xfrm>
            <a:off x="2346480" y="250128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2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3" name="Oval 49"/>
          <p:cNvSpPr/>
          <p:nvPr/>
        </p:nvSpPr>
        <p:spPr>
          <a:xfrm>
            <a:off x="2346480" y="331452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3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4" name="Oval 50"/>
          <p:cNvSpPr/>
          <p:nvPr/>
        </p:nvSpPr>
        <p:spPr>
          <a:xfrm>
            <a:off x="2346480" y="416484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4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5" name="Oval 51"/>
          <p:cNvSpPr/>
          <p:nvPr/>
        </p:nvSpPr>
        <p:spPr>
          <a:xfrm>
            <a:off x="2346480" y="5041080"/>
            <a:ext cx="688680" cy="606240"/>
          </a:xfrm>
          <a:prstGeom prst="ellipse">
            <a:avLst/>
          </a:prstGeom>
          <a:solidFill>
            <a:srgbClr val="98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5 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D3D-7CB1-4FA7-8201-BBBF8EC522EF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Tex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02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150000"/>
              <a:buFont typeface="Verdana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3B6F-128F-4EA8-B45D-660A426775DB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16" name="Oval 17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50760">
            <a:solidFill>
              <a:srgbClr val="b2b2b2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pSp>
        <p:nvGrpSpPr>
          <p:cNvPr id="117" name="Group 41"/>
          <p:cNvGrpSpPr/>
          <p:nvPr/>
        </p:nvGrpSpPr>
        <p:grpSpPr>
          <a:xfrm>
            <a:off x="3767040" y="1905120"/>
            <a:ext cx="1447920" cy="1447560"/>
            <a:chOff x="3767040" y="1905120"/>
            <a:chExt cx="1447920" cy="1447560"/>
          </a:xfrm>
        </p:grpSpPr>
        <p:sp>
          <p:nvSpPr>
            <p:cNvPr id="118" name="Oval 18"/>
            <p:cNvSpPr/>
            <p:nvPr/>
          </p:nvSpPr>
          <p:spPr>
            <a:xfrm>
              <a:off x="3767040" y="1905120"/>
              <a:ext cx="1447920" cy="1447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19" name="Text Box 21"/>
            <p:cNvSpPr/>
            <p:nvPr/>
          </p:nvSpPr>
          <p:spPr>
            <a:xfrm>
              <a:off x="3942720" y="237636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1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2719440" y="3481560"/>
            <a:ext cx="1447920" cy="1447560"/>
            <a:chOff x="2719440" y="3481560"/>
            <a:chExt cx="1447920" cy="1447560"/>
          </a:xfrm>
        </p:grpSpPr>
        <p:sp>
          <p:nvSpPr>
            <p:cNvPr id="121" name="Oval 38"/>
            <p:cNvSpPr/>
            <p:nvPr/>
          </p:nvSpPr>
          <p:spPr>
            <a:xfrm>
              <a:off x="2719440" y="3481560"/>
              <a:ext cx="1447920" cy="1447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2895120" y="395280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2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  <p:grpSp>
        <p:nvGrpSpPr>
          <p:cNvPr id="123" name="Group 42"/>
          <p:cNvGrpSpPr/>
          <p:nvPr/>
        </p:nvGrpSpPr>
        <p:grpSpPr>
          <a:xfrm>
            <a:off x="4948200" y="3505320"/>
            <a:ext cx="1447920" cy="1447560"/>
            <a:chOff x="4948200" y="3505320"/>
            <a:chExt cx="1447920" cy="1447560"/>
          </a:xfrm>
        </p:grpSpPr>
        <p:sp>
          <p:nvSpPr>
            <p:cNvPr id="124" name="Oval 43"/>
            <p:cNvSpPr/>
            <p:nvPr/>
          </p:nvSpPr>
          <p:spPr>
            <a:xfrm>
              <a:off x="4948200" y="3505320"/>
              <a:ext cx="1447920" cy="1447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  <p:sp>
          <p:nvSpPr>
            <p:cNvPr id="125" name="Text Box 44"/>
            <p:cNvSpPr/>
            <p:nvPr/>
          </p:nvSpPr>
          <p:spPr>
            <a:xfrm>
              <a:off x="5123880" y="3976560"/>
              <a:ext cx="111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Diagram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  <a:ea typeface="Gulim"/>
                </a:rPr>
                <a:t>3</a:t>
              </a:r>
              <a:endParaRPr b="1" lang="en-US" sz="1800" spc="-1" strike="noStrike" u="sng">
                <a:solidFill>
                  <a:srgbClr val="98ecf2"/>
                </a:solidFill>
                <a:uFillTx/>
                <a:latin typeface="Lucida Sans Unicod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2B4-6820-4E86-918C-32D048BD76D4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27" name="Oval 2"/>
          <p:cNvSpPr/>
          <p:nvPr/>
        </p:nvSpPr>
        <p:spPr>
          <a:xfrm>
            <a:off x="2629080" y="1981080"/>
            <a:ext cx="4400280" cy="2122560"/>
          </a:xfrm>
          <a:prstGeom prst="ellipse">
            <a:avLst/>
          </a:prstGeom>
          <a:noFill/>
          <a:ln w="12600">
            <a:solidFill>
              <a:srgbClr val="98ecf2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581280" y="272736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lick to edit sub 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endParaRPr b="1" lang="en-US" sz="1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3" name="AutoShape 17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5" name="AutoShape 19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63D-A69B-467A-B4FA-5451FB04D875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447840" y="1600200"/>
            <a:ext cx="25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1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39" name="AutoShape 41"/>
          <p:cNvSpPr/>
          <p:nvPr/>
        </p:nvSpPr>
        <p:spPr>
          <a:xfrm>
            <a:off x="447840" y="1981080"/>
            <a:ext cx="25952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327168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2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6091200" y="160020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Diagram 3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2" name="AutoShape 47"/>
          <p:cNvSpPr/>
          <p:nvPr/>
        </p:nvSpPr>
        <p:spPr>
          <a:xfrm>
            <a:off x="6091200" y="1981080"/>
            <a:ext cx="25956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762120" y="434340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8ecf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mpetitors 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3279600" y="1981080"/>
            <a:ext cx="259560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-374760" y="6308640"/>
            <a:ext cx="649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1"/>
              </a:rPr>
              <a:t>金融</a:t>
            </a: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800" spc="-1" strike="noStrike" u="sng">
                <a:solidFill>
                  <a:srgbClr val="003399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/moban/jinrong/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04A6-F79D-4CC4-9DEA-326954EEA61E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234"/>
          <p:cNvSpPr/>
          <p:nvPr/>
        </p:nvSpPr>
        <p:spPr>
          <a:xfrm>
            <a:off x="1066680" y="13096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23846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hart</a:t>
            </a: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60360" y="2000160"/>
          <a:ext cx="7004160" cy="3697200"/>
        </p:xfrm>
        <a:graphic>
          <a:graphicData uri="http://schemas.openxmlformats.org/drawingml/2006/table">
            <a:tbl>
              <a:tblPr/>
              <a:tblGrid>
                <a:gridCol w="1168560"/>
                <a:gridCol w="1166760"/>
                <a:gridCol w="1166760"/>
                <a:gridCol w="1166760"/>
                <a:gridCol w="1168560"/>
                <a:gridCol w="1166760"/>
              </a:tblGrid>
              <a:tr h="61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A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B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C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D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E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62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1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2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3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4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Gulim"/>
                        </a:rPr>
                        <a:t>5</a:t>
                      </a:r>
                      <a:endParaRPr b="1" lang="en-US" sz="24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8ecf2"/>
                        </a:gs>
                        <a:gs pos="50000">
                          <a:srgbClr val="ffffff"/>
                        </a:gs>
                        <a:gs pos="100000">
                          <a:srgbClr val="98ec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 u="sng">
                        <a:solidFill>
                          <a:srgbClr val="98ecf2"/>
                        </a:solidFill>
                        <a:uFillTx/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76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556D-4E8F-45EA-9615-F55AAA0B7566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24224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4" name="Text Box 73"/>
          <p:cNvSpPr/>
          <p:nvPr/>
        </p:nvSpPr>
        <p:spPr>
          <a:xfrm>
            <a:off x="4495680" y="1714680"/>
            <a:ext cx="434340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Competitors </a:t>
            </a:r>
            <a:endParaRPr b="1" lang="en-US" sz="25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 may want to allocate one slide per competitor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9999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Strengths </a:t>
            </a:r>
            <a:endParaRPr b="1" lang="en-US" sz="25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Your strengths relative to competitors</a:t>
            </a: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5" name="Text Box 75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6" name="AutoShape 76"/>
          <p:cNvSpPr/>
          <p:nvPr/>
        </p:nvSpPr>
        <p:spPr>
          <a:xfrm>
            <a:off x="533520" y="181440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7" name="Text Box 77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91440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lang="en-US" sz="16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3"/>
          <p:cNvSpPr/>
          <p:nvPr/>
        </p:nvSpPr>
        <p:spPr>
          <a:xfrm>
            <a:off x="8120160" y="6426360"/>
            <a:ext cx="87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9CD5-EA0E-4F19-9DAE-8DAB911DCE3F}" type="slidenum">
              <a:rPr b="1" lang="zh-CN" sz="2000" spc="-1" strike="noStrike" u="sng">
                <a:solidFill>
                  <a:srgbClr val="98ecf2"/>
                </a:solidFill>
                <a:uFillTx/>
                <a:latin typeface="Lucida Sans Unicode"/>
                <a:ea typeface="Gulim"/>
              </a:rPr>
              <a:t>&lt;number&gt;</a:t>
            </a:fld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69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3" name="AutoShape 71"/>
          <p:cNvSpPr/>
          <p:nvPr/>
        </p:nvSpPr>
        <p:spPr>
          <a:xfrm>
            <a:off x="4898880" y="1814400"/>
            <a:ext cx="3581640" cy="4191120"/>
          </a:xfrm>
          <a:custGeom>
            <a:avLst/>
            <a:gdLst>
              <a:gd name="textAreaLeft" fmla="*/ 174600 w 3581640"/>
              <a:gd name="textAreaRight" fmla="*/ 3407040 w 358164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5">
                <a:moveTo>
                  <a:pt x="3600" y="0"/>
                </a:moveTo>
                <a:arcTo wR="3600" hR="3600" stAng="16200000" swAng="-5400000"/>
                <a:lnTo>
                  <a:pt x="0" y="21675"/>
                </a:lnTo>
                <a:arcTo wR="3600" hR="3600" stAng="10800000" swAng="-5400000"/>
                <a:lnTo>
                  <a:pt x="18000" y="252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4" name="AutoShape 72"/>
          <p:cNvSpPr/>
          <p:nvPr/>
        </p:nvSpPr>
        <p:spPr>
          <a:xfrm>
            <a:off x="533520" y="1814400"/>
            <a:ext cx="3581280" cy="419112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5278">
                <a:moveTo>
                  <a:pt x="3600" y="0"/>
                </a:moveTo>
                <a:arcTo wR="3600" hR="3600" stAng="16200000" swAng="-5400000"/>
                <a:lnTo>
                  <a:pt x="0" y="21678"/>
                </a:lnTo>
                <a:arcTo wR="3600" hR="3600" stAng="10800000" swAng="-5400000"/>
                <a:lnTo>
                  <a:pt x="18000" y="25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8ecf2"/>
              </a:gs>
            </a:gsLst>
            <a:lin ang="5400000"/>
          </a:gradFill>
          <a:ln w="25560">
            <a:solidFill>
              <a:srgbClr val="b2b2b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1143000" y="1411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91440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5689440" y="14223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  <a:ea typeface="Gulim"/>
              </a:rPr>
              <a:t>Diagram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8" name="Text Box 76"/>
          <p:cNvSpPr/>
          <p:nvPr/>
        </p:nvSpPr>
        <p:spPr>
          <a:xfrm>
            <a:off x="5318280" y="250020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Gulim"/>
              </a:rPr>
              <a:t>text</a:t>
            </a: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  <p:sp>
        <p:nvSpPr>
          <p:cNvPr id="169" name="AutoShape 77"/>
          <p:cNvSpPr/>
          <p:nvPr/>
        </p:nvSpPr>
        <p:spPr>
          <a:xfrm rot="16200000">
            <a:off x="4187880" y="379260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98ecf2"/>
              </a:solidFill>
              <a:uFillTx/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03:41:00Z</dcterms:created>
  <dc:creator>Administrator</dc:creator>
  <dc:description/>
  <cp:keywords/>
  <dc:language>en-US</dc:language>
  <cp:lastModifiedBy>王玉清</cp:lastModifiedBy>
  <dcterms:modified xsi:type="dcterms:W3CDTF">2016-02-19T07:07:31Z</dcterms:modified>
  <cp:revision>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